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83000"/>
            <a:ext cx="5029200" cy="38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281240" y="809280"/>
            <a:ext cx="4295520" cy="32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Click to move the slide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sldImg"/>
          </p:nvPr>
        </p:nvSpPr>
        <p:spPr>
          <a:xfrm>
            <a:off x="1281240" y="809640"/>
            <a:ext cx="4295520" cy="3220920"/>
          </a:xfrm>
          <a:prstGeom prst="rect">
            <a:avLst/>
          </a:prstGeom>
          <a:ln w="0">
            <a:noFill/>
          </a:ln>
        </p:spPr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914400" y="4383000"/>
            <a:ext cx="5029200" cy="38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1. For years, people involved pelagic fisheries have known that billfish in many areas were far more abundant than they a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photo shows Hemingways’ deckhand with an average day’s catch off Peru in 195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le many people may be aware, there is no systematic description at a global sc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and no coherent explanation of the pattern i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ncentrate on my approach to explaining the rapid declines in billfish catch 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set the scene with a look at biology and data.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281240" y="809640"/>
            <a:ext cx="4295520" cy="322092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83000"/>
            <a:ext cx="5029200" cy="388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1. For years, people involved pelagic fisheries have known that billfish in many areas were far more abundant than they are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photo shows Hemingways’ deckhand with an average day’s catch off Peru in 195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while many people may be aware, there is no systematic description at a global sc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and no coherent explanation of the pattern i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ncentrate on my approach to explaining the rapid declines in billfish catch r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set the scene with a look at biology and data.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867280" y="5678640"/>
            <a:ext cx="3276720" cy="11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3" marL="1600200" indent="-228600">
              <a:spcBef>
                <a:spcPts val="499"/>
              </a:spcBef>
              <a:buClr>
                <a:srgbClr val="fafd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5" marL="2057400" indent="-2286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6" marL="2057400" indent="-2286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7880" y="228564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7543800" y="1290600"/>
            <a:ext cx="16687800" cy="5567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91720" cy="26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fafd00"/>
                </a:solidFill>
                <a:latin typeface="Palatino"/>
                <a:ea typeface="Times New Roman"/>
              </a:rPr>
              <a:t>Historical and recent estimates of the body-size and abundance</a:t>
            </a:r>
            <a:br>
              <a:rPr sz="3800"/>
            </a:br>
            <a:r>
              <a:rPr b="1" lang="en-AU" sz="3800" spc="-1" strike="noStrike">
                <a:solidFill>
                  <a:srgbClr val="fafd00"/>
                </a:solidFill>
                <a:latin typeface="Palatino"/>
                <a:ea typeface="Times New Roman"/>
              </a:rPr>
              <a:t>of pelagic species taken</a:t>
            </a:r>
            <a:br>
              <a:rPr sz="3800"/>
            </a:br>
            <a:r>
              <a:rPr b="1" lang="en-AU" sz="3800" spc="-1" strike="noStrike">
                <a:solidFill>
                  <a:srgbClr val="fafd00"/>
                </a:solidFill>
                <a:latin typeface="Palatino"/>
                <a:ea typeface="Times New Roman"/>
              </a:rPr>
              <a:t>by longline</a:t>
            </a:r>
            <a:endParaRPr b="0" lang="en-US" sz="38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952520" y="4800240"/>
            <a:ext cx="403884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Palatino"/>
              </a:rPr>
              <a:t>Peter Ward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RAM Myers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afd00"/>
                </a:solidFill>
                <a:latin typeface="Palatino"/>
              </a:rPr>
              <a:t>Dalhousie University</a:t>
            </a:r>
            <a:endParaRPr b="0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6237360"/>
            <a:ext cx="288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cecece"/>
                </a:solidFill>
                <a:latin typeface="Palatino"/>
              </a:rPr>
              <a:t>EB WP-7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-762120" y="-914400"/>
            <a:ext cx="19423080" cy="251395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32640" y="19819800"/>
            <a:ext cx="145008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Depth (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149480" y="13925520"/>
            <a:ext cx="7111800" cy="483228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403280" y="18770760"/>
            <a:ext cx="180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72412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04496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6580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68664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00748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403280" y="18770760"/>
            <a:ext cx="660420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320840" y="19141920"/>
            <a:ext cx="17136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547000" y="19141920"/>
            <a:ext cx="34200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774600" y="19141920"/>
            <a:ext cx="512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095080" y="19141920"/>
            <a:ext cx="512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415920" y="19141920"/>
            <a:ext cx="512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736760" y="19141920"/>
            <a:ext cx="512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75120" y="14420880"/>
            <a:ext cx="27698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Thermocline dep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20760" y="17378280"/>
            <a:ext cx="6369120" cy="1211400"/>
          </a:xfrm>
          <a:custGeom>
            <a:avLst/>
            <a:gdLst/>
            <a:ahLst/>
            <a:rect l="l" t="t" r="r" b="b"/>
            <a:pathLst>
              <a:path w="4012" h="763">
                <a:moveTo>
                  <a:pt x="0" y="763"/>
                </a:moveTo>
                <a:lnTo>
                  <a:pt x="22" y="763"/>
                </a:lnTo>
                <a:lnTo>
                  <a:pt x="41" y="763"/>
                </a:lnTo>
                <a:lnTo>
                  <a:pt x="60" y="763"/>
                </a:lnTo>
                <a:lnTo>
                  <a:pt x="82" y="763"/>
                </a:lnTo>
                <a:lnTo>
                  <a:pt x="101" y="763"/>
                </a:lnTo>
                <a:lnTo>
                  <a:pt x="120" y="763"/>
                </a:lnTo>
                <a:lnTo>
                  <a:pt x="142" y="763"/>
                </a:lnTo>
                <a:lnTo>
                  <a:pt x="161" y="763"/>
                </a:lnTo>
                <a:lnTo>
                  <a:pt x="184" y="763"/>
                </a:lnTo>
                <a:lnTo>
                  <a:pt x="203" y="763"/>
                </a:lnTo>
                <a:lnTo>
                  <a:pt x="222" y="760"/>
                </a:lnTo>
                <a:lnTo>
                  <a:pt x="244" y="760"/>
                </a:lnTo>
                <a:lnTo>
                  <a:pt x="263" y="760"/>
                </a:lnTo>
                <a:lnTo>
                  <a:pt x="282" y="760"/>
                </a:lnTo>
                <a:lnTo>
                  <a:pt x="304" y="760"/>
                </a:lnTo>
                <a:lnTo>
                  <a:pt x="323" y="757"/>
                </a:lnTo>
                <a:lnTo>
                  <a:pt x="342" y="757"/>
                </a:lnTo>
                <a:lnTo>
                  <a:pt x="364" y="757"/>
                </a:lnTo>
                <a:lnTo>
                  <a:pt x="383" y="753"/>
                </a:lnTo>
                <a:lnTo>
                  <a:pt x="405" y="753"/>
                </a:lnTo>
                <a:lnTo>
                  <a:pt x="424" y="750"/>
                </a:lnTo>
                <a:lnTo>
                  <a:pt x="443" y="750"/>
                </a:lnTo>
                <a:lnTo>
                  <a:pt x="465" y="747"/>
                </a:lnTo>
                <a:lnTo>
                  <a:pt x="484" y="747"/>
                </a:lnTo>
                <a:lnTo>
                  <a:pt x="503" y="744"/>
                </a:lnTo>
                <a:lnTo>
                  <a:pt x="525" y="741"/>
                </a:lnTo>
                <a:lnTo>
                  <a:pt x="544" y="738"/>
                </a:lnTo>
                <a:lnTo>
                  <a:pt x="566" y="734"/>
                </a:lnTo>
                <a:lnTo>
                  <a:pt x="585" y="731"/>
                </a:lnTo>
                <a:lnTo>
                  <a:pt x="604" y="728"/>
                </a:lnTo>
                <a:lnTo>
                  <a:pt x="627" y="725"/>
                </a:lnTo>
                <a:lnTo>
                  <a:pt x="646" y="722"/>
                </a:lnTo>
                <a:lnTo>
                  <a:pt x="665" y="719"/>
                </a:lnTo>
                <a:lnTo>
                  <a:pt x="687" y="715"/>
                </a:lnTo>
                <a:lnTo>
                  <a:pt x="706" y="709"/>
                </a:lnTo>
                <a:lnTo>
                  <a:pt x="728" y="706"/>
                </a:lnTo>
                <a:lnTo>
                  <a:pt x="747" y="700"/>
                </a:lnTo>
                <a:lnTo>
                  <a:pt x="766" y="693"/>
                </a:lnTo>
                <a:lnTo>
                  <a:pt x="788" y="687"/>
                </a:lnTo>
                <a:lnTo>
                  <a:pt x="807" y="681"/>
                </a:lnTo>
                <a:lnTo>
                  <a:pt x="826" y="674"/>
                </a:lnTo>
                <a:lnTo>
                  <a:pt x="848" y="665"/>
                </a:lnTo>
                <a:lnTo>
                  <a:pt x="867" y="659"/>
                </a:lnTo>
                <a:lnTo>
                  <a:pt x="886" y="649"/>
                </a:lnTo>
                <a:lnTo>
                  <a:pt x="908" y="643"/>
                </a:lnTo>
                <a:lnTo>
                  <a:pt x="927" y="633"/>
                </a:lnTo>
                <a:lnTo>
                  <a:pt x="949" y="624"/>
                </a:lnTo>
                <a:lnTo>
                  <a:pt x="968" y="614"/>
                </a:lnTo>
                <a:lnTo>
                  <a:pt x="987" y="605"/>
                </a:lnTo>
                <a:lnTo>
                  <a:pt x="1009" y="598"/>
                </a:lnTo>
                <a:lnTo>
                  <a:pt x="1028" y="589"/>
                </a:lnTo>
                <a:lnTo>
                  <a:pt x="1047" y="579"/>
                </a:lnTo>
                <a:lnTo>
                  <a:pt x="1070" y="570"/>
                </a:lnTo>
                <a:lnTo>
                  <a:pt x="1089" y="560"/>
                </a:lnTo>
                <a:lnTo>
                  <a:pt x="1111" y="551"/>
                </a:lnTo>
                <a:lnTo>
                  <a:pt x="1130" y="541"/>
                </a:lnTo>
                <a:lnTo>
                  <a:pt x="1149" y="532"/>
                </a:lnTo>
                <a:lnTo>
                  <a:pt x="1171" y="522"/>
                </a:lnTo>
                <a:lnTo>
                  <a:pt x="1190" y="513"/>
                </a:lnTo>
                <a:lnTo>
                  <a:pt x="1209" y="507"/>
                </a:lnTo>
                <a:lnTo>
                  <a:pt x="1231" y="497"/>
                </a:lnTo>
                <a:lnTo>
                  <a:pt x="1250" y="488"/>
                </a:lnTo>
                <a:lnTo>
                  <a:pt x="1272" y="481"/>
                </a:lnTo>
                <a:lnTo>
                  <a:pt x="1291" y="472"/>
                </a:lnTo>
                <a:lnTo>
                  <a:pt x="1310" y="466"/>
                </a:lnTo>
                <a:lnTo>
                  <a:pt x="1332" y="459"/>
                </a:lnTo>
                <a:lnTo>
                  <a:pt x="1351" y="453"/>
                </a:lnTo>
                <a:lnTo>
                  <a:pt x="1370" y="450"/>
                </a:lnTo>
                <a:lnTo>
                  <a:pt x="1392" y="443"/>
                </a:lnTo>
                <a:lnTo>
                  <a:pt x="1411" y="437"/>
                </a:lnTo>
                <a:lnTo>
                  <a:pt x="1433" y="431"/>
                </a:lnTo>
                <a:lnTo>
                  <a:pt x="1452" y="428"/>
                </a:lnTo>
                <a:lnTo>
                  <a:pt x="1471" y="421"/>
                </a:lnTo>
                <a:lnTo>
                  <a:pt x="1493" y="412"/>
                </a:lnTo>
                <a:lnTo>
                  <a:pt x="1512" y="405"/>
                </a:lnTo>
                <a:lnTo>
                  <a:pt x="1531" y="393"/>
                </a:lnTo>
                <a:lnTo>
                  <a:pt x="1554" y="383"/>
                </a:lnTo>
                <a:lnTo>
                  <a:pt x="1573" y="367"/>
                </a:lnTo>
                <a:lnTo>
                  <a:pt x="1592" y="348"/>
                </a:lnTo>
                <a:lnTo>
                  <a:pt x="1614" y="329"/>
                </a:lnTo>
                <a:lnTo>
                  <a:pt x="1633" y="307"/>
                </a:lnTo>
                <a:lnTo>
                  <a:pt x="1655" y="282"/>
                </a:lnTo>
                <a:lnTo>
                  <a:pt x="1674" y="257"/>
                </a:lnTo>
                <a:lnTo>
                  <a:pt x="1693" y="228"/>
                </a:lnTo>
                <a:lnTo>
                  <a:pt x="1715" y="197"/>
                </a:lnTo>
                <a:lnTo>
                  <a:pt x="1734" y="168"/>
                </a:lnTo>
                <a:lnTo>
                  <a:pt x="1753" y="140"/>
                </a:lnTo>
                <a:lnTo>
                  <a:pt x="1775" y="111"/>
                </a:lnTo>
                <a:lnTo>
                  <a:pt x="1794" y="83"/>
                </a:lnTo>
                <a:lnTo>
                  <a:pt x="1816" y="61"/>
                </a:lnTo>
                <a:lnTo>
                  <a:pt x="1835" y="38"/>
                </a:lnTo>
                <a:lnTo>
                  <a:pt x="1854" y="23"/>
                </a:lnTo>
                <a:lnTo>
                  <a:pt x="1876" y="10"/>
                </a:lnTo>
                <a:lnTo>
                  <a:pt x="1895" y="4"/>
                </a:lnTo>
                <a:lnTo>
                  <a:pt x="1914" y="0"/>
                </a:lnTo>
                <a:lnTo>
                  <a:pt x="1936" y="0"/>
                </a:lnTo>
                <a:lnTo>
                  <a:pt x="1955" y="7"/>
                </a:lnTo>
                <a:lnTo>
                  <a:pt x="1978" y="19"/>
                </a:lnTo>
                <a:lnTo>
                  <a:pt x="1997" y="32"/>
                </a:lnTo>
                <a:lnTo>
                  <a:pt x="2016" y="51"/>
                </a:lnTo>
                <a:lnTo>
                  <a:pt x="2038" y="73"/>
                </a:lnTo>
                <a:lnTo>
                  <a:pt x="2057" y="95"/>
                </a:lnTo>
                <a:lnTo>
                  <a:pt x="2076" y="124"/>
                </a:lnTo>
                <a:lnTo>
                  <a:pt x="2098" y="152"/>
                </a:lnTo>
                <a:lnTo>
                  <a:pt x="2117" y="181"/>
                </a:lnTo>
                <a:lnTo>
                  <a:pt x="2136" y="212"/>
                </a:lnTo>
                <a:lnTo>
                  <a:pt x="2158" y="244"/>
                </a:lnTo>
                <a:lnTo>
                  <a:pt x="2177" y="273"/>
                </a:lnTo>
                <a:lnTo>
                  <a:pt x="2199" y="304"/>
                </a:lnTo>
                <a:lnTo>
                  <a:pt x="2218" y="336"/>
                </a:lnTo>
                <a:lnTo>
                  <a:pt x="2237" y="364"/>
                </a:lnTo>
                <a:lnTo>
                  <a:pt x="2259" y="390"/>
                </a:lnTo>
                <a:lnTo>
                  <a:pt x="2278" y="418"/>
                </a:lnTo>
                <a:lnTo>
                  <a:pt x="2297" y="440"/>
                </a:lnTo>
                <a:lnTo>
                  <a:pt x="2319" y="462"/>
                </a:lnTo>
                <a:lnTo>
                  <a:pt x="2338" y="485"/>
                </a:lnTo>
                <a:lnTo>
                  <a:pt x="2360" y="504"/>
                </a:lnTo>
                <a:lnTo>
                  <a:pt x="2379" y="519"/>
                </a:lnTo>
                <a:lnTo>
                  <a:pt x="2398" y="535"/>
                </a:lnTo>
                <a:lnTo>
                  <a:pt x="2421" y="548"/>
                </a:lnTo>
                <a:lnTo>
                  <a:pt x="2440" y="560"/>
                </a:lnTo>
                <a:lnTo>
                  <a:pt x="2458" y="570"/>
                </a:lnTo>
                <a:lnTo>
                  <a:pt x="2481" y="583"/>
                </a:lnTo>
                <a:lnTo>
                  <a:pt x="2500" y="592"/>
                </a:lnTo>
                <a:lnTo>
                  <a:pt x="2522" y="602"/>
                </a:lnTo>
                <a:lnTo>
                  <a:pt x="2541" y="611"/>
                </a:lnTo>
                <a:lnTo>
                  <a:pt x="2560" y="617"/>
                </a:lnTo>
                <a:lnTo>
                  <a:pt x="2582" y="627"/>
                </a:lnTo>
                <a:lnTo>
                  <a:pt x="2601" y="636"/>
                </a:lnTo>
                <a:lnTo>
                  <a:pt x="2620" y="643"/>
                </a:lnTo>
                <a:lnTo>
                  <a:pt x="2642" y="652"/>
                </a:lnTo>
                <a:lnTo>
                  <a:pt x="2661" y="662"/>
                </a:lnTo>
                <a:lnTo>
                  <a:pt x="2683" y="668"/>
                </a:lnTo>
                <a:lnTo>
                  <a:pt x="2702" y="678"/>
                </a:lnTo>
                <a:lnTo>
                  <a:pt x="2721" y="684"/>
                </a:lnTo>
                <a:lnTo>
                  <a:pt x="2743" y="693"/>
                </a:lnTo>
                <a:lnTo>
                  <a:pt x="2762" y="700"/>
                </a:lnTo>
                <a:lnTo>
                  <a:pt x="2781" y="706"/>
                </a:lnTo>
                <a:lnTo>
                  <a:pt x="2803" y="712"/>
                </a:lnTo>
                <a:lnTo>
                  <a:pt x="2822" y="719"/>
                </a:lnTo>
                <a:lnTo>
                  <a:pt x="2841" y="722"/>
                </a:lnTo>
                <a:lnTo>
                  <a:pt x="2863" y="728"/>
                </a:lnTo>
                <a:lnTo>
                  <a:pt x="2882" y="731"/>
                </a:lnTo>
                <a:lnTo>
                  <a:pt x="2905" y="734"/>
                </a:lnTo>
                <a:lnTo>
                  <a:pt x="2924" y="738"/>
                </a:lnTo>
                <a:lnTo>
                  <a:pt x="2943" y="738"/>
                </a:lnTo>
                <a:lnTo>
                  <a:pt x="2965" y="741"/>
                </a:lnTo>
                <a:lnTo>
                  <a:pt x="2984" y="741"/>
                </a:lnTo>
                <a:lnTo>
                  <a:pt x="3003" y="744"/>
                </a:lnTo>
                <a:lnTo>
                  <a:pt x="3025" y="744"/>
                </a:lnTo>
                <a:lnTo>
                  <a:pt x="3044" y="744"/>
                </a:lnTo>
                <a:lnTo>
                  <a:pt x="3066" y="744"/>
                </a:lnTo>
                <a:lnTo>
                  <a:pt x="3085" y="744"/>
                </a:lnTo>
                <a:lnTo>
                  <a:pt x="3104" y="744"/>
                </a:lnTo>
                <a:lnTo>
                  <a:pt x="3126" y="744"/>
                </a:lnTo>
                <a:lnTo>
                  <a:pt x="3145" y="744"/>
                </a:lnTo>
                <a:lnTo>
                  <a:pt x="3164" y="744"/>
                </a:lnTo>
                <a:lnTo>
                  <a:pt x="3186" y="744"/>
                </a:lnTo>
                <a:lnTo>
                  <a:pt x="3205" y="744"/>
                </a:lnTo>
                <a:lnTo>
                  <a:pt x="3227" y="744"/>
                </a:lnTo>
                <a:lnTo>
                  <a:pt x="3246" y="744"/>
                </a:lnTo>
                <a:lnTo>
                  <a:pt x="3265" y="744"/>
                </a:lnTo>
                <a:lnTo>
                  <a:pt x="3287" y="744"/>
                </a:lnTo>
                <a:lnTo>
                  <a:pt x="3306" y="744"/>
                </a:lnTo>
                <a:lnTo>
                  <a:pt x="3325" y="744"/>
                </a:lnTo>
                <a:lnTo>
                  <a:pt x="3348" y="747"/>
                </a:lnTo>
                <a:lnTo>
                  <a:pt x="3367" y="747"/>
                </a:lnTo>
                <a:lnTo>
                  <a:pt x="3386" y="747"/>
                </a:lnTo>
                <a:lnTo>
                  <a:pt x="3408" y="747"/>
                </a:lnTo>
                <a:lnTo>
                  <a:pt x="3427" y="747"/>
                </a:lnTo>
                <a:lnTo>
                  <a:pt x="3449" y="747"/>
                </a:lnTo>
                <a:lnTo>
                  <a:pt x="3468" y="747"/>
                </a:lnTo>
                <a:lnTo>
                  <a:pt x="3487" y="750"/>
                </a:lnTo>
                <a:lnTo>
                  <a:pt x="3509" y="750"/>
                </a:lnTo>
                <a:lnTo>
                  <a:pt x="3528" y="750"/>
                </a:lnTo>
                <a:lnTo>
                  <a:pt x="3547" y="750"/>
                </a:lnTo>
                <a:lnTo>
                  <a:pt x="3569" y="753"/>
                </a:lnTo>
                <a:lnTo>
                  <a:pt x="3588" y="753"/>
                </a:lnTo>
                <a:lnTo>
                  <a:pt x="3610" y="753"/>
                </a:lnTo>
                <a:lnTo>
                  <a:pt x="3629" y="753"/>
                </a:lnTo>
                <a:lnTo>
                  <a:pt x="3648" y="757"/>
                </a:lnTo>
                <a:lnTo>
                  <a:pt x="3670" y="757"/>
                </a:lnTo>
                <a:lnTo>
                  <a:pt x="3689" y="757"/>
                </a:lnTo>
                <a:lnTo>
                  <a:pt x="3708" y="760"/>
                </a:lnTo>
                <a:lnTo>
                  <a:pt x="3730" y="760"/>
                </a:lnTo>
                <a:lnTo>
                  <a:pt x="3749" y="760"/>
                </a:lnTo>
                <a:lnTo>
                  <a:pt x="3772" y="760"/>
                </a:lnTo>
                <a:lnTo>
                  <a:pt x="3791" y="760"/>
                </a:lnTo>
                <a:lnTo>
                  <a:pt x="3810" y="763"/>
                </a:lnTo>
                <a:lnTo>
                  <a:pt x="3832" y="763"/>
                </a:lnTo>
                <a:lnTo>
                  <a:pt x="3851" y="763"/>
                </a:lnTo>
                <a:lnTo>
                  <a:pt x="3870" y="763"/>
                </a:lnTo>
                <a:lnTo>
                  <a:pt x="3892" y="763"/>
                </a:lnTo>
                <a:lnTo>
                  <a:pt x="3911" y="763"/>
                </a:lnTo>
                <a:lnTo>
                  <a:pt x="3930" y="763"/>
                </a:lnTo>
                <a:lnTo>
                  <a:pt x="3952" y="763"/>
                </a:lnTo>
                <a:lnTo>
                  <a:pt x="3971" y="763"/>
                </a:lnTo>
                <a:lnTo>
                  <a:pt x="3993" y="763"/>
                </a:lnTo>
                <a:lnTo>
                  <a:pt x="4012" y="763"/>
                </a:lnTo>
                <a:lnTo>
                  <a:pt x="0" y="763"/>
                </a:lnTo>
                <a:close/>
              </a:path>
            </a:pathLst>
          </a:custGeom>
          <a:solidFill>
            <a:srgbClr val="c8ffc8"/>
          </a:solidFill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20760" y="17378280"/>
            <a:ext cx="6153120" cy="1211400"/>
          </a:xfrm>
          <a:custGeom>
            <a:avLst/>
            <a:gdLst/>
            <a:ahLst/>
            <a:rect l="l" t="t" r="r" b="b"/>
            <a:pathLst>
              <a:path w="3876" h="763">
                <a:moveTo>
                  <a:pt x="0" y="763"/>
                </a:moveTo>
                <a:lnTo>
                  <a:pt x="22" y="763"/>
                </a:lnTo>
                <a:lnTo>
                  <a:pt x="41" y="763"/>
                </a:lnTo>
                <a:lnTo>
                  <a:pt x="60" y="763"/>
                </a:lnTo>
                <a:lnTo>
                  <a:pt x="82" y="763"/>
                </a:lnTo>
                <a:lnTo>
                  <a:pt x="101" y="763"/>
                </a:lnTo>
                <a:lnTo>
                  <a:pt x="120" y="763"/>
                </a:lnTo>
                <a:lnTo>
                  <a:pt x="142" y="763"/>
                </a:lnTo>
                <a:lnTo>
                  <a:pt x="161" y="763"/>
                </a:lnTo>
                <a:lnTo>
                  <a:pt x="184" y="763"/>
                </a:lnTo>
                <a:lnTo>
                  <a:pt x="203" y="763"/>
                </a:lnTo>
                <a:lnTo>
                  <a:pt x="222" y="760"/>
                </a:lnTo>
                <a:lnTo>
                  <a:pt x="244" y="760"/>
                </a:lnTo>
                <a:lnTo>
                  <a:pt x="263" y="760"/>
                </a:lnTo>
                <a:lnTo>
                  <a:pt x="282" y="760"/>
                </a:lnTo>
                <a:lnTo>
                  <a:pt x="304" y="760"/>
                </a:lnTo>
                <a:lnTo>
                  <a:pt x="323" y="757"/>
                </a:lnTo>
                <a:lnTo>
                  <a:pt x="342" y="757"/>
                </a:lnTo>
                <a:lnTo>
                  <a:pt x="364" y="757"/>
                </a:lnTo>
                <a:lnTo>
                  <a:pt x="383" y="753"/>
                </a:lnTo>
                <a:lnTo>
                  <a:pt x="405" y="753"/>
                </a:lnTo>
                <a:lnTo>
                  <a:pt x="424" y="750"/>
                </a:lnTo>
                <a:lnTo>
                  <a:pt x="443" y="750"/>
                </a:lnTo>
                <a:lnTo>
                  <a:pt x="465" y="747"/>
                </a:lnTo>
                <a:lnTo>
                  <a:pt x="484" y="747"/>
                </a:lnTo>
                <a:lnTo>
                  <a:pt x="503" y="744"/>
                </a:lnTo>
                <a:lnTo>
                  <a:pt x="525" y="741"/>
                </a:lnTo>
                <a:lnTo>
                  <a:pt x="544" y="738"/>
                </a:lnTo>
                <a:lnTo>
                  <a:pt x="566" y="734"/>
                </a:lnTo>
                <a:lnTo>
                  <a:pt x="585" y="731"/>
                </a:lnTo>
                <a:lnTo>
                  <a:pt x="604" y="728"/>
                </a:lnTo>
                <a:lnTo>
                  <a:pt x="627" y="725"/>
                </a:lnTo>
                <a:lnTo>
                  <a:pt x="646" y="722"/>
                </a:lnTo>
                <a:lnTo>
                  <a:pt x="665" y="719"/>
                </a:lnTo>
                <a:lnTo>
                  <a:pt x="687" y="715"/>
                </a:lnTo>
                <a:lnTo>
                  <a:pt x="706" y="709"/>
                </a:lnTo>
                <a:lnTo>
                  <a:pt x="728" y="706"/>
                </a:lnTo>
                <a:lnTo>
                  <a:pt x="747" y="700"/>
                </a:lnTo>
                <a:lnTo>
                  <a:pt x="766" y="693"/>
                </a:lnTo>
                <a:lnTo>
                  <a:pt x="788" y="687"/>
                </a:lnTo>
                <a:lnTo>
                  <a:pt x="807" y="681"/>
                </a:lnTo>
                <a:lnTo>
                  <a:pt x="826" y="674"/>
                </a:lnTo>
                <a:lnTo>
                  <a:pt x="848" y="665"/>
                </a:lnTo>
                <a:lnTo>
                  <a:pt x="867" y="659"/>
                </a:lnTo>
                <a:lnTo>
                  <a:pt x="886" y="649"/>
                </a:lnTo>
                <a:lnTo>
                  <a:pt x="908" y="643"/>
                </a:lnTo>
                <a:lnTo>
                  <a:pt x="927" y="633"/>
                </a:lnTo>
                <a:lnTo>
                  <a:pt x="949" y="624"/>
                </a:lnTo>
                <a:lnTo>
                  <a:pt x="968" y="614"/>
                </a:lnTo>
                <a:lnTo>
                  <a:pt x="987" y="605"/>
                </a:lnTo>
                <a:lnTo>
                  <a:pt x="1009" y="598"/>
                </a:lnTo>
                <a:lnTo>
                  <a:pt x="1028" y="589"/>
                </a:lnTo>
                <a:lnTo>
                  <a:pt x="1047" y="579"/>
                </a:lnTo>
                <a:lnTo>
                  <a:pt x="1070" y="570"/>
                </a:lnTo>
                <a:lnTo>
                  <a:pt x="1089" y="560"/>
                </a:lnTo>
                <a:lnTo>
                  <a:pt x="1111" y="551"/>
                </a:lnTo>
                <a:lnTo>
                  <a:pt x="1130" y="541"/>
                </a:lnTo>
                <a:lnTo>
                  <a:pt x="1149" y="532"/>
                </a:lnTo>
                <a:lnTo>
                  <a:pt x="1171" y="522"/>
                </a:lnTo>
                <a:lnTo>
                  <a:pt x="1190" y="513"/>
                </a:lnTo>
                <a:lnTo>
                  <a:pt x="1209" y="507"/>
                </a:lnTo>
                <a:lnTo>
                  <a:pt x="1231" y="497"/>
                </a:lnTo>
                <a:lnTo>
                  <a:pt x="1250" y="488"/>
                </a:lnTo>
                <a:lnTo>
                  <a:pt x="1272" y="481"/>
                </a:lnTo>
                <a:lnTo>
                  <a:pt x="1291" y="472"/>
                </a:lnTo>
                <a:lnTo>
                  <a:pt x="1310" y="466"/>
                </a:lnTo>
                <a:lnTo>
                  <a:pt x="1332" y="459"/>
                </a:lnTo>
                <a:lnTo>
                  <a:pt x="1351" y="453"/>
                </a:lnTo>
                <a:lnTo>
                  <a:pt x="1370" y="450"/>
                </a:lnTo>
                <a:lnTo>
                  <a:pt x="1392" y="443"/>
                </a:lnTo>
                <a:lnTo>
                  <a:pt x="1411" y="437"/>
                </a:lnTo>
                <a:lnTo>
                  <a:pt x="1433" y="431"/>
                </a:lnTo>
                <a:lnTo>
                  <a:pt x="1452" y="428"/>
                </a:lnTo>
                <a:lnTo>
                  <a:pt x="1471" y="421"/>
                </a:lnTo>
                <a:lnTo>
                  <a:pt x="1493" y="412"/>
                </a:lnTo>
                <a:lnTo>
                  <a:pt x="1512" y="405"/>
                </a:lnTo>
                <a:lnTo>
                  <a:pt x="1531" y="393"/>
                </a:lnTo>
                <a:lnTo>
                  <a:pt x="1554" y="383"/>
                </a:lnTo>
                <a:lnTo>
                  <a:pt x="1573" y="367"/>
                </a:lnTo>
                <a:lnTo>
                  <a:pt x="1592" y="348"/>
                </a:lnTo>
                <a:lnTo>
                  <a:pt x="1614" y="329"/>
                </a:lnTo>
                <a:lnTo>
                  <a:pt x="1633" y="307"/>
                </a:lnTo>
                <a:lnTo>
                  <a:pt x="1655" y="282"/>
                </a:lnTo>
                <a:lnTo>
                  <a:pt x="1674" y="257"/>
                </a:lnTo>
                <a:lnTo>
                  <a:pt x="1693" y="228"/>
                </a:lnTo>
                <a:lnTo>
                  <a:pt x="1715" y="197"/>
                </a:lnTo>
                <a:lnTo>
                  <a:pt x="1734" y="168"/>
                </a:lnTo>
                <a:lnTo>
                  <a:pt x="1753" y="140"/>
                </a:lnTo>
                <a:lnTo>
                  <a:pt x="1775" y="111"/>
                </a:lnTo>
                <a:lnTo>
                  <a:pt x="1794" y="83"/>
                </a:lnTo>
                <a:lnTo>
                  <a:pt x="1816" y="61"/>
                </a:lnTo>
                <a:lnTo>
                  <a:pt x="1835" y="38"/>
                </a:lnTo>
                <a:lnTo>
                  <a:pt x="1854" y="23"/>
                </a:lnTo>
                <a:lnTo>
                  <a:pt x="1876" y="10"/>
                </a:lnTo>
                <a:lnTo>
                  <a:pt x="1895" y="4"/>
                </a:lnTo>
                <a:lnTo>
                  <a:pt x="1914" y="0"/>
                </a:lnTo>
                <a:lnTo>
                  <a:pt x="1936" y="0"/>
                </a:lnTo>
                <a:lnTo>
                  <a:pt x="1955" y="7"/>
                </a:lnTo>
                <a:lnTo>
                  <a:pt x="1978" y="19"/>
                </a:lnTo>
                <a:lnTo>
                  <a:pt x="1997" y="32"/>
                </a:lnTo>
                <a:lnTo>
                  <a:pt x="2016" y="51"/>
                </a:lnTo>
                <a:lnTo>
                  <a:pt x="2038" y="73"/>
                </a:lnTo>
                <a:lnTo>
                  <a:pt x="2057" y="95"/>
                </a:lnTo>
                <a:lnTo>
                  <a:pt x="2076" y="124"/>
                </a:lnTo>
                <a:lnTo>
                  <a:pt x="2098" y="152"/>
                </a:lnTo>
                <a:lnTo>
                  <a:pt x="2117" y="181"/>
                </a:lnTo>
                <a:lnTo>
                  <a:pt x="2136" y="212"/>
                </a:lnTo>
                <a:lnTo>
                  <a:pt x="2158" y="244"/>
                </a:lnTo>
                <a:lnTo>
                  <a:pt x="2177" y="273"/>
                </a:lnTo>
                <a:lnTo>
                  <a:pt x="2199" y="304"/>
                </a:lnTo>
                <a:lnTo>
                  <a:pt x="2218" y="336"/>
                </a:lnTo>
                <a:lnTo>
                  <a:pt x="2237" y="364"/>
                </a:lnTo>
                <a:lnTo>
                  <a:pt x="2259" y="390"/>
                </a:lnTo>
                <a:lnTo>
                  <a:pt x="2278" y="418"/>
                </a:lnTo>
                <a:lnTo>
                  <a:pt x="2297" y="440"/>
                </a:lnTo>
                <a:lnTo>
                  <a:pt x="2319" y="462"/>
                </a:lnTo>
                <a:lnTo>
                  <a:pt x="2338" y="485"/>
                </a:lnTo>
                <a:lnTo>
                  <a:pt x="2360" y="504"/>
                </a:lnTo>
                <a:lnTo>
                  <a:pt x="2379" y="519"/>
                </a:lnTo>
                <a:lnTo>
                  <a:pt x="2398" y="535"/>
                </a:lnTo>
                <a:lnTo>
                  <a:pt x="2421" y="548"/>
                </a:lnTo>
                <a:lnTo>
                  <a:pt x="2440" y="560"/>
                </a:lnTo>
                <a:lnTo>
                  <a:pt x="2458" y="570"/>
                </a:lnTo>
                <a:lnTo>
                  <a:pt x="2481" y="583"/>
                </a:lnTo>
                <a:lnTo>
                  <a:pt x="2500" y="592"/>
                </a:lnTo>
                <a:lnTo>
                  <a:pt x="2522" y="602"/>
                </a:lnTo>
                <a:lnTo>
                  <a:pt x="2541" y="611"/>
                </a:lnTo>
                <a:lnTo>
                  <a:pt x="2560" y="617"/>
                </a:lnTo>
                <a:lnTo>
                  <a:pt x="2582" y="627"/>
                </a:lnTo>
                <a:lnTo>
                  <a:pt x="2601" y="636"/>
                </a:lnTo>
                <a:lnTo>
                  <a:pt x="2620" y="643"/>
                </a:lnTo>
                <a:lnTo>
                  <a:pt x="2642" y="652"/>
                </a:lnTo>
                <a:lnTo>
                  <a:pt x="2661" y="662"/>
                </a:lnTo>
                <a:lnTo>
                  <a:pt x="2683" y="668"/>
                </a:lnTo>
                <a:lnTo>
                  <a:pt x="2702" y="678"/>
                </a:lnTo>
                <a:lnTo>
                  <a:pt x="2721" y="684"/>
                </a:lnTo>
                <a:lnTo>
                  <a:pt x="2743" y="693"/>
                </a:lnTo>
                <a:lnTo>
                  <a:pt x="2762" y="700"/>
                </a:lnTo>
                <a:lnTo>
                  <a:pt x="2781" y="706"/>
                </a:lnTo>
                <a:lnTo>
                  <a:pt x="2803" y="712"/>
                </a:lnTo>
                <a:lnTo>
                  <a:pt x="2822" y="719"/>
                </a:lnTo>
                <a:lnTo>
                  <a:pt x="2841" y="722"/>
                </a:lnTo>
                <a:lnTo>
                  <a:pt x="2863" y="728"/>
                </a:lnTo>
                <a:lnTo>
                  <a:pt x="2882" y="731"/>
                </a:lnTo>
                <a:lnTo>
                  <a:pt x="2905" y="734"/>
                </a:lnTo>
                <a:lnTo>
                  <a:pt x="2924" y="738"/>
                </a:lnTo>
                <a:lnTo>
                  <a:pt x="2943" y="738"/>
                </a:lnTo>
                <a:lnTo>
                  <a:pt x="2965" y="741"/>
                </a:lnTo>
                <a:lnTo>
                  <a:pt x="2984" y="741"/>
                </a:lnTo>
                <a:lnTo>
                  <a:pt x="3003" y="744"/>
                </a:lnTo>
                <a:lnTo>
                  <a:pt x="3025" y="744"/>
                </a:lnTo>
                <a:lnTo>
                  <a:pt x="3044" y="744"/>
                </a:lnTo>
                <a:lnTo>
                  <a:pt x="3066" y="744"/>
                </a:lnTo>
                <a:lnTo>
                  <a:pt x="3085" y="744"/>
                </a:lnTo>
                <a:lnTo>
                  <a:pt x="3104" y="744"/>
                </a:lnTo>
                <a:lnTo>
                  <a:pt x="3126" y="744"/>
                </a:lnTo>
                <a:lnTo>
                  <a:pt x="3145" y="744"/>
                </a:lnTo>
                <a:lnTo>
                  <a:pt x="3164" y="744"/>
                </a:lnTo>
                <a:lnTo>
                  <a:pt x="3186" y="744"/>
                </a:lnTo>
                <a:lnTo>
                  <a:pt x="3205" y="744"/>
                </a:lnTo>
                <a:lnTo>
                  <a:pt x="3227" y="744"/>
                </a:lnTo>
                <a:lnTo>
                  <a:pt x="3246" y="744"/>
                </a:lnTo>
                <a:lnTo>
                  <a:pt x="3265" y="744"/>
                </a:lnTo>
                <a:lnTo>
                  <a:pt x="3287" y="744"/>
                </a:lnTo>
                <a:lnTo>
                  <a:pt x="3306" y="744"/>
                </a:lnTo>
                <a:lnTo>
                  <a:pt x="3325" y="744"/>
                </a:lnTo>
                <a:lnTo>
                  <a:pt x="3348" y="747"/>
                </a:lnTo>
                <a:lnTo>
                  <a:pt x="3367" y="747"/>
                </a:lnTo>
                <a:lnTo>
                  <a:pt x="3386" y="747"/>
                </a:lnTo>
                <a:lnTo>
                  <a:pt x="3408" y="747"/>
                </a:lnTo>
                <a:lnTo>
                  <a:pt x="3427" y="747"/>
                </a:lnTo>
                <a:lnTo>
                  <a:pt x="3449" y="747"/>
                </a:lnTo>
                <a:lnTo>
                  <a:pt x="3468" y="747"/>
                </a:lnTo>
                <a:lnTo>
                  <a:pt x="3487" y="750"/>
                </a:lnTo>
                <a:lnTo>
                  <a:pt x="3509" y="750"/>
                </a:lnTo>
                <a:lnTo>
                  <a:pt x="3528" y="750"/>
                </a:lnTo>
                <a:lnTo>
                  <a:pt x="3547" y="750"/>
                </a:lnTo>
                <a:lnTo>
                  <a:pt x="3569" y="753"/>
                </a:lnTo>
                <a:lnTo>
                  <a:pt x="3588" y="753"/>
                </a:lnTo>
                <a:lnTo>
                  <a:pt x="3610" y="753"/>
                </a:lnTo>
                <a:lnTo>
                  <a:pt x="3629" y="753"/>
                </a:lnTo>
                <a:lnTo>
                  <a:pt x="3648" y="757"/>
                </a:lnTo>
                <a:lnTo>
                  <a:pt x="3670" y="757"/>
                </a:lnTo>
                <a:lnTo>
                  <a:pt x="3689" y="757"/>
                </a:lnTo>
                <a:lnTo>
                  <a:pt x="3708" y="760"/>
                </a:lnTo>
                <a:lnTo>
                  <a:pt x="3730" y="760"/>
                </a:lnTo>
                <a:lnTo>
                  <a:pt x="3749" y="760"/>
                </a:lnTo>
                <a:lnTo>
                  <a:pt x="3772" y="760"/>
                </a:lnTo>
                <a:lnTo>
                  <a:pt x="3791" y="760"/>
                </a:lnTo>
                <a:lnTo>
                  <a:pt x="3810" y="763"/>
                </a:lnTo>
                <a:lnTo>
                  <a:pt x="3832" y="763"/>
                </a:lnTo>
                <a:lnTo>
                  <a:pt x="3851" y="763"/>
                </a:lnTo>
                <a:lnTo>
                  <a:pt x="3870" y="763"/>
                </a:lnTo>
                <a:lnTo>
                  <a:pt x="3876" y="763"/>
                </a:lnTo>
              </a:path>
            </a:pathLst>
          </a:custGeom>
          <a:noFill/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719440" y="18589680"/>
            <a:ext cx="14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24280" y="18579960"/>
            <a:ext cx="11160" cy="9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 flipV="1">
            <a:off x="3120840" y="18559440"/>
            <a:ext cx="29880" cy="302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41520" y="18564120"/>
            <a:ext cx="25560" cy="255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3578040" y="18584640"/>
            <a:ext cx="4680" cy="4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230720" y="18589680"/>
            <a:ext cx="14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4432320" y="18573840"/>
            <a:ext cx="14400" cy="15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6680" y="18504000"/>
            <a:ext cx="81000" cy="85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 flipV="1">
            <a:off x="4648320" y="18357840"/>
            <a:ext cx="225360" cy="231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692600" y="18192600"/>
            <a:ext cx="397080" cy="3970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4722840" y="18006480"/>
            <a:ext cx="582480" cy="582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748040" y="17816400"/>
            <a:ext cx="773280" cy="7732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5702040" y="18554400"/>
            <a:ext cx="34920" cy="349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4773240" y="17624160"/>
            <a:ext cx="677880" cy="679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88000" y="17424360"/>
            <a:ext cx="608040" cy="608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873760" y="18513360"/>
            <a:ext cx="79200" cy="76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6138720" y="18559440"/>
            <a:ext cx="30240" cy="302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4808160" y="17227080"/>
            <a:ext cx="552600" cy="554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822920" y="17027640"/>
            <a:ext cx="512640" cy="5126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384960" y="18589680"/>
            <a:ext cx="14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4833720" y="16825680"/>
            <a:ext cx="476280" cy="477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848120" y="16625880"/>
            <a:ext cx="443160" cy="4413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4863600" y="16423920"/>
            <a:ext cx="411480" cy="4129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73680" y="16219440"/>
            <a:ext cx="387360" cy="3808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4888080" y="16017480"/>
            <a:ext cx="352080" cy="3510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898880" y="15811560"/>
            <a:ext cx="325440" cy="3268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912920" y="15611400"/>
            <a:ext cx="297000" cy="2952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29120" y="15409800"/>
            <a:ext cx="265320" cy="27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4938840" y="15209640"/>
            <a:ext cx="241200" cy="2394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54680" y="15008400"/>
            <a:ext cx="209520" cy="2062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4968360" y="14806440"/>
            <a:ext cx="181080" cy="1764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989600" y="14611320"/>
            <a:ext cx="139680" cy="1350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014800" y="14420880"/>
            <a:ext cx="84240" cy="85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612880" y="14314320"/>
            <a:ext cx="3797280" cy="4275360"/>
          </a:xfrm>
          <a:custGeom>
            <a:avLst/>
            <a:gdLst/>
            <a:ahLst/>
            <a:rect l="l" t="t" r="r" b="b"/>
            <a:pathLst>
              <a:path w="2392" h="2693">
                <a:moveTo>
                  <a:pt x="0" y="2693"/>
                </a:moveTo>
                <a:lnTo>
                  <a:pt x="13" y="2693"/>
                </a:lnTo>
                <a:lnTo>
                  <a:pt x="25" y="2693"/>
                </a:lnTo>
                <a:lnTo>
                  <a:pt x="35" y="2693"/>
                </a:lnTo>
                <a:lnTo>
                  <a:pt x="48" y="2693"/>
                </a:lnTo>
                <a:lnTo>
                  <a:pt x="60" y="2693"/>
                </a:lnTo>
                <a:lnTo>
                  <a:pt x="73" y="2693"/>
                </a:lnTo>
                <a:lnTo>
                  <a:pt x="86" y="2693"/>
                </a:lnTo>
                <a:lnTo>
                  <a:pt x="95" y="2693"/>
                </a:lnTo>
                <a:lnTo>
                  <a:pt x="108" y="2690"/>
                </a:lnTo>
                <a:lnTo>
                  <a:pt x="120" y="2690"/>
                </a:lnTo>
                <a:lnTo>
                  <a:pt x="133" y="2690"/>
                </a:lnTo>
                <a:lnTo>
                  <a:pt x="146" y="2690"/>
                </a:lnTo>
                <a:lnTo>
                  <a:pt x="155" y="2690"/>
                </a:lnTo>
                <a:lnTo>
                  <a:pt x="168" y="2687"/>
                </a:lnTo>
                <a:lnTo>
                  <a:pt x="181" y="2687"/>
                </a:lnTo>
                <a:lnTo>
                  <a:pt x="193" y="2687"/>
                </a:lnTo>
                <a:lnTo>
                  <a:pt x="206" y="2683"/>
                </a:lnTo>
                <a:lnTo>
                  <a:pt x="215" y="2683"/>
                </a:lnTo>
                <a:lnTo>
                  <a:pt x="228" y="2683"/>
                </a:lnTo>
                <a:lnTo>
                  <a:pt x="241" y="2680"/>
                </a:lnTo>
                <a:lnTo>
                  <a:pt x="253" y="2680"/>
                </a:lnTo>
                <a:lnTo>
                  <a:pt x="266" y="2680"/>
                </a:lnTo>
                <a:lnTo>
                  <a:pt x="275" y="2677"/>
                </a:lnTo>
                <a:lnTo>
                  <a:pt x="288" y="2677"/>
                </a:lnTo>
                <a:lnTo>
                  <a:pt x="301" y="2677"/>
                </a:lnTo>
                <a:lnTo>
                  <a:pt x="313" y="2674"/>
                </a:lnTo>
                <a:lnTo>
                  <a:pt x="326" y="2674"/>
                </a:lnTo>
                <a:lnTo>
                  <a:pt x="336" y="2674"/>
                </a:lnTo>
                <a:lnTo>
                  <a:pt x="348" y="2674"/>
                </a:lnTo>
                <a:lnTo>
                  <a:pt x="361" y="2674"/>
                </a:lnTo>
                <a:lnTo>
                  <a:pt x="374" y="2674"/>
                </a:lnTo>
                <a:lnTo>
                  <a:pt x="386" y="2674"/>
                </a:lnTo>
                <a:lnTo>
                  <a:pt x="396" y="2674"/>
                </a:lnTo>
                <a:lnTo>
                  <a:pt x="408" y="2674"/>
                </a:lnTo>
                <a:lnTo>
                  <a:pt x="421" y="2674"/>
                </a:lnTo>
                <a:lnTo>
                  <a:pt x="434" y="2674"/>
                </a:lnTo>
                <a:lnTo>
                  <a:pt x="443" y="2677"/>
                </a:lnTo>
                <a:lnTo>
                  <a:pt x="456" y="2677"/>
                </a:lnTo>
                <a:lnTo>
                  <a:pt x="468" y="2677"/>
                </a:lnTo>
                <a:lnTo>
                  <a:pt x="481" y="2680"/>
                </a:lnTo>
                <a:lnTo>
                  <a:pt x="494" y="2680"/>
                </a:lnTo>
                <a:lnTo>
                  <a:pt x="503" y="2680"/>
                </a:lnTo>
                <a:lnTo>
                  <a:pt x="516" y="2683"/>
                </a:lnTo>
                <a:lnTo>
                  <a:pt x="529" y="2683"/>
                </a:lnTo>
                <a:lnTo>
                  <a:pt x="541" y="2683"/>
                </a:lnTo>
                <a:lnTo>
                  <a:pt x="554" y="2687"/>
                </a:lnTo>
                <a:lnTo>
                  <a:pt x="563" y="2687"/>
                </a:lnTo>
                <a:lnTo>
                  <a:pt x="576" y="2687"/>
                </a:lnTo>
                <a:lnTo>
                  <a:pt x="589" y="2690"/>
                </a:lnTo>
                <a:lnTo>
                  <a:pt x="601" y="2690"/>
                </a:lnTo>
                <a:lnTo>
                  <a:pt x="614" y="2690"/>
                </a:lnTo>
                <a:lnTo>
                  <a:pt x="623" y="2690"/>
                </a:lnTo>
                <a:lnTo>
                  <a:pt x="636" y="2690"/>
                </a:lnTo>
                <a:lnTo>
                  <a:pt x="649" y="2693"/>
                </a:lnTo>
                <a:lnTo>
                  <a:pt x="661" y="2693"/>
                </a:lnTo>
                <a:lnTo>
                  <a:pt x="674" y="2693"/>
                </a:lnTo>
                <a:lnTo>
                  <a:pt x="684" y="2693"/>
                </a:lnTo>
                <a:lnTo>
                  <a:pt x="696" y="2693"/>
                </a:lnTo>
                <a:lnTo>
                  <a:pt x="709" y="2693"/>
                </a:lnTo>
                <a:lnTo>
                  <a:pt x="722" y="2693"/>
                </a:lnTo>
                <a:lnTo>
                  <a:pt x="734" y="2693"/>
                </a:lnTo>
                <a:lnTo>
                  <a:pt x="744" y="2693"/>
                </a:lnTo>
                <a:lnTo>
                  <a:pt x="756" y="2693"/>
                </a:lnTo>
                <a:lnTo>
                  <a:pt x="769" y="2693"/>
                </a:lnTo>
                <a:lnTo>
                  <a:pt x="782" y="2693"/>
                </a:lnTo>
                <a:lnTo>
                  <a:pt x="794" y="2693"/>
                </a:lnTo>
                <a:lnTo>
                  <a:pt x="804" y="2693"/>
                </a:lnTo>
                <a:lnTo>
                  <a:pt x="816" y="2693"/>
                </a:lnTo>
                <a:lnTo>
                  <a:pt x="829" y="2693"/>
                </a:lnTo>
                <a:lnTo>
                  <a:pt x="842" y="2693"/>
                </a:lnTo>
                <a:lnTo>
                  <a:pt x="854" y="2693"/>
                </a:lnTo>
                <a:lnTo>
                  <a:pt x="864" y="2693"/>
                </a:lnTo>
                <a:lnTo>
                  <a:pt x="877" y="2693"/>
                </a:lnTo>
                <a:lnTo>
                  <a:pt x="889" y="2693"/>
                </a:lnTo>
                <a:lnTo>
                  <a:pt x="902" y="2693"/>
                </a:lnTo>
                <a:lnTo>
                  <a:pt x="915" y="2693"/>
                </a:lnTo>
                <a:lnTo>
                  <a:pt x="924" y="2693"/>
                </a:lnTo>
                <a:lnTo>
                  <a:pt x="937" y="2693"/>
                </a:lnTo>
                <a:lnTo>
                  <a:pt x="949" y="2693"/>
                </a:lnTo>
                <a:lnTo>
                  <a:pt x="962" y="2693"/>
                </a:lnTo>
                <a:lnTo>
                  <a:pt x="975" y="2693"/>
                </a:lnTo>
                <a:lnTo>
                  <a:pt x="984" y="2693"/>
                </a:lnTo>
                <a:lnTo>
                  <a:pt x="997" y="2693"/>
                </a:lnTo>
                <a:lnTo>
                  <a:pt x="1009" y="2693"/>
                </a:lnTo>
                <a:lnTo>
                  <a:pt x="1022" y="2693"/>
                </a:lnTo>
                <a:lnTo>
                  <a:pt x="1035" y="2693"/>
                </a:lnTo>
                <a:lnTo>
                  <a:pt x="1044" y="2693"/>
                </a:lnTo>
                <a:lnTo>
                  <a:pt x="1057" y="2693"/>
                </a:lnTo>
                <a:lnTo>
                  <a:pt x="1070" y="2693"/>
                </a:lnTo>
                <a:lnTo>
                  <a:pt x="1082" y="2690"/>
                </a:lnTo>
                <a:lnTo>
                  <a:pt x="1095" y="2690"/>
                </a:lnTo>
                <a:lnTo>
                  <a:pt x="1104" y="2690"/>
                </a:lnTo>
                <a:lnTo>
                  <a:pt x="1117" y="2687"/>
                </a:lnTo>
                <a:lnTo>
                  <a:pt x="1130" y="2687"/>
                </a:lnTo>
                <a:lnTo>
                  <a:pt x="1142" y="2683"/>
                </a:lnTo>
                <a:lnTo>
                  <a:pt x="1155" y="2683"/>
                </a:lnTo>
                <a:lnTo>
                  <a:pt x="1165" y="2680"/>
                </a:lnTo>
                <a:lnTo>
                  <a:pt x="1177" y="2677"/>
                </a:lnTo>
                <a:lnTo>
                  <a:pt x="1190" y="2674"/>
                </a:lnTo>
                <a:lnTo>
                  <a:pt x="1202" y="2671"/>
                </a:lnTo>
                <a:lnTo>
                  <a:pt x="1215" y="2668"/>
                </a:lnTo>
                <a:lnTo>
                  <a:pt x="1225" y="2655"/>
                </a:lnTo>
                <a:lnTo>
                  <a:pt x="1237" y="2639"/>
                </a:lnTo>
                <a:lnTo>
                  <a:pt x="1250" y="2617"/>
                </a:lnTo>
                <a:lnTo>
                  <a:pt x="1263" y="2595"/>
                </a:lnTo>
                <a:lnTo>
                  <a:pt x="1275" y="2570"/>
                </a:lnTo>
                <a:lnTo>
                  <a:pt x="1285" y="2535"/>
                </a:lnTo>
                <a:lnTo>
                  <a:pt x="1297" y="2494"/>
                </a:lnTo>
                <a:lnTo>
                  <a:pt x="1310" y="2443"/>
                </a:lnTo>
                <a:lnTo>
                  <a:pt x="1323" y="2380"/>
                </a:lnTo>
                <a:lnTo>
                  <a:pt x="1335" y="2301"/>
                </a:lnTo>
                <a:lnTo>
                  <a:pt x="1345" y="2206"/>
                </a:lnTo>
                <a:lnTo>
                  <a:pt x="1358" y="2098"/>
                </a:lnTo>
                <a:lnTo>
                  <a:pt x="1370" y="1972"/>
                </a:lnTo>
                <a:lnTo>
                  <a:pt x="1383" y="1829"/>
                </a:lnTo>
                <a:lnTo>
                  <a:pt x="1395" y="1668"/>
                </a:lnTo>
                <a:lnTo>
                  <a:pt x="1405" y="1497"/>
                </a:lnTo>
                <a:lnTo>
                  <a:pt x="1418" y="1313"/>
                </a:lnTo>
                <a:lnTo>
                  <a:pt x="1430" y="1124"/>
                </a:lnTo>
                <a:lnTo>
                  <a:pt x="1443" y="931"/>
                </a:lnTo>
                <a:lnTo>
                  <a:pt x="1456" y="741"/>
                </a:lnTo>
                <a:lnTo>
                  <a:pt x="1465" y="560"/>
                </a:lnTo>
                <a:lnTo>
                  <a:pt x="1478" y="396"/>
                </a:lnTo>
                <a:lnTo>
                  <a:pt x="1490" y="253"/>
                </a:lnTo>
                <a:lnTo>
                  <a:pt x="1503" y="140"/>
                </a:lnTo>
                <a:lnTo>
                  <a:pt x="1516" y="57"/>
                </a:lnTo>
                <a:lnTo>
                  <a:pt x="1525" y="10"/>
                </a:lnTo>
                <a:lnTo>
                  <a:pt x="1538" y="0"/>
                </a:lnTo>
                <a:lnTo>
                  <a:pt x="1551" y="23"/>
                </a:lnTo>
                <a:lnTo>
                  <a:pt x="1563" y="79"/>
                </a:lnTo>
                <a:lnTo>
                  <a:pt x="1576" y="174"/>
                </a:lnTo>
                <a:lnTo>
                  <a:pt x="1585" y="295"/>
                </a:lnTo>
                <a:lnTo>
                  <a:pt x="1598" y="440"/>
                </a:lnTo>
                <a:lnTo>
                  <a:pt x="1611" y="605"/>
                </a:lnTo>
                <a:lnTo>
                  <a:pt x="1623" y="782"/>
                </a:lnTo>
                <a:lnTo>
                  <a:pt x="1636" y="962"/>
                </a:lnTo>
                <a:lnTo>
                  <a:pt x="1645" y="1149"/>
                </a:lnTo>
                <a:lnTo>
                  <a:pt x="1658" y="1329"/>
                </a:lnTo>
                <a:lnTo>
                  <a:pt x="1671" y="1503"/>
                </a:lnTo>
                <a:lnTo>
                  <a:pt x="1683" y="1668"/>
                </a:lnTo>
                <a:lnTo>
                  <a:pt x="1696" y="1817"/>
                </a:lnTo>
                <a:lnTo>
                  <a:pt x="1706" y="1956"/>
                </a:lnTo>
                <a:lnTo>
                  <a:pt x="1718" y="2076"/>
                </a:lnTo>
                <a:lnTo>
                  <a:pt x="1731" y="2184"/>
                </a:lnTo>
                <a:lnTo>
                  <a:pt x="1744" y="2278"/>
                </a:lnTo>
                <a:lnTo>
                  <a:pt x="1753" y="2358"/>
                </a:lnTo>
                <a:lnTo>
                  <a:pt x="1766" y="2421"/>
                </a:lnTo>
                <a:lnTo>
                  <a:pt x="1778" y="2478"/>
                </a:lnTo>
                <a:lnTo>
                  <a:pt x="1791" y="2525"/>
                </a:lnTo>
                <a:lnTo>
                  <a:pt x="1804" y="2563"/>
                </a:lnTo>
                <a:lnTo>
                  <a:pt x="1813" y="2601"/>
                </a:lnTo>
                <a:lnTo>
                  <a:pt x="1826" y="2627"/>
                </a:lnTo>
                <a:lnTo>
                  <a:pt x="1838" y="2642"/>
                </a:lnTo>
                <a:lnTo>
                  <a:pt x="1851" y="2652"/>
                </a:lnTo>
                <a:lnTo>
                  <a:pt x="1864" y="2658"/>
                </a:lnTo>
                <a:lnTo>
                  <a:pt x="1873" y="2664"/>
                </a:lnTo>
                <a:lnTo>
                  <a:pt x="1886" y="2668"/>
                </a:lnTo>
                <a:lnTo>
                  <a:pt x="1899" y="2671"/>
                </a:lnTo>
                <a:lnTo>
                  <a:pt x="1911" y="2671"/>
                </a:lnTo>
                <a:lnTo>
                  <a:pt x="1924" y="2671"/>
                </a:lnTo>
                <a:lnTo>
                  <a:pt x="1933" y="2671"/>
                </a:lnTo>
                <a:lnTo>
                  <a:pt x="1946" y="2671"/>
                </a:lnTo>
                <a:lnTo>
                  <a:pt x="1959" y="2668"/>
                </a:lnTo>
                <a:lnTo>
                  <a:pt x="1971" y="2664"/>
                </a:lnTo>
                <a:lnTo>
                  <a:pt x="1984" y="2661"/>
                </a:lnTo>
                <a:lnTo>
                  <a:pt x="1993" y="2658"/>
                </a:lnTo>
                <a:lnTo>
                  <a:pt x="2006" y="2655"/>
                </a:lnTo>
                <a:lnTo>
                  <a:pt x="2019" y="2652"/>
                </a:lnTo>
                <a:lnTo>
                  <a:pt x="2031" y="2649"/>
                </a:lnTo>
                <a:lnTo>
                  <a:pt x="2044" y="2645"/>
                </a:lnTo>
                <a:lnTo>
                  <a:pt x="2054" y="2645"/>
                </a:lnTo>
                <a:lnTo>
                  <a:pt x="2066" y="2642"/>
                </a:lnTo>
                <a:lnTo>
                  <a:pt x="2079" y="2642"/>
                </a:lnTo>
                <a:lnTo>
                  <a:pt x="2092" y="2642"/>
                </a:lnTo>
                <a:lnTo>
                  <a:pt x="2104" y="2642"/>
                </a:lnTo>
                <a:lnTo>
                  <a:pt x="2114" y="2645"/>
                </a:lnTo>
                <a:lnTo>
                  <a:pt x="2126" y="2649"/>
                </a:lnTo>
                <a:lnTo>
                  <a:pt x="2139" y="2652"/>
                </a:lnTo>
                <a:lnTo>
                  <a:pt x="2152" y="2655"/>
                </a:lnTo>
                <a:lnTo>
                  <a:pt x="2164" y="2658"/>
                </a:lnTo>
                <a:lnTo>
                  <a:pt x="2174" y="2661"/>
                </a:lnTo>
                <a:lnTo>
                  <a:pt x="2186" y="2664"/>
                </a:lnTo>
                <a:lnTo>
                  <a:pt x="2199" y="2668"/>
                </a:lnTo>
                <a:lnTo>
                  <a:pt x="2212" y="2671"/>
                </a:lnTo>
                <a:lnTo>
                  <a:pt x="2224" y="2674"/>
                </a:lnTo>
                <a:lnTo>
                  <a:pt x="2234" y="2677"/>
                </a:lnTo>
                <a:lnTo>
                  <a:pt x="2247" y="2680"/>
                </a:lnTo>
                <a:lnTo>
                  <a:pt x="2259" y="2683"/>
                </a:lnTo>
                <a:lnTo>
                  <a:pt x="2272" y="2687"/>
                </a:lnTo>
                <a:lnTo>
                  <a:pt x="2285" y="2687"/>
                </a:lnTo>
                <a:lnTo>
                  <a:pt x="2294" y="2690"/>
                </a:lnTo>
                <a:lnTo>
                  <a:pt x="2307" y="2690"/>
                </a:lnTo>
                <a:lnTo>
                  <a:pt x="2319" y="2690"/>
                </a:lnTo>
                <a:lnTo>
                  <a:pt x="2332" y="2690"/>
                </a:lnTo>
                <a:lnTo>
                  <a:pt x="2345" y="2693"/>
                </a:lnTo>
                <a:lnTo>
                  <a:pt x="2354" y="2693"/>
                </a:lnTo>
                <a:lnTo>
                  <a:pt x="2367" y="2693"/>
                </a:lnTo>
                <a:lnTo>
                  <a:pt x="2379" y="2693"/>
                </a:lnTo>
                <a:lnTo>
                  <a:pt x="2392" y="2693"/>
                </a:lnTo>
              </a:path>
            </a:pathLst>
          </a:custGeom>
          <a:noFill/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2715560" y="19819800"/>
            <a:ext cx="90900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Hook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9642600" y="13925520"/>
            <a:ext cx="7107120" cy="483228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989172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180944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3728600" y="18770760"/>
            <a:ext cx="180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564812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891720" y="18770760"/>
            <a:ext cx="575640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809280" y="19141920"/>
            <a:ext cx="17136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1444040" y="19141920"/>
            <a:ext cx="683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3363200" y="19141920"/>
            <a:ext cx="683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5280920" y="19141920"/>
            <a:ext cx="683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3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3229280" y="14420880"/>
            <a:ext cx="2978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Hooks per op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759960" y="14309640"/>
            <a:ext cx="1995480" cy="4280040"/>
          </a:xfrm>
          <a:custGeom>
            <a:avLst/>
            <a:gdLst/>
            <a:ahLst/>
            <a:rect l="l" t="t" r="r" b="b"/>
            <a:pathLst>
              <a:path w="1257" h="2696">
                <a:moveTo>
                  <a:pt x="0" y="2696"/>
                </a:moveTo>
                <a:lnTo>
                  <a:pt x="7" y="2696"/>
                </a:lnTo>
                <a:lnTo>
                  <a:pt x="13" y="2696"/>
                </a:lnTo>
                <a:lnTo>
                  <a:pt x="19" y="2696"/>
                </a:lnTo>
                <a:lnTo>
                  <a:pt x="26" y="2696"/>
                </a:lnTo>
                <a:lnTo>
                  <a:pt x="32" y="2696"/>
                </a:lnTo>
                <a:lnTo>
                  <a:pt x="38" y="2693"/>
                </a:lnTo>
                <a:lnTo>
                  <a:pt x="45" y="2693"/>
                </a:lnTo>
                <a:lnTo>
                  <a:pt x="51" y="2693"/>
                </a:lnTo>
                <a:lnTo>
                  <a:pt x="57" y="2693"/>
                </a:lnTo>
                <a:lnTo>
                  <a:pt x="64" y="2693"/>
                </a:lnTo>
                <a:lnTo>
                  <a:pt x="70" y="2690"/>
                </a:lnTo>
                <a:lnTo>
                  <a:pt x="76" y="2690"/>
                </a:lnTo>
                <a:lnTo>
                  <a:pt x="83" y="2686"/>
                </a:lnTo>
                <a:lnTo>
                  <a:pt x="89" y="2686"/>
                </a:lnTo>
                <a:lnTo>
                  <a:pt x="95" y="2683"/>
                </a:lnTo>
                <a:lnTo>
                  <a:pt x="102" y="2680"/>
                </a:lnTo>
                <a:lnTo>
                  <a:pt x="108" y="2677"/>
                </a:lnTo>
                <a:lnTo>
                  <a:pt x="114" y="2674"/>
                </a:lnTo>
                <a:lnTo>
                  <a:pt x="121" y="2671"/>
                </a:lnTo>
                <a:lnTo>
                  <a:pt x="127" y="2667"/>
                </a:lnTo>
                <a:lnTo>
                  <a:pt x="133" y="2664"/>
                </a:lnTo>
                <a:lnTo>
                  <a:pt x="140" y="2658"/>
                </a:lnTo>
                <a:lnTo>
                  <a:pt x="146" y="2648"/>
                </a:lnTo>
                <a:lnTo>
                  <a:pt x="152" y="2639"/>
                </a:lnTo>
                <a:lnTo>
                  <a:pt x="159" y="2630"/>
                </a:lnTo>
                <a:lnTo>
                  <a:pt x="165" y="2620"/>
                </a:lnTo>
                <a:lnTo>
                  <a:pt x="171" y="2607"/>
                </a:lnTo>
                <a:lnTo>
                  <a:pt x="178" y="2592"/>
                </a:lnTo>
                <a:lnTo>
                  <a:pt x="181" y="2573"/>
                </a:lnTo>
                <a:lnTo>
                  <a:pt x="187" y="2550"/>
                </a:lnTo>
                <a:lnTo>
                  <a:pt x="193" y="2525"/>
                </a:lnTo>
                <a:lnTo>
                  <a:pt x="200" y="2500"/>
                </a:lnTo>
                <a:lnTo>
                  <a:pt x="206" y="2468"/>
                </a:lnTo>
                <a:lnTo>
                  <a:pt x="212" y="2427"/>
                </a:lnTo>
                <a:lnTo>
                  <a:pt x="219" y="2380"/>
                </a:lnTo>
                <a:lnTo>
                  <a:pt x="225" y="2326"/>
                </a:lnTo>
                <a:lnTo>
                  <a:pt x="231" y="2272"/>
                </a:lnTo>
                <a:lnTo>
                  <a:pt x="238" y="2215"/>
                </a:lnTo>
                <a:lnTo>
                  <a:pt x="244" y="2149"/>
                </a:lnTo>
                <a:lnTo>
                  <a:pt x="250" y="2079"/>
                </a:lnTo>
                <a:lnTo>
                  <a:pt x="257" y="2003"/>
                </a:lnTo>
                <a:lnTo>
                  <a:pt x="263" y="1921"/>
                </a:lnTo>
                <a:lnTo>
                  <a:pt x="269" y="1835"/>
                </a:lnTo>
                <a:lnTo>
                  <a:pt x="276" y="1740"/>
                </a:lnTo>
                <a:lnTo>
                  <a:pt x="282" y="1639"/>
                </a:lnTo>
                <a:lnTo>
                  <a:pt x="288" y="1528"/>
                </a:lnTo>
                <a:lnTo>
                  <a:pt x="295" y="1411"/>
                </a:lnTo>
                <a:lnTo>
                  <a:pt x="301" y="1288"/>
                </a:lnTo>
                <a:lnTo>
                  <a:pt x="307" y="1158"/>
                </a:lnTo>
                <a:lnTo>
                  <a:pt x="314" y="1025"/>
                </a:lnTo>
                <a:lnTo>
                  <a:pt x="320" y="889"/>
                </a:lnTo>
                <a:lnTo>
                  <a:pt x="326" y="753"/>
                </a:lnTo>
                <a:lnTo>
                  <a:pt x="333" y="617"/>
                </a:lnTo>
                <a:lnTo>
                  <a:pt x="339" y="491"/>
                </a:lnTo>
                <a:lnTo>
                  <a:pt x="345" y="370"/>
                </a:lnTo>
                <a:lnTo>
                  <a:pt x="352" y="263"/>
                </a:lnTo>
                <a:lnTo>
                  <a:pt x="358" y="168"/>
                </a:lnTo>
                <a:lnTo>
                  <a:pt x="364" y="92"/>
                </a:lnTo>
                <a:lnTo>
                  <a:pt x="371" y="38"/>
                </a:lnTo>
                <a:lnTo>
                  <a:pt x="377" y="10"/>
                </a:lnTo>
                <a:lnTo>
                  <a:pt x="383" y="0"/>
                </a:lnTo>
                <a:lnTo>
                  <a:pt x="390" y="13"/>
                </a:lnTo>
                <a:lnTo>
                  <a:pt x="396" y="44"/>
                </a:lnTo>
                <a:lnTo>
                  <a:pt x="402" y="95"/>
                </a:lnTo>
                <a:lnTo>
                  <a:pt x="409" y="162"/>
                </a:lnTo>
                <a:lnTo>
                  <a:pt x="415" y="237"/>
                </a:lnTo>
                <a:lnTo>
                  <a:pt x="421" y="323"/>
                </a:lnTo>
                <a:lnTo>
                  <a:pt x="428" y="412"/>
                </a:lnTo>
                <a:lnTo>
                  <a:pt x="434" y="503"/>
                </a:lnTo>
                <a:lnTo>
                  <a:pt x="440" y="595"/>
                </a:lnTo>
                <a:lnTo>
                  <a:pt x="447" y="684"/>
                </a:lnTo>
                <a:lnTo>
                  <a:pt x="453" y="769"/>
                </a:lnTo>
                <a:lnTo>
                  <a:pt x="459" y="845"/>
                </a:lnTo>
                <a:lnTo>
                  <a:pt x="466" y="918"/>
                </a:lnTo>
                <a:lnTo>
                  <a:pt x="472" y="981"/>
                </a:lnTo>
                <a:lnTo>
                  <a:pt x="478" y="1044"/>
                </a:lnTo>
                <a:lnTo>
                  <a:pt x="485" y="1101"/>
                </a:lnTo>
                <a:lnTo>
                  <a:pt x="491" y="1158"/>
                </a:lnTo>
                <a:lnTo>
                  <a:pt x="497" y="1212"/>
                </a:lnTo>
                <a:lnTo>
                  <a:pt x="504" y="1269"/>
                </a:lnTo>
                <a:lnTo>
                  <a:pt x="510" y="1326"/>
                </a:lnTo>
                <a:lnTo>
                  <a:pt x="516" y="1386"/>
                </a:lnTo>
                <a:lnTo>
                  <a:pt x="523" y="1449"/>
                </a:lnTo>
                <a:lnTo>
                  <a:pt x="529" y="1516"/>
                </a:lnTo>
                <a:lnTo>
                  <a:pt x="535" y="1589"/>
                </a:lnTo>
                <a:lnTo>
                  <a:pt x="542" y="1661"/>
                </a:lnTo>
                <a:lnTo>
                  <a:pt x="548" y="1728"/>
                </a:lnTo>
                <a:lnTo>
                  <a:pt x="554" y="1797"/>
                </a:lnTo>
                <a:lnTo>
                  <a:pt x="560" y="1867"/>
                </a:lnTo>
                <a:lnTo>
                  <a:pt x="567" y="1937"/>
                </a:lnTo>
                <a:lnTo>
                  <a:pt x="573" y="2003"/>
                </a:lnTo>
                <a:lnTo>
                  <a:pt x="579" y="2060"/>
                </a:lnTo>
                <a:lnTo>
                  <a:pt x="586" y="2117"/>
                </a:lnTo>
                <a:lnTo>
                  <a:pt x="592" y="2168"/>
                </a:lnTo>
                <a:lnTo>
                  <a:pt x="598" y="2212"/>
                </a:lnTo>
                <a:lnTo>
                  <a:pt x="605" y="2253"/>
                </a:lnTo>
                <a:lnTo>
                  <a:pt x="611" y="2281"/>
                </a:lnTo>
                <a:lnTo>
                  <a:pt x="617" y="2304"/>
                </a:lnTo>
                <a:lnTo>
                  <a:pt x="624" y="2316"/>
                </a:lnTo>
                <a:lnTo>
                  <a:pt x="630" y="2319"/>
                </a:lnTo>
                <a:lnTo>
                  <a:pt x="636" y="2316"/>
                </a:lnTo>
                <a:lnTo>
                  <a:pt x="643" y="2307"/>
                </a:lnTo>
                <a:lnTo>
                  <a:pt x="649" y="2288"/>
                </a:lnTo>
                <a:lnTo>
                  <a:pt x="655" y="2262"/>
                </a:lnTo>
                <a:lnTo>
                  <a:pt x="662" y="2231"/>
                </a:lnTo>
                <a:lnTo>
                  <a:pt x="668" y="2193"/>
                </a:lnTo>
                <a:lnTo>
                  <a:pt x="674" y="2149"/>
                </a:lnTo>
                <a:lnTo>
                  <a:pt x="681" y="2104"/>
                </a:lnTo>
                <a:lnTo>
                  <a:pt x="687" y="2057"/>
                </a:lnTo>
                <a:lnTo>
                  <a:pt x="693" y="2009"/>
                </a:lnTo>
                <a:lnTo>
                  <a:pt x="700" y="1962"/>
                </a:lnTo>
                <a:lnTo>
                  <a:pt x="706" y="1921"/>
                </a:lnTo>
                <a:lnTo>
                  <a:pt x="712" y="1883"/>
                </a:lnTo>
                <a:lnTo>
                  <a:pt x="719" y="1851"/>
                </a:lnTo>
                <a:lnTo>
                  <a:pt x="725" y="1829"/>
                </a:lnTo>
                <a:lnTo>
                  <a:pt x="731" y="1810"/>
                </a:lnTo>
                <a:lnTo>
                  <a:pt x="738" y="1801"/>
                </a:lnTo>
                <a:lnTo>
                  <a:pt x="744" y="1801"/>
                </a:lnTo>
                <a:lnTo>
                  <a:pt x="750" y="1804"/>
                </a:lnTo>
                <a:lnTo>
                  <a:pt x="757" y="1816"/>
                </a:lnTo>
                <a:lnTo>
                  <a:pt x="763" y="1835"/>
                </a:lnTo>
                <a:lnTo>
                  <a:pt x="769" y="1857"/>
                </a:lnTo>
                <a:lnTo>
                  <a:pt x="776" y="1886"/>
                </a:lnTo>
                <a:lnTo>
                  <a:pt x="782" y="1918"/>
                </a:lnTo>
                <a:lnTo>
                  <a:pt x="788" y="1949"/>
                </a:lnTo>
                <a:lnTo>
                  <a:pt x="795" y="1984"/>
                </a:lnTo>
                <a:lnTo>
                  <a:pt x="801" y="2022"/>
                </a:lnTo>
                <a:lnTo>
                  <a:pt x="807" y="2057"/>
                </a:lnTo>
                <a:lnTo>
                  <a:pt x="814" y="2095"/>
                </a:lnTo>
                <a:lnTo>
                  <a:pt x="820" y="2130"/>
                </a:lnTo>
                <a:lnTo>
                  <a:pt x="826" y="2164"/>
                </a:lnTo>
                <a:lnTo>
                  <a:pt x="833" y="2199"/>
                </a:lnTo>
                <a:lnTo>
                  <a:pt x="839" y="2234"/>
                </a:lnTo>
                <a:lnTo>
                  <a:pt x="845" y="2266"/>
                </a:lnTo>
                <a:lnTo>
                  <a:pt x="852" y="2297"/>
                </a:lnTo>
                <a:lnTo>
                  <a:pt x="858" y="2326"/>
                </a:lnTo>
                <a:lnTo>
                  <a:pt x="864" y="2354"/>
                </a:lnTo>
                <a:lnTo>
                  <a:pt x="871" y="2380"/>
                </a:lnTo>
                <a:lnTo>
                  <a:pt x="877" y="2405"/>
                </a:lnTo>
                <a:lnTo>
                  <a:pt x="883" y="2427"/>
                </a:lnTo>
                <a:lnTo>
                  <a:pt x="890" y="2452"/>
                </a:lnTo>
                <a:lnTo>
                  <a:pt x="896" y="2471"/>
                </a:lnTo>
                <a:lnTo>
                  <a:pt x="902" y="2490"/>
                </a:lnTo>
                <a:lnTo>
                  <a:pt x="909" y="2503"/>
                </a:lnTo>
                <a:lnTo>
                  <a:pt x="915" y="2516"/>
                </a:lnTo>
                <a:lnTo>
                  <a:pt x="921" y="2528"/>
                </a:lnTo>
                <a:lnTo>
                  <a:pt x="928" y="2541"/>
                </a:lnTo>
                <a:lnTo>
                  <a:pt x="934" y="2550"/>
                </a:lnTo>
                <a:lnTo>
                  <a:pt x="940" y="2557"/>
                </a:lnTo>
                <a:lnTo>
                  <a:pt x="946" y="2566"/>
                </a:lnTo>
                <a:lnTo>
                  <a:pt x="953" y="2573"/>
                </a:lnTo>
                <a:lnTo>
                  <a:pt x="959" y="2579"/>
                </a:lnTo>
                <a:lnTo>
                  <a:pt x="965" y="2585"/>
                </a:lnTo>
                <a:lnTo>
                  <a:pt x="972" y="2592"/>
                </a:lnTo>
                <a:lnTo>
                  <a:pt x="978" y="2598"/>
                </a:lnTo>
                <a:lnTo>
                  <a:pt x="984" y="2601"/>
                </a:lnTo>
                <a:lnTo>
                  <a:pt x="991" y="2604"/>
                </a:lnTo>
                <a:lnTo>
                  <a:pt x="997" y="2607"/>
                </a:lnTo>
                <a:lnTo>
                  <a:pt x="1003" y="2611"/>
                </a:lnTo>
                <a:lnTo>
                  <a:pt x="1010" y="2614"/>
                </a:lnTo>
                <a:lnTo>
                  <a:pt x="1016" y="2617"/>
                </a:lnTo>
                <a:lnTo>
                  <a:pt x="1022" y="2620"/>
                </a:lnTo>
                <a:lnTo>
                  <a:pt x="1029" y="2623"/>
                </a:lnTo>
                <a:lnTo>
                  <a:pt x="1035" y="2626"/>
                </a:lnTo>
                <a:lnTo>
                  <a:pt x="1041" y="2630"/>
                </a:lnTo>
                <a:lnTo>
                  <a:pt x="1048" y="2633"/>
                </a:lnTo>
                <a:lnTo>
                  <a:pt x="1054" y="2636"/>
                </a:lnTo>
                <a:lnTo>
                  <a:pt x="1060" y="2639"/>
                </a:lnTo>
                <a:lnTo>
                  <a:pt x="1067" y="2642"/>
                </a:lnTo>
                <a:lnTo>
                  <a:pt x="1073" y="2642"/>
                </a:lnTo>
                <a:lnTo>
                  <a:pt x="1079" y="2645"/>
                </a:lnTo>
                <a:lnTo>
                  <a:pt x="1086" y="2648"/>
                </a:lnTo>
                <a:lnTo>
                  <a:pt x="1092" y="2652"/>
                </a:lnTo>
                <a:lnTo>
                  <a:pt x="1098" y="2655"/>
                </a:lnTo>
                <a:lnTo>
                  <a:pt x="1105" y="2658"/>
                </a:lnTo>
                <a:lnTo>
                  <a:pt x="1111" y="2661"/>
                </a:lnTo>
                <a:lnTo>
                  <a:pt x="1117" y="2664"/>
                </a:lnTo>
                <a:lnTo>
                  <a:pt x="1124" y="2667"/>
                </a:lnTo>
                <a:lnTo>
                  <a:pt x="1130" y="2671"/>
                </a:lnTo>
                <a:lnTo>
                  <a:pt x="1136" y="2674"/>
                </a:lnTo>
                <a:lnTo>
                  <a:pt x="1143" y="2677"/>
                </a:lnTo>
                <a:lnTo>
                  <a:pt x="1149" y="2680"/>
                </a:lnTo>
                <a:lnTo>
                  <a:pt x="1155" y="2680"/>
                </a:lnTo>
                <a:lnTo>
                  <a:pt x="1162" y="2683"/>
                </a:lnTo>
                <a:lnTo>
                  <a:pt x="1168" y="2686"/>
                </a:lnTo>
                <a:lnTo>
                  <a:pt x="1174" y="2686"/>
                </a:lnTo>
                <a:lnTo>
                  <a:pt x="1181" y="2690"/>
                </a:lnTo>
                <a:lnTo>
                  <a:pt x="1187" y="2690"/>
                </a:lnTo>
                <a:lnTo>
                  <a:pt x="1193" y="2693"/>
                </a:lnTo>
                <a:lnTo>
                  <a:pt x="1200" y="2693"/>
                </a:lnTo>
                <a:lnTo>
                  <a:pt x="1206" y="2693"/>
                </a:lnTo>
                <a:lnTo>
                  <a:pt x="1212" y="2693"/>
                </a:lnTo>
                <a:lnTo>
                  <a:pt x="1219" y="2693"/>
                </a:lnTo>
                <a:lnTo>
                  <a:pt x="1225" y="2696"/>
                </a:lnTo>
                <a:lnTo>
                  <a:pt x="1231" y="2696"/>
                </a:lnTo>
                <a:lnTo>
                  <a:pt x="1238" y="2696"/>
                </a:lnTo>
                <a:lnTo>
                  <a:pt x="1244" y="2696"/>
                </a:lnTo>
                <a:lnTo>
                  <a:pt x="1250" y="2696"/>
                </a:lnTo>
                <a:lnTo>
                  <a:pt x="1257" y="2696"/>
                </a:lnTo>
                <a:lnTo>
                  <a:pt x="0" y="2696"/>
                </a:lnTo>
                <a:close/>
              </a:path>
            </a:pathLst>
          </a:custGeom>
          <a:solidFill>
            <a:srgbClr val="c8ffc8"/>
          </a:solidFill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759960" y="14309640"/>
            <a:ext cx="1995480" cy="4280040"/>
          </a:xfrm>
          <a:custGeom>
            <a:avLst/>
            <a:gdLst/>
            <a:ahLst/>
            <a:rect l="l" t="t" r="r" b="b"/>
            <a:pathLst>
              <a:path w="1257" h="2696">
                <a:moveTo>
                  <a:pt x="0" y="2696"/>
                </a:moveTo>
                <a:lnTo>
                  <a:pt x="7" y="2696"/>
                </a:lnTo>
                <a:lnTo>
                  <a:pt x="13" y="2696"/>
                </a:lnTo>
                <a:lnTo>
                  <a:pt x="19" y="2696"/>
                </a:lnTo>
                <a:lnTo>
                  <a:pt x="26" y="2696"/>
                </a:lnTo>
                <a:lnTo>
                  <a:pt x="32" y="2696"/>
                </a:lnTo>
                <a:lnTo>
                  <a:pt x="38" y="2693"/>
                </a:lnTo>
                <a:lnTo>
                  <a:pt x="45" y="2693"/>
                </a:lnTo>
                <a:lnTo>
                  <a:pt x="51" y="2693"/>
                </a:lnTo>
                <a:lnTo>
                  <a:pt x="57" y="2693"/>
                </a:lnTo>
                <a:lnTo>
                  <a:pt x="64" y="2693"/>
                </a:lnTo>
                <a:lnTo>
                  <a:pt x="70" y="2690"/>
                </a:lnTo>
                <a:lnTo>
                  <a:pt x="76" y="2690"/>
                </a:lnTo>
                <a:lnTo>
                  <a:pt x="83" y="2686"/>
                </a:lnTo>
                <a:lnTo>
                  <a:pt x="89" y="2686"/>
                </a:lnTo>
                <a:lnTo>
                  <a:pt x="95" y="2683"/>
                </a:lnTo>
                <a:lnTo>
                  <a:pt x="102" y="2680"/>
                </a:lnTo>
                <a:lnTo>
                  <a:pt x="108" y="2677"/>
                </a:lnTo>
                <a:lnTo>
                  <a:pt x="114" y="2674"/>
                </a:lnTo>
                <a:lnTo>
                  <a:pt x="121" y="2671"/>
                </a:lnTo>
                <a:lnTo>
                  <a:pt x="127" y="2667"/>
                </a:lnTo>
                <a:lnTo>
                  <a:pt x="133" y="2664"/>
                </a:lnTo>
                <a:lnTo>
                  <a:pt x="140" y="2658"/>
                </a:lnTo>
                <a:lnTo>
                  <a:pt x="146" y="2648"/>
                </a:lnTo>
                <a:lnTo>
                  <a:pt x="152" y="2639"/>
                </a:lnTo>
                <a:lnTo>
                  <a:pt x="159" y="2630"/>
                </a:lnTo>
                <a:lnTo>
                  <a:pt x="165" y="2620"/>
                </a:lnTo>
                <a:lnTo>
                  <a:pt x="171" y="2607"/>
                </a:lnTo>
                <a:lnTo>
                  <a:pt x="178" y="2592"/>
                </a:lnTo>
                <a:lnTo>
                  <a:pt x="181" y="2573"/>
                </a:lnTo>
                <a:lnTo>
                  <a:pt x="187" y="2550"/>
                </a:lnTo>
                <a:lnTo>
                  <a:pt x="193" y="2525"/>
                </a:lnTo>
                <a:lnTo>
                  <a:pt x="200" y="2500"/>
                </a:lnTo>
                <a:lnTo>
                  <a:pt x="206" y="2468"/>
                </a:lnTo>
                <a:lnTo>
                  <a:pt x="212" y="2427"/>
                </a:lnTo>
                <a:lnTo>
                  <a:pt x="219" y="2380"/>
                </a:lnTo>
                <a:lnTo>
                  <a:pt x="225" y="2326"/>
                </a:lnTo>
                <a:lnTo>
                  <a:pt x="231" y="2272"/>
                </a:lnTo>
                <a:lnTo>
                  <a:pt x="238" y="2215"/>
                </a:lnTo>
                <a:lnTo>
                  <a:pt x="244" y="2149"/>
                </a:lnTo>
                <a:lnTo>
                  <a:pt x="250" y="2079"/>
                </a:lnTo>
                <a:lnTo>
                  <a:pt x="257" y="2003"/>
                </a:lnTo>
                <a:lnTo>
                  <a:pt x="263" y="1921"/>
                </a:lnTo>
                <a:lnTo>
                  <a:pt x="269" y="1835"/>
                </a:lnTo>
                <a:lnTo>
                  <a:pt x="276" y="1740"/>
                </a:lnTo>
                <a:lnTo>
                  <a:pt x="282" y="1639"/>
                </a:lnTo>
                <a:lnTo>
                  <a:pt x="288" y="1528"/>
                </a:lnTo>
                <a:lnTo>
                  <a:pt x="295" y="1411"/>
                </a:lnTo>
                <a:lnTo>
                  <a:pt x="301" y="1288"/>
                </a:lnTo>
                <a:lnTo>
                  <a:pt x="307" y="1158"/>
                </a:lnTo>
                <a:lnTo>
                  <a:pt x="314" y="1025"/>
                </a:lnTo>
                <a:lnTo>
                  <a:pt x="320" y="889"/>
                </a:lnTo>
                <a:lnTo>
                  <a:pt x="326" y="753"/>
                </a:lnTo>
                <a:lnTo>
                  <a:pt x="333" y="617"/>
                </a:lnTo>
                <a:lnTo>
                  <a:pt x="339" y="491"/>
                </a:lnTo>
                <a:lnTo>
                  <a:pt x="345" y="370"/>
                </a:lnTo>
                <a:lnTo>
                  <a:pt x="352" y="263"/>
                </a:lnTo>
                <a:lnTo>
                  <a:pt x="358" y="168"/>
                </a:lnTo>
                <a:lnTo>
                  <a:pt x="364" y="92"/>
                </a:lnTo>
                <a:lnTo>
                  <a:pt x="371" y="38"/>
                </a:lnTo>
                <a:lnTo>
                  <a:pt x="377" y="10"/>
                </a:lnTo>
                <a:lnTo>
                  <a:pt x="383" y="0"/>
                </a:lnTo>
                <a:lnTo>
                  <a:pt x="390" y="13"/>
                </a:lnTo>
                <a:lnTo>
                  <a:pt x="396" y="44"/>
                </a:lnTo>
                <a:lnTo>
                  <a:pt x="402" y="95"/>
                </a:lnTo>
                <a:lnTo>
                  <a:pt x="409" y="162"/>
                </a:lnTo>
                <a:lnTo>
                  <a:pt x="415" y="237"/>
                </a:lnTo>
                <a:lnTo>
                  <a:pt x="421" y="323"/>
                </a:lnTo>
                <a:lnTo>
                  <a:pt x="428" y="412"/>
                </a:lnTo>
                <a:lnTo>
                  <a:pt x="434" y="503"/>
                </a:lnTo>
                <a:lnTo>
                  <a:pt x="440" y="595"/>
                </a:lnTo>
                <a:lnTo>
                  <a:pt x="447" y="684"/>
                </a:lnTo>
                <a:lnTo>
                  <a:pt x="453" y="769"/>
                </a:lnTo>
                <a:lnTo>
                  <a:pt x="459" y="845"/>
                </a:lnTo>
                <a:lnTo>
                  <a:pt x="466" y="918"/>
                </a:lnTo>
                <a:lnTo>
                  <a:pt x="472" y="981"/>
                </a:lnTo>
                <a:lnTo>
                  <a:pt x="478" y="1044"/>
                </a:lnTo>
                <a:lnTo>
                  <a:pt x="485" y="1101"/>
                </a:lnTo>
                <a:lnTo>
                  <a:pt x="491" y="1158"/>
                </a:lnTo>
                <a:lnTo>
                  <a:pt x="497" y="1212"/>
                </a:lnTo>
                <a:lnTo>
                  <a:pt x="504" y="1269"/>
                </a:lnTo>
                <a:lnTo>
                  <a:pt x="510" y="1326"/>
                </a:lnTo>
                <a:lnTo>
                  <a:pt x="516" y="1386"/>
                </a:lnTo>
                <a:lnTo>
                  <a:pt x="523" y="1449"/>
                </a:lnTo>
                <a:lnTo>
                  <a:pt x="529" y="1516"/>
                </a:lnTo>
                <a:lnTo>
                  <a:pt x="535" y="1589"/>
                </a:lnTo>
                <a:lnTo>
                  <a:pt x="542" y="1661"/>
                </a:lnTo>
                <a:lnTo>
                  <a:pt x="548" y="1728"/>
                </a:lnTo>
                <a:lnTo>
                  <a:pt x="554" y="1797"/>
                </a:lnTo>
                <a:lnTo>
                  <a:pt x="560" y="1867"/>
                </a:lnTo>
                <a:lnTo>
                  <a:pt x="567" y="1937"/>
                </a:lnTo>
                <a:lnTo>
                  <a:pt x="573" y="2003"/>
                </a:lnTo>
                <a:lnTo>
                  <a:pt x="579" y="2060"/>
                </a:lnTo>
                <a:lnTo>
                  <a:pt x="586" y="2117"/>
                </a:lnTo>
                <a:lnTo>
                  <a:pt x="592" y="2168"/>
                </a:lnTo>
                <a:lnTo>
                  <a:pt x="598" y="2212"/>
                </a:lnTo>
                <a:lnTo>
                  <a:pt x="605" y="2253"/>
                </a:lnTo>
                <a:lnTo>
                  <a:pt x="611" y="2281"/>
                </a:lnTo>
                <a:lnTo>
                  <a:pt x="617" y="2304"/>
                </a:lnTo>
                <a:lnTo>
                  <a:pt x="624" y="2316"/>
                </a:lnTo>
                <a:lnTo>
                  <a:pt x="630" y="2319"/>
                </a:lnTo>
                <a:lnTo>
                  <a:pt x="636" y="2316"/>
                </a:lnTo>
                <a:lnTo>
                  <a:pt x="643" y="2307"/>
                </a:lnTo>
                <a:lnTo>
                  <a:pt x="649" y="2288"/>
                </a:lnTo>
                <a:lnTo>
                  <a:pt x="655" y="2262"/>
                </a:lnTo>
                <a:lnTo>
                  <a:pt x="662" y="2231"/>
                </a:lnTo>
                <a:lnTo>
                  <a:pt x="668" y="2193"/>
                </a:lnTo>
                <a:lnTo>
                  <a:pt x="674" y="2149"/>
                </a:lnTo>
                <a:lnTo>
                  <a:pt x="681" y="2104"/>
                </a:lnTo>
                <a:lnTo>
                  <a:pt x="687" y="2057"/>
                </a:lnTo>
                <a:lnTo>
                  <a:pt x="693" y="2009"/>
                </a:lnTo>
                <a:lnTo>
                  <a:pt x="700" y="1962"/>
                </a:lnTo>
                <a:lnTo>
                  <a:pt x="706" y="1921"/>
                </a:lnTo>
                <a:lnTo>
                  <a:pt x="712" y="1883"/>
                </a:lnTo>
                <a:lnTo>
                  <a:pt x="719" y="1851"/>
                </a:lnTo>
                <a:lnTo>
                  <a:pt x="725" y="1829"/>
                </a:lnTo>
                <a:lnTo>
                  <a:pt x="731" y="1810"/>
                </a:lnTo>
                <a:lnTo>
                  <a:pt x="738" y="1801"/>
                </a:lnTo>
                <a:lnTo>
                  <a:pt x="744" y="1801"/>
                </a:lnTo>
                <a:lnTo>
                  <a:pt x="750" y="1804"/>
                </a:lnTo>
                <a:lnTo>
                  <a:pt x="757" y="1816"/>
                </a:lnTo>
                <a:lnTo>
                  <a:pt x="763" y="1835"/>
                </a:lnTo>
                <a:lnTo>
                  <a:pt x="769" y="1857"/>
                </a:lnTo>
                <a:lnTo>
                  <a:pt x="776" y="1886"/>
                </a:lnTo>
                <a:lnTo>
                  <a:pt x="782" y="1918"/>
                </a:lnTo>
                <a:lnTo>
                  <a:pt x="788" y="1949"/>
                </a:lnTo>
                <a:lnTo>
                  <a:pt x="795" y="1984"/>
                </a:lnTo>
                <a:lnTo>
                  <a:pt x="801" y="2022"/>
                </a:lnTo>
                <a:lnTo>
                  <a:pt x="807" y="2057"/>
                </a:lnTo>
                <a:lnTo>
                  <a:pt x="814" y="2095"/>
                </a:lnTo>
                <a:lnTo>
                  <a:pt x="820" y="2130"/>
                </a:lnTo>
                <a:lnTo>
                  <a:pt x="826" y="2164"/>
                </a:lnTo>
                <a:lnTo>
                  <a:pt x="833" y="2199"/>
                </a:lnTo>
                <a:lnTo>
                  <a:pt x="839" y="2234"/>
                </a:lnTo>
                <a:lnTo>
                  <a:pt x="845" y="2266"/>
                </a:lnTo>
                <a:lnTo>
                  <a:pt x="852" y="2297"/>
                </a:lnTo>
                <a:lnTo>
                  <a:pt x="858" y="2326"/>
                </a:lnTo>
                <a:lnTo>
                  <a:pt x="864" y="2354"/>
                </a:lnTo>
                <a:lnTo>
                  <a:pt x="871" y="2380"/>
                </a:lnTo>
                <a:lnTo>
                  <a:pt x="877" y="2405"/>
                </a:lnTo>
                <a:lnTo>
                  <a:pt x="883" y="2427"/>
                </a:lnTo>
                <a:lnTo>
                  <a:pt x="890" y="2452"/>
                </a:lnTo>
                <a:lnTo>
                  <a:pt x="896" y="2471"/>
                </a:lnTo>
                <a:lnTo>
                  <a:pt x="902" y="2490"/>
                </a:lnTo>
                <a:lnTo>
                  <a:pt x="909" y="2503"/>
                </a:lnTo>
                <a:lnTo>
                  <a:pt x="915" y="2516"/>
                </a:lnTo>
                <a:lnTo>
                  <a:pt x="921" y="2528"/>
                </a:lnTo>
                <a:lnTo>
                  <a:pt x="928" y="2541"/>
                </a:lnTo>
                <a:lnTo>
                  <a:pt x="934" y="2550"/>
                </a:lnTo>
                <a:lnTo>
                  <a:pt x="940" y="2557"/>
                </a:lnTo>
                <a:lnTo>
                  <a:pt x="946" y="2566"/>
                </a:lnTo>
                <a:lnTo>
                  <a:pt x="953" y="2573"/>
                </a:lnTo>
                <a:lnTo>
                  <a:pt x="959" y="2579"/>
                </a:lnTo>
                <a:lnTo>
                  <a:pt x="965" y="2585"/>
                </a:lnTo>
                <a:lnTo>
                  <a:pt x="972" y="2592"/>
                </a:lnTo>
                <a:lnTo>
                  <a:pt x="978" y="2598"/>
                </a:lnTo>
                <a:lnTo>
                  <a:pt x="984" y="2601"/>
                </a:lnTo>
                <a:lnTo>
                  <a:pt x="991" y="2604"/>
                </a:lnTo>
                <a:lnTo>
                  <a:pt x="997" y="2607"/>
                </a:lnTo>
                <a:lnTo>
                  <a:pt x="1003" y="2611"/>
                </a:lnTo>
                <a:lnTo>
                  <a:pt x="1010" y="2614"/>
                </a:lnTo>
                <a:lnTo>
                  <a:pt x="1016" y="2617"/>
                </a:lnTo>
                <a:lnTo>
                  <a:pt x="1022" y="2620"/>
                </a:lnTo>
                <a:lnTo>
                  <a:pt x="1029" y="2623"/>
                </a:lnTo>
                <a:lnTo>
                  <a:pt x="1035" y="2626"/>
                </a:lnTo>
                <a:lnTo>
                  <a:pt x="1041" y="2630"/>
                </a:lnTo>
                <a:lnTo>
                  <a:pt x="1048" y="2633"/>
                </a:lnTo>
                <a:lnTo>
                  <a:pt x="1054" y="2636"/>
                </a:lnTo>
                <a:lnTo>
                  <a:pt x="1060" y="2639"/>
                </a:lnTo>
                <a:lnTo>
                  <a:pt x="1067" y="2642"/>
                </a:lnTo>
                <a:lnTo>
                  <a:pt x="1073" y="2642"/>
                </a:lnTo>
                <a:lnTo>
                  <a:pt x="1079" y="2645"/>
                </a:lnTo>
                <a:lnTo>
                  <a:pt x="1086" y="2648"/>
                </a:lnTo>
                <a:lnTo>
                  <a:pt x="1092" y="2652"/>
                </a:lnTo>
                <a:lnTo>
                  <a:pt x="1098" y="2655"/>
                </a:lnTo>
                <a:lnTo>
                  <a:pt x="1105" y="2658"/>
                </a:lnTo>
                <a:lnTo>
                  <a:pt x="1111" y="2661"/>
                </a:lnTo>
                <a:lnTo>
                  <a:pt x="1117" y="2664"/>
                </a:lnTo>
                <a:lnTo>
                  <a:pt x="1124" y="2667"/>
                </a:lnTo>
                <a:lnTo>
                  <a:pt x="1130" y="2671"/>
                </a:lnTo>
                <a:lnTo>
                  <a:pt x="1136" y="2674"/>
                </a:lnTo>
                <a:lnTo>
                  <a:pt x="1143" y="2677"/>
                </a:lnTo>
                <a:lnTo>
                  <a:pt x="1149" y="2680"/>
                </a:lnTo>
                <a:lnTo>
                  <a:pt x="1155" y="2680"/>
                </a:lnTo>
                <a:lnTo>
                  <a:pt x="1162" y="2683"/>
                </a:lnTo>
                <a:lnTo>
                  <a:pt x="1168" y="2686"/>
                </a:lnTo>
                <a:lnTo>
                  <a:pt x="1174" y="2686"/>
                </a:lnTo>
                <a:lnTo>
                  <a:pt x="1181" y="2690"/>
                </a:lnTo>
                <a:lnTo>
                  <a:pt x="1187" y="2690"/>
                </a:lnTo>
                <a:lnTo>
                  <a:pt x="1193" y="2693"/>
                </a:lnTo>
                <a:lnTo>
                  <a:pt x="1200" y="2693"/>
                </a:lnTo>
                <a:lnTo>
                  <a:pt x="1206" y="2693"/>
                </a:lnTo>
                <a:lnTo>
                  <a:pt x="1212" y="2693"/>
                </a:lnTo>
                <a:lnTo>
                  <a:pt x="1219" y="2693"/>
                </a:lnTo>
                <a:lnTo>
                  <a:pt x="1225" y="2696"/>
                </a:lnTo>
                <a:lnTo>
                  <a:pt x="1231" y="2696"/>
                </a:lnTo>
                <a:lnTo>
                  <a:pt x="1238" y="2696"/>
                </a:lnTo>
                <a:lnTo>
                  <a:pt x="1244" y="2696"/>
                </a:lnTo>
                <a:lnTo>
                  <a:pt x="1250" y="2696"/>
                </a:lnTo>
                <a:lnTo>
                  <a:pt x="1257" y="2696"/>
                </a:lnTo>
              </a:path>
            </a:pathLst>
          </a:custGeom>
          <a:noFill/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0785600" y="18589680"/>
            <a:ext cx="14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10991880" y="18579600"/>
            <a:ext cx="9360" cy="9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1202840" y="18573840"/>
            <a:ext cx="14400" cy="15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11418840" y="18573840"/>
            <a:ext cx="14400" cy="15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1628360" y="18569160"/>
            <a:ext cx="20880" cy="205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11820240" y="18543600"/>
            <a:ext cx="44280" cy="460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985480" y="18494280"/>
            <a:ext cx="95400" cy="954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12145680" y="18438480"/>
            <a:ext cx="145800" cy="150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2322080" y="18399240"/>
            <a:ext cx="185760" cy="190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12498480" y="18364320"/>
            <a:ext cx="225360" cy="2253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2644280" y="18292680"/>
            <a:ext cx="295560" cy="2970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12769560" y="18202320"/>
            <a:ext cx="385560" cy="3873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2890520" y="18111960"/>
            <a:ext cx="480960" cy="477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 flipV="1">
            <a:off x="13004280" y="18011520"/>
            <a:ext cx="582840" cy="5778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115880" y="17900640"/>
            <a:ext cx="687600" cy="689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 flipV="1">
            <a:off x="13210920" y="17786160"/>
            <a:ext cx="809640" cy="8031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3311360" y="17665560"/>
            <a:ext cx="925200" cy="9241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 flipV="1">
            <a:off x="13412880" y="17549280"/>
            <a:ext cx="1033200" cy="1040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3517640" y="17444880"/>
            <a:ext cx="1144440" cy="11448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13633200" y="17343360"/>
            <a:ext cx="1245960" cy="1246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3773240" y="17268840"/>
            <a:ext cx="417600" cy="4111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812920" y="18303840"/>
            <a:ext cx="282600" cy="285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 flipV="1">
            <a:off x="15220800" y="18498960"/>
            <a:ext cx="90720" cy="90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486120" y="18550080"/>
            <a:ext cx="41040" cy="396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 flipV="1">
            <a:off x="15722280" y="18568800"/>
            <a:ext cx="20520" cy="205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5948000" y="18579960"/>
            <a:ext cx="11160" cy="9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16170120" y="18589680"/>
            <a:ext cx="50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0463040" y="17264160"/>
            <a:ext cx="6039000" cy="1325520"/>
          </a:xfrm>
          <a:custGeom>
            <a:avLst/>
            <a:gdLst/>
            <a:ahLst/>
            <a:rect l="l" t="t" r="r" b="b"/>
            <a:pathLst>
              <a:path w="3804" h="835">
                <a:moveTo>
                  <a:pt x="0" y="835"/>
                </a:moveTo>
                <a:lnTo>
                  <a:pt x="19" y="835"/>
                </a:lnTo>
                <a:lnTo>
                  <a:pt x="38" y="835"/>
                </a:lnTo>
                <a:lnTo>
                  <a:pt x="57" y="835"/>
                </a:lnTo>
                <a:lnTo>
                  <a:pt x="76" y="835"/>
                </a:lnTo>
                <a:lnTo>
                  <a:pt x="95" y="835"/>
                </a:lnTo>
                <a:lnTo>
                  <a:pt x="114" y="835"/>
                </a:lnTo>
                <a:lnTo>
                  <a:pt x="133" y="835"/>
                </a:lnTo>
                <a:lnTo>
                  <a:pt x="152" y="835"/>
                </a:lnTo>
                <a:lnTo>
                  <a:pt x="171" y="835"/>
                </a:lnTo>
                <a:lnTo>
                  <a:pt x="190" y="835"/>
                </a:lnTo>
                <a:lnTo>
                  <a:pt x="209" y="835"/>
                </a:lnTo>
                <a:lnTo>
                  <a:pt x="228" y="832"/>
                </a:lnTo>
                <a:lnTo>
                  <a:pt x="247" y="832"/>
                </a:lnTo>
                <a:lnTo>
                  <a:pt x="266" y="832"/>
                </a:lnTo>
                <a:lnTo>
                  <a:pt x="285" y="832"/>
                </a:lnTo>
                <a:lnTo>
                  <a:pt x="304" y="832"/>
                </a:lnTo>
                <a:lnTo>
                  <a:pt x="323" y="829"/>
                </a:lnTo>
                <a:lnTo>
                  <a:pt x="345" y="829"/>
                </a:lnTo>
                <a:lnTo>
                  <a:pt x="364" y="829"/>
                </a:lnTo>
                <a:lnTo>
                  <a:pt x="383" y="829"/>
                </a:lnTo>
                <a:lnTo>
                  <a:pt x="402" y="829"/>
                </a:lnTo>
                <a:lnTo>
                  <a:pt x="421" y="825"/>
                </a:lnTo>
                <a:lnTo>
                  <a:pt x="440" y="825"/>
                </a:lnTo>
                <a:lnTo>
                  <a:pt x="459" y="825"/>
                </a:lnTo>
                <a:lnTo>
                  <a:pt x="478" y="825"/>
                </a:lnTo>
                <a:lnTo>
                  <a:pt x="497" y="825"/>
                </a:lnTo>
                <a:lnTo>
                  <a:pt x="516" y="825"/>
                </a:lnTo>
                <a:lnTo>
                  <a:pt x="535" y="825"/>
                </a:lnTo>
                <a:lnTo>
                  <a:pt x="554" y="825"/>
                </a:lnTo>
                <a:lnTo>
                  <a:pt x="573" y="825"/>
                </a:lnTo>
                <a:lnTo>
                  <a:pt x="592" y="825"/>
                </a:lnTo>
                <a:lnTo>
                  <a:pt x="611" y="825"/>
                </a:lnTo>
                <a:lnTo>
                  <a:pt x="630" y="825"/>
                </a:lnTo>
                <a:lnTo>
                  <a:pt x="649" y="825"/>
                </a:lnTo>
                <a:lnTo>
                  <a:pt x="668" y="825"/>
                </a:lnTo>
                <a:lnTo>
                  <a:pt x="687" y="825"/>
                </a:lnTo>
                <a:lnTo>
                  <a:pt x="706" y="825"/>
                </a:lnTo>
                <a:lnTo>
                  <a:pt x="725" y="822"/>
                </a:lnTo>
                <a:lnTo>
                  <a:pt x="744" y="822"/>
                </a:lnTo>
                <a:lnTo>
                  <a:pt x="763" y="819"/>
                </a:lnTo>
                <a:lnTo>
                  <a:pt x="782" y="819"/>
                </a:lnTo>
                <a:lnTo>
                  <a:pt x="801" y="816"/>
                </a:lnTo>
                <a:lnTo>
                  <a:pt x="820" y="813"/>
                </a:lnTo>
                <a:lnTo>
                  <a:pt x="842" y="810"/>
                </a:lnTo>
                <a:lnTo>
                  <a:pt x="861" y="806"/>
                </a:lnTo>
                <a:lnTo>
                  <a:pt x="880" y="800"/>
                </a:lnTo>
                <a:lnTo>
                  <a:pt x="899" y="797"/>
                </a:lnTo>
                <a:lnTo>
                  <a:pt x="918" y="791"/>
                </a:lnTo>
                <a:lnTo>
                  <a:pt x="937" y="784"/>
                </a:lnTo>
                <a:lnTo>
                  <a:pt x="956" y="778"/>
                </a:lnTo>
                <a:lnTo>
                  <a:pt x="975" y="772"/>
                </a:lnTo>
                <a:lnTo>
                  <a:pt x="994" y="765"/>
                </a:lnTo>
                <a:lnTo>
                  <a:pt x="1013" y="756"/>
                </a:lnTo>
                <a:lnTo>
                  <a:pt x="1032" y="750"/>
                </a:lnTo>
                <a:lnTo>
                  <a:pt x="1051" y="743"/>
                </a:lnTo>
                <a:lnTo>
                  <a:pt x="1070" y="737"/>
                </a:lnTo>
                <a:lnTo>
                  <a:pt x="1089" y="734"/>
                </a:lnTo>
                <a:lnTo>
                  <a:pt x="1108" y="727"/>
                </a:lnTo>
                <a:lnTo>
                  <a:pt x="1127" y="724"/>
                </a:lnTo>
                <a:lnTo>
                  <a:pt x="1146" y="721"/>
                </a:lnTo>
                <a:lnTo>
                  <a:pt x="1165" y="718"/>
                </a:lnTo>
                <a:lnTo>
                  <a:pt x="1184" y="712"/>
                </a:lnTo>
                <a:lnTo>
                  <a:pt x="1203" y="708"/>
                </a:lnTo>
                <a:lnTo>
                  <a:pt x="1222" y="705"/>
                </a:lnTo>
                <a:lnTo>
                  <a:pt x="1241" y="702"/>
                </a:lnTo>
                <a:lnTo>
                  <a:pt x="1260" y="699"/>
                </a:lnTo>
                <a:lnTo>
                  <a:pt x="1279" y="693"/>
                </a:lnTo>
                <a:lnTo>
                  <a:pt x="1298" y="686"/>
                </a:lnTo>
                <a:lnTo>
                  <a:pt x="1317" y="677"/>
                </a:lnTo>
                <a:lnTo>
                  <a:pt x="1339" y="670"/>
                </a:lnTo>
                <a:lnTo>
                  <a:pt x="1358" y="658"/>
                </a:lnTo>
                <a:lnTo>
                  <a:pt x="1377" y="648"/>
                </a:lnTo>
                <a:lnTo>
                  <a:pt x="1396" y="636"/>
                </a:lnTo>
                <a:lnTo>
                  <a:pt x="1415" y="623"/>
                </a:lnTo>
                <a:lnTo>
                  <a:pt x="1434" y="607"/>
                </a:lnTo>
                <a:lnTo>
                  <a:pt x="1453" y="594"/>
                </a:lnTo>
                <a:lnTo>
                  <a:pt x="1472" y="579"/>
                </a:lnTo>
                <a:lnTo>
                  <a:pt x="1491" y="566"/>
                </a:lnTo>
                <a:lnTo>
                  <a:pt x="1510" y="550"/>
                </a:lnTo>
                <a:lnTo>
                  <a:pt x="1529" y="534"/>
                </a:lnTo>
                <a:lnTo>
                  <a:pt x="1548" y="519"/>
                </a:lnTo>
                <a:lnTo>
                  <a:pt x="1567" y="503"/>
                </a:lnTo>
                <a:lnTo>
                  <a:pt x="1586" y="487"/>
                </a:lnTo>
                <a:lnTo>
                  <a:pt x="1605" y="468"/>
                </a:lnTo>
                <a:lnTo>
                  <a:pt x="1624" y="449"/>
                </a:lnTo>
                <a:lnTo>
                  <a:pt x="1643" y="430"/>
                </a:lnTo>
                <a:lnTo>
                  <a:pt x="1662" y="411"/>
                </a:lnTo>
                <a:lnTo>
                  <a:pt x="1680" y="389"/>
                </a:lnTo>
                <a:lnTo>
                  <a:pt x="1699" y="367"/>
                </a:lnTo>
                <a:lnTo>
                  <a:pt x="1718" y="345"/>
                </a:lnTo>
                <a:lnTo>
                  <a:pt x="1737" y="319"/>
                </a:lnTo>
                <a:lnTo>
                  <a:pt x="1756" y="297"/>
                </a:lnTo>
                <a:lnTo>
                  <a:pt x="1775" y="275"/>
                </a:lnTo>
                <a:lnTo>
                  <a:pt x="1794" y="250"/>
                </a:lnTo>
                <a:lnTo>
                  <a:pt x="1817" y="227"/>
                </a:lnTo>
                <a:lnTo>
                  <a:pt x="1836" y="205"/>
                </a:lnTo>
                <a:lnTo>
                  <a:pt x="1855" y="183"/>
                </a:lnTo>
                <a:lnTo>
                  <a:pt x="1873" y="164"/>
                </a:lnTo>
                <a:lnTo>
                  <a:pt x="1892" y="145"/>
                </a:lnTo>
                <a:lnTo>
                  <a:pt x="1911" y="126"/>
                </a:lnTo>
                <a:lnTo>
                  <a:pt x="1930" y="107"/>
                </a:lnTo>
                <a:lnTo>
                  <a:pt x="1949" y="88"/>
                </a:lnTo>
                <a:lnTo>
                  <a:pt x="1968" y="72"/>
                </a:lnTo>
                <a:lnTo>
                  <a:pt x="1987" y="57"/>
                </a:lnTo>
                <a:lnTo>
                  <a:pt x="2006" y="41"/>
                </a:lnTo>
                <a:lnTo>
                  <a:pt x="2025" y="28"/>
                </a:lnTo>
                <a:lnTo>
                  <a:pt x="2044" y="19"/>
                </a:lnTo>
                <a:lnTo>
                  <a:pt x="2063" y="9"/>
                </a:lnTo>
                <a:lnTo>
                  <a:pt x="2082" y="3"/>
                </a:lnTo>
                <a:lnTo>
                  <a:pt x="2101" y="0"/>
                </a:lnTo>
                <a:lnTo>
                  <a:pt x="2120" y="3"/>
                </a:lnTo>
                <a:lnTo>
                  <a:pt x="2139" y="6"/>
                </a:lnTo>
                <a:lnTo>
                  <a:pt x="2158" y="12"/>
                </a:lnTo>
                <a:lnTo>
                  <a:pt x="2177" y="25"/>
                </a:lnTo>
                <a:lnTo>
                  <a:pt x="2196" y="41"/>
                </a:lnTo>
                <a:lnTo>
                  <a:pt x="2215" y="63"/>
                </a:lnTo>
                <a:lnTo>
                  <a:pt x="2234" y="85"/>
                </a:lnTo>
                <a:lnTo>
                  <a:pt x="2253" y="110"/>
                </a:lnTo>
                <a:lnTo>
                  <a:pt x="2272" y="139"/>
                </a:lnTo>
                <a:lnTo>
                  <a:pt x="2291" y="171"/>
                </a:lnTo>
                <a:lnTo>
                  <a:pt x="2313" y="202"/>
                </a:lnTo>
                <a:lnTo>
                  <a:pt x="2332" y="237"/>
                </a:lnTo>
                <a:lnTo>
                  <a:pt x="2351" y="269"/>
                </a:lnTo>
                <a:lnTo>
                  <a:pt x="2370" y="303"/>
                </a:lnTo>
                <a:lnTo>
                  <a:pt x="2389" y="335"/>
                </a:lnTo>
                <a:lnTo>
                  <a:pt x="2408" y="364"/>
                </a:lnTo>
                <a:lnTo>
                  <a:pt x="2427" y="395"/>
                </a:lnTo>
                <a:lnTo>
                  <a:pt x="2446" y="420"/>
                </a:lnTo>
                <a:lnTo>
                  <a:pt x="2465" y="446"/>
                </a:lnTo>
                <a:lnTo>
                  <a:pt x="2484" y="471"/>
                </a:lnTo>
                <a:lnTo>
                  <a:pt x="2503" y="490"/>
                </a:lnTo>
                <a:lnTo>
                  <a:pt x="2522" y="509"/>
                </a:lnTo>
                <a:lnTo>
                  <a:pt x="2541" y="528"/>
                </a:lnTo>
                <a:lnTo>
                  <a:pt x="2560" y="541"/>
                </a:lnTo>
                <a:lnTo>
                  <a:pt x="2579" y="557"/>
                </a:lnTo>
                <a:lnTo>
                  <a:pt x="2598" y="569"/>
                </a:lnTo>
                <a:lnTo>
                  <a:pt x="2617" y="582"/>
                </a:lnTo>
                <a:lnTo>
                  <a:pt x="2636" y="594"/>
                </a:lnTo>
                <a:lnTo>
                  <a:pt x="2655" y="604"/>
                </a:lnTo>
                <a:lnTo>
                  <a:pt x="2674" y="617"/>
                </a:lnTo>
                <a:lnTo>
                  <a:pt x="2693" y="629"/>
                </a:lnTo>
                <a:lnTo>
                  <a:pt x="2712" y="639"/>
                </a:lnTo>
                <a:lnTo>
                  <a:pt x="2731" y="651"/>
                </a:lnTo>
                <a:lnTo>
                  <a:pt x="2750" y="664"/>
                </a:lnTo>
                <a:lnTo>
                  <a:pt x="2769" y="677"/>
                </a:lnTo>
                <a:lnTo>
                  <a:pt x="2788" y="686"/>
                </a:lnTo>
                <a:lnTo>
                  <a:pt x="2810" y="699"/>
                </a:lnTo>
                <a:lnTo>
                  <a:pt x="2829" y="708"/>
                </a:lnTo>
                <a:lnTo>
                  <a:pt x="2848" y="721"/>
                </a:lnTo>
                <a:lnTo>
                  <a:pt x="2867" y="731"/>
                </a:lnTo>
                <a:lnTo>
                  <a:pt x="2886" y="740"/>
                </a:lnTo>
                <a:lnTo>
                  <a:pt x="2905" y="746"/>
                </a:lnTo>
                <a:lnTo>
                  <a:pt x="2924" y="756"/>
                </a:lnTo>
                <a:lnTo>
                  <a:pt x="2943" y="762"/>
                </a:lnTo>
                <a:lnTo>
                  <a:pt x="2962" y="769"/>
                </a:lnTo>
                <a:lnTo>
                  <a:pt x="2981" y="775"/>
                </a:lnTo>
                <a:lnTo>
                  <a:pt x="3000" y="778"/>
                </a:lnTo>
                <a:lnTo>
                  <a:pt x="3019" y="784"/>
                </a:lnTo>
                <a:lnTo>
                  <a:pt x="3038" y="787"/>
                </a:lnTo>
                <a:lnTo>
                  <a:pt x="3057" y="794"/>
                </a:lnTo>
                <a:lnTo>
                  <a:pt x="3076" y="797"/>
                </a:lnTo>
                <a:lnTo>
                  <a:pt x="3095" y="800"/>
                </a:lnTo>
                <a:lnTo>
                  <a:pt x="3114" y="803"/>
                </a:lnTo>
                <a:lnTo>
                  <a:pt x="3133" y="806"/>
                </a:lnTo>
                <a:lnTo>
                  <a:pt x="3152" y="810"/>
                </a:lnTo>
                <a:lnTo>
                  <a:pt x="3171" y="810"/>
                </a:lnTo>
                <a:lnTo>
                  <a:pt x="3190" y="813"/>
                </a:lnTo>
                <a:lnTo>
                  <a:pt x="3209" y="816"/>
                </a:lnTo>
                <a:lnTo>
                  <a:pt x="3228" y="816"/>
                </a:lnTo>
                <a:lnTo>
                  <a:pt x="3247" y="819"/>
                </a:lnTo>
                <a:lnTo>
                  <a:pt x="3266" y="819"/>
                </a:lnTo>
                <a:lnTo>
                  <a:pt x="3285" y="819"/>
                </a:lnTo>
                <a:lnTo>
                  <a:pt x="3307" y="822"/>
                </a:lnTo>
                <a:lnTo>
                  <a:pt x="3326" y="822"/>
                </a:lnTo>
                <a:lnTo>
                  <a:pt x="3345" y="822"/>
                </a:lnTo>
                <a:lnTo>
                  <a:pt x="3364" y="825"/>
                </a:lnTo>
                <a:lnTo>
                  <a:pt x="3383" y="825"/>
                </a:lnTo>
                <a:lnTo>
                  <a:pt x="3402" y="825"/>
                </a:lnTo>
                <a:lnTo>
                  <a:pt x="3421" y="829"/>
                </a:lnTo>
                <a:lnTo>
                  <a:pt x="3440" y="829"/>
                </a:lnTo>
                <a:lnTo>
                  <a:pt x="3459" y="829"/>
                </a:lnTo>
                <a:lnTo>
                  <a:pt x="3478" y="829"/>
                </a:lnTo>
                <a:lnTo>
                  <a:pt x="3497" y="832"/>
                </a:lnTo>
                <a:lnTo>
                  <a:pt x="3516" y="832"/>
                </a:lnTo>
                <a:lnTo>
                  <a:pt x="3535" y="832"/>
                </a:lnTo>
                <a:lnTo>
                  <a:pt x="3554" y="832"/>
                </a:lnTo>
                <a:lnTo>
                  <a:pt x="3573" y="832"/>
                </a:lnTo>
                <a:lnTo>
                  <a:pt x="3592" y="835"/>
                </a:lnTo>
                <a:lnTo>
                  <a:pt x="3610" y="835"/>
                </a:lnTo>
                <a:lnTo>
                  <a:pt x="3629" y="835"/>
                </a:lnTo>
                <a:lnTo>
                  <a:pt x="3648" y="835"/>
                </a:lnTo>
                <a:lnTo>
                  <a:pt x="3667" y="835"/>
                </a:lnTo>
                <a:lnTo>
                  <a:pt x="3686" y="835"/>
                </a:lnTo>
                <a:lnTo>
                  <a:pt x="3705" y="835"/>
                </a:lnTo>
                <a:lnTo>
                  <a:pt x="3724" y="835"/>
                </a:lnTo>
                <a:lnTo>
                  <a:pt x="3743" y="835"/>
                </a:lnTo>
                <a:lnTo>
                  <a:pt x="3762" y="835"/>
                </a:lnTo>
                <a:lnTo>
                  <a:pt x="3781" y="835"/>
                </a:lnTo>
                <a:lnTo>
                  <a:pt x="3804" y="835"/>
                </a:lnTo>
              </a:path>
            </a:pathLst>
          </a:custGeom>
          <a:noFill/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316840" y="20724840"/>
            <a:ext cx="63612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Key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84920" y="20591640"/>
            <a:ext cx="703440" cy="561960"/>
          </a:xfrm>
          <a:prstGeom prst="rect">
            <a:avLst/>
          </a:prstGeom>
          <a:solidFill>
            <a:srgbClr val="c8ffc8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84920" y="20591640"/>
            <a:ext cx="703440" cy="56196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6772320" y="21166200"/>
            <a:ext cx="7286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683480" y="20724840"/>
            <a:ext cx="82080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950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9675360" y="21061080"/>
            <a:ext cx="109800" cy="1047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675720" y="20845440"/>
            <a:ext cx="325440" cy="3207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 flipV="1">
            <a:off x="9675360" y="20629080"/>
            <a:ext cx="536760" cy="5367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9840960" y="20578680"/>
            <a:ext cx="561960" cy="5619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 flipV="1">
            <a:off x="10056600" y="20578680"/>
            <a:ext cx="345960" cy="346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0272600" y="20578680"/>
            <a:ext cx="130320" cy="130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9688680" y="20591640"/>
            <a:ext cx="701640" cy="56196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9675720" y="21166200"/>
            <a:ext cx="72720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0587240" y="20724840"/>
            <a:ext cx="82080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990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24160" y="485136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554200" y="4851360"/>
            <a:ext cx="68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0</a:t>
            </a: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0</a:t>
            </a: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916160" y="4851360"/>
            <a:ext cx="68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00</a:t>
            </a: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02160" y="4851360"/>
            <a:ext cx="683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300</a:t>
            </a: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621480" y="792000"/>
            <a:ext cx="352440" cy="281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023600" y="716040"/>
            <a:ext cx="9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Palatino"/>
              </a:rPr>
              <a:t>195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023600" y="1219320"/>
            <a:ext cx="9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Palatino"/>
              </a:rPr>
              <a:t>199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900080" y="5229360"/>
            <a:ext cx="4472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Palatino"/>
              </a:rPr>
              <a:t>Hooks per operation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31800" y="4724280"/>
            <a:ext cx="1440" cy="795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935440" y="4724280"/>
            <a:ext cx="1440" cy="795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240160" y="4724280"/>
            <a:ext cx="1800" cy="795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43800" y="4724280"/>
            <a:ext cx="1440" cy="795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1800" y="4724280"/>
            <a:ext cx="6912000" cy="1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42960" y="784080"/>
            <a:ext cx="2225520" cy="3889440"/>
          </a:xfrm>
          <a:custGeom>
            <a:avLst/>
            <a:gdLst/>
            <a:ahLst/>
            <a:rect l="l" t="t" r="r" b="b"/>
            <a:pathLst>
              <a:path w="1402" h="2450">
                <a:moveTo>
                  <a:pt x="0" y="2442"/>
                </a:moveTo>
                <a:lnTo>
                  <a:pt x="7" y="2442"/>
                </a:lnTo>
                <a:lnTo>
                  <a:pt x="14" y="2435"/>
                </a:lnTo>
                <a:lnTo>
                  <a:pt x="22" y="2435"/>
                </a:lnTo>
                <a:lnTo>
                  <a:pt x="29" y="2435"/>
                </a:lnTo>
                <a:lnTo>
                  <a:pt x="36" y="2428"/>
                </a:lnTo>
                <a:lnTo>
                  <a:pt x="43" y="2428"/>
                </a:lnTo>
                <a:lnTo>
                  <a:pt x="50" y="2421"/>
                </a:lnTo>
                <a:lnTo>
                  <a:pt x="57" y="2421"/>
                </a:lnTo>
                <a:lnTo>
                  <a:pt x="64" y="2414"/>
                </a:lnTo>
                <a:lnTo>
                  <a:pt x="78" y="2400"/>
                </a:lnTo>
                <a:lnTo>
                  <a:pt x="78" y="2393"/>
                </a:lnTo>
                <a:lnTo>
                  <a:pt x="93" y="2386"/>
                </a:lnTo>
                <a:lnTo>
                  <a:pt x="100" y="2371"/>
                </a:lnTo>
                <a:lnTo>
                  <a:pt x="100" y="2357"/>
                </a:lnTo>
                <a:lnTo>
                  <a:pt x="114" y="2336"/>
                </a:lnTo>
                <a:lnTo>
                  <a:pt x="121" y="2322"/>
                </a:lnTo>
                <a:lnTo>
                  <a:pt x="128" y="2300"/>
                </a:lnTo>
                <a:lnTo>
                  <a:pt x="135" y="2272"/>
                </a:lnTo>
                <a:lnTo>
                  <a:pt x="142" y="2244"/>
                </a:lnTo>
                <a:lnTo>
                  <a:pt x="150" y="2208"/>
                </a:lnTo>
                <a:lnTo>
                  <a:pt x="157" y="2166"/>
                </a:lnTo>
                <a:lnTo>
                  <a:pt x="164" y="2116"/>
                </a:lnTo>
                <a:lnTo>
                  <a:pt x="178" y="2066"/>
                </a:lnTo>
                <a:lnTo>
                  <a:pt x="178" y="2016"/>
                </a:lnTo>
                <a:lnTo>
                  <a:pt x="185" y="1960"/>
                </a:lnTo>
                <a:lnTo>
                  <a:pt x="199" y="1896"/>
                </a:lnTo>
                <a:lnTo>
                  <a:pt x="199" y="1825"/>
                </a:lnTo>
                <a:lnTo>
                  <a:pt x="214" y="1747"/>
                </a:lnTo>
                <a:lnTo>
                  <a:pt x="221" y="1669"/>
                </a:lnTo>
                <a:lnTo>
                  <a:pt x="228" y="1583"/>
                </a:lnTo>
                <a:lnTo>
                  <a:pt x="235" y="1491"/>
                </a:lnTo>
                <a:lnTo>
                  <a:pt x="242" y="1392"/>
                </a:lnTo>
                <a:lnTo>
                  <a:pt x="249" y="1285"/>
                </a:lnTo>
                <a:lnTo>
                  <a:pt x="256" y="1172"/>
                </a:lnTo>
                <a:lnTo>
                  <a:pt x="263" y="1051"/>
                </a:lnTo>
                <a:lnTo>
                  <a:pt x="271" y="930"/>
                </a:lnTo>
                <a:lnTo>
                  <a:pt x="278" y="810"/>
                </a:lnTo>
                <a:lnTo>
                  <a:pt x="285" y="682"/>
                </a:lnTo>
                <a:lnTo>
                  <a:pt x="292" y="561"/>
                </a:lnTo>
                <a:lnTo>
                  <a:pt x="299" y="448"/>
                </a:lnTo>
                <a:lnTo>
                  <a:pt x="313" y="341"/>
                </a:lnTo>
                <a:lnTo>
                  <a:pt x="320" y="242"/>
                </a:lnTo>
                <a:lnTo>
                  <a:pt x="320" y="156"/>
                </a:lnTo>
                <a:lnTo>
                  <a:pt x="335" y="85"/>
                </a:lnTo>
                <a:lnTo>
                  <a:pt x="342" y="36"/>
                </a:lnTo>
                <a:lnTo>
                  <a:pt x="349" y="15"/>
                </a:lnTo>
                <a:lnTo>
                  <a:pt x="356" y="0"/>
                </a:lnTo>
                <a:lnTo>
                  <a:pt x="363" y="15"/>
                </a:lnTo>
                <a:lnTo>
                  <a:pt x="370" y="43"/>
                </a:lnTo>
                <a:lnTo>
                  <a:pt x="377" y="85"/>
                </a:lnTo>
                <a:lnTo>
                  <a:pt x="384" y="149"/>
                </a:lnTo>
                <a:lnTo>
                  <a:pt x="392" y="220"/>
                </a:lnTo>
                <a:lnTo>
                  <a:pt x="399" y="291"/>
                </a:lnTo>
                <a:lnTo>
                  <a:pt x="406" y="377"/>
                </a:lnTo>
                <a:lnTo>
                  <a:pt x="413" y="462"/>
                </a:lnTo>
                <a:lnTo>
                  <a:pt x="420" y="540"/>
                </a:lnTo>
                <a:lnTo>
                  <a:pt x="434" y="625"/>
                </a:lnTo>
                <a:lnTo>
                  <a:pt x="434" y="696"/>
                </a:lnTo>
                <a:lnTo>
                  <a:pt x="448" y="767"/>
                </a:lnTo>
                <a:lnTo>
                  <a:pt x="456" y="831"/>
                </a:lnTo>
                <a:lnTo>
                  <a:pt x="463" y="895"/>
                </a:lnTo>
                <a:lnTo>
                  <a:pt x="470" y="952"/>
                </a:lnTo>
                <a:lnTo>
                  <a:pt x="477" y="1001"/>
                </a:lnTo>
                <a:lnTo>
                  <a:pt x="484" y="1051"/>
                </a:lnTo>
                <a:lnTo>
                  <a:pt x="491" y="1101"/>
                </a:lnTo>
                <a:lnTo>
                  <a:pt x="498" y="1157"/>
                </a:lnTo>
                <a:lnTo>
                  <a:pt x="505" y="1207"/>
                </a:lnTo>
                <a:lnTo>
                  <a:pt x="512" y="1257"/>
                </a:lnTo>
                <a:lnTo>
                  <a:pt x="520" y="1321"/>
                </a:lnTo>
                <a:lnTo>
                  <a:pt x="534" y="1385"/>
                </a:lnTo>
                <a:lnTo>
                  <a:pt x="534" y="1441"/>
                </a:lnTo>
                <a:lnTo>
                  <a:pt x="541" y="1512"/>
                </a:lnTo>
                <a:lnTo>
                  <a:pt x="555" y="1569"/>
                </a:lnTo>
                <a:lnTo>
                  <a:pt x="555" y="1633"/>
                </a:lnTo>
                <a:lnTo>
                  <a:pt x="569" y="1704"/>
                </a:lnTo>
                <a:lnTo>
                  <a:pt x="576" y="1761"/>
                </a:lnTo>
                <a:lnTo>
                  <a:pt x="584" y="1825"/>
                </a:lnTo>
                <a:lnTo>
                  <a:pt x="591" y="1874"/>
                </a:lnTo>
                <a:lnTo>
                  <a:pt x="598" y="1924"/>
                </a:lnTo>
                <a:lnTo>
                  <a:pt x="605" y="1967"/>
                </a:lnTo>
                <a:lnTo>
                  <a:pt x="612" y="2009"/>
                </a:lnTo>
                <a:lnTo>
                  <a:pt x="619" y="2045"/>
                </a:lnTo>
                <a:lnTo>
                  <a:pt x="633" y="2080"/>
                </a:lnTo>
                <a:lnTo>
                  <a:pt x="633" y="2095"/>
                </a:lnTo>
                <a:lnTo>
                  <a:pt x="641" y="2102"/>
                </a:lnTo>
                <a:lnTo>
                  <a:pt x="655" y="2109"/>
                </a:lnTo>
                <a:lnTo>
                  <a:pt x="655" y="2102"/>
                </a:lnTo>
                <a:lnTo>
                  <a:pt x="669" y="2095"/>
                </a:lnTo>
                <a:lnTo>
                  <a:pt x="676" y="2080"/>
                </a:lnTo>
                <a:lnTo>
                  <a:pt x="676" y="2059"/>
                </a:lnTo>
                <a:lnTo>
                  <a:pt x="690" y="2031"/>
                </a:lnTo>
                <a:lnTo>
                  <a:pt x="697" y="1995"/>
                </a:lnTo>
                <a:lnTo>
                  <a:pt x="705" y="1960"/>
                </a:lnTo>
                <a:lnTo>
                  <a:pt x="712" y="1910"/>
                </a:lnTo>
                <a:lnTo>
                  <a:pt x="719" y="1874"/>
                </a:lnTo>
                <a:lnTo>
                  <a:pt x="726" y="1825"/>
                </a:lnTo>
                <a:lnTo>
                  <a:pt x="733" y="1789"/>
                </a:lnTo>
                <a:lnTo>
                  <a:pt x="740" y="1747"/>
                </a:lnTo>
                <a:lnTo>
                  <a:pt x="747" y="1711"/>
                </a:lnTo>
                <a:lnTo>
                  <a:pt x="754" y="1690"/>
                </a:lnTo>
                <a:lnTo>
                  <a:pt x="761" y="1662"/>
                </a:lnTo>
                <a:lnTo>
                  <a:pt x="769" y="1647"/>
                </a:lnTo>
                <a:lnTo>
                  <a:pt x="776" y="1640"/>
                </a:lnTo>
                <a:lnTo>
                  <a:pt x="790" y="1640"/>
                </a:lnTo>
                <a:lnTo>
                  <a:pt x="797" y="1640"/>
                </a:lnTo>
                <a:lnTo>
                  <a:pt x="804" y="1654"/>
                </a:lnTo>
                <a:lnTo>
                  <a:pt x="811" y="1669"/>
                </a:lnTo>
                <a:lnTo>
                  <a:pt x="818" y="1690"/>
                </a:lnTo>
                <a:lnTo>
                  <a:pt x="826" y="1711"/>
                </a:lnTo>
                <a:lnTo>
                  <a:pt x="833" y="1747"/>
                </a:lnTo>
                <a:lnTo>
                  <a:pt x="840" y="1775"/>
                </a:lnTo>
                <a:lnTo>
                  <a:pt x="847" y="1804"/>
                </a:lnTo>
                <a:lnTo>
                  <a:pt x="854" y="1839"/>
                </a:lnTo>
                <a:lnTo>
                  <a:pt x="861" y="1874"/>
                </a:lnTo>
                <a:lnTo>
                  <a:pt x="868" y="1903"/>
                </a:lnTo>
                <a:lnTo>
                  <a:pt x="875" y="1938"/>
                </a:lnTo>
                <a:lnTo>
                  <a:pt x="890" y="1967"/>
                </a:lnTo>
                <a:lnTo>
                  <a:pt x="890" y="2002"/>
                </a:lnTo>
                <a:lnTo>
                  <a:pt x="897" y="2031"/>
                </a:lnTo>
                <a:lnTo>
                  <a:pt x="911" y="2059"/>
                </a:lnTo>
                <a:lnTo>
                  <a:pt x="911" y="2087"/>
                </a:lnTo>
                <a:lnTo>
                  <a:pt x="925" y="2116"/>
                </a:lnTo>
                <a:lnTo>
                  <a:pt x="932" y="2144"/>
                </a:lnTo>
                <a:lnTo>
                  <a:pt x="939" y="2166"/>
                </a:lnTo>
                <a:lnTo>
                  <a:pt x="946" y="2187"/>
                </a:lnTo>
                <a:lnTo>
                  <a:pt x="954" y="2208"/>
                </a:lnTo>
                <a:lnTo>
                  <a:pt x="961" y="2229"/>
                </a:lnTo>
                <a:lnTo>
                  <a:pt x="968" y="2251"/>
                </a:lnTo>
                <a:lnTo>
                  <a:pt x="975" y="2265"/>
                </a:lnTo>
                <a:lnTo>
                  <a:pt x="989" y="2279"/>
                </a:lnTo>
                <a:lnTo>
                  <a:pt x="989" y="2286"/>
                </a:lnTo>
                <a:lnTo>
                  <a:pt x="996" y="2300"/>
                </a:lnTo>
                <a:lnTo>
                  <a:pt x="1010" y="2315"/>
                </a:lnTo>
                <a:lnTo>
                  <a:pt x="1010" y="2315"/>
                </a:lnTo>
                <a:lnTo>
                  <a:pt x="1025" y="2322"/>
                </a:lnTo>
                <a:lnTo>
                  <a:pt x="1032" y="2336"/>
                </a:lnTo>
                <a:lnTo>
                  <a:pt x="1032" y="2336"/>
                </a:lnTo>
                <a:lnTo>
                  <a:pt x="1046" y="2350"/>
                </a:lnTo>
                <a:lnTo>
                  <a:pt x="1053" y="2350"/>
                </a:lnTo>
                <a:lnTo>
                  <a:pt x="1060" y="2357"/>
                </a:lnTo>
                <a:lnTo>
                  <a:pt x="1067" y="2364"/>
                </a:lnTo>
                <a:lnTo>
                  <a:pt x="1075" y="2364"/>
                </a:lnTo>
                <a:lnTo>
                  <a:pt x="1082" y="2371"/>
                </a:lnTo>
                <a:lnTo>
                  <a:pt x="1089" y="2371"/>
                </a:lnTo>
                <a:lnTo>
                  <a:pt x="1096" y="2371"/>
                </a:lnTo>
                <a:lnTo>
                  <a:pt x="1110" y="2379"/>
                </a:lnTo>
                <a:lnTo>
                  <a:pt x="1110" y="2379"/>
                </a:lnTo>
                <a:lnTo>
                  <a:pt x="1117" y="2386"/>
                </a:lnTo>
                <a:lnTo>
                  <a:pt x="1131" y="2386"/>
                </a:lnTo>
                <a:lnTo>
                  <a:pt x="1131" y="2386"/>
                </a:lnTo>
                <a:lnTo>
                  <a:pt x="1146" y="2393"/>
                </a:lnTo>
                <a:lnTo>
                  <a:pt x="1153" y="2393"/>
                </a:lnTo>
                <a:lnTo>
                  <a:pt x="1160" y="2400"/>
                </a:lnTo>
                <a:lnTo>
                  <a:pt x="1167" y="2400"/>
                </a:lnTo>
                <a:lnTo>
                  <a:pt x="1174" y="2400"/>
                </a:lnTo>
                <a:lnTo>
                  <a:pt x="1181" y="2407"/>
                </a:lnTo>
                <a:lnTo>
                  <a:pt x="1188" y="2407"/>
                </a:lnTo>
                <a:lnTo>
                  <a:pt x="1195" y="2414"/>
                </a:lnTo>
                <a:lnTo>
                  <a:pt x="1203" y="2414"/>
                </a:lnTo>
                <a:lnTo>
                  <a:pt x="1210" y="2414"/>
                </a:lnTo>
                <a:lnTo>
                  <a:pt x="1217" y="2421"/>
                </a:lnTo>
                <a:lnTo>
                  <a:pt x="1224" y="2421"/>
                </a:lnTo>
                <a:lnTo>
                  <a:pt x="1231" y="2421"/>
                </a:lnTo>
                <a:lnTo>
                  <a:pt x="1245" y="2428"/>
                </a:lnTo>
                <a:lnTo>
                  <a:pt x="1252" y="2428"/>
                </a:lnTo>
                <a:lnTo>
                  <a:pt x="1252" y="2435"/>
                </a:lnTo>
                <a:lnTo>
                  <a:pt x="1267" y="2435"/>
                </a:lnTo>
                <a:lnTo>
                  <a:pt x="1274" y="2435"/>
                </a:lnTo>
                <a:lnTo>
                  <a:pt x="1281" y="2435"/>
                </a:lnTo>
                <a:lnTo>
                  <a:pt x="1288" y="2442"/>
                </a:lnTo>
                <a:lnTo>
                  <a:pt x="1295" y="2442"/>
                </a:lnTo>
                <a:lnTo>
                  <a:pt x="1302" y="2442"/>
                </a:lnTo>
                <a:lnTo>
                  <a:pt x="1309" y="2450"/>
                </a:lnTo>
                <a:lnTo>
                  <a:pt x="1316" y="2450"/>
                </a:lnTo>
                <a:lnTo>
                  <a:pt x="1324" y="2450"/>
                </a:lnTo>
                <a:lnTo>
                  <a:pt x="1331" y="2450"/>
                </a:lnTo>
                <a:lnTo>
                  <a:pt x="1345" y="2450"/>
                </a:lnTo>
                <a:lnTo>
                  <a:pt x="1345" y="2450"/>
                </a:lnTo>
                <a:lnTo>
                  <a:pt x="1352" y="2450"/>
                </a:lnTo>
                <a:lnTo>
                  <a:pt x="1366" y="2450"/>
                </a:lnTo>
                <a:lnTo>
                  <a:pt x="1366" y="2450"/>
                </a:lnTo>
                <a:lnTo>
                  <a:pt x="1380" y="2450"/>
                </a:lnTo>
                <a:lnTo>
                  <a:pt x="1388" y="2450"/>
                </a:lnTo>
                <a:lnTo>
                  <a:pt x="1388" y="2450"/>
                </a:lnTo>
                <a:lnTo>
                  <a:pt x="1402" y="2450"/>
                </a:lnTo>
                <a:lnTo>
                  <a:pt x="0" y="2442"/>
                </a:lnTo>
                <a:lnTo>
                  <a:pt x="0" y="2442"/>
                </a:lnTo>
                <a:close/>
              </a:path>
            </a:pathLst>
          </a:custGeom>
          <a:solidFill>
            <a:srgbClr val="fafd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1773000" y="4673520"/>
            <a:ext cx="11160" cy="1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066760" y="4673520"/>
            <a:ext cx="22320" cy="1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382840" y="4660920"/>
            <a:ext cx="11160" cy="126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 flipV="1">
            <a:off x="2676600" y="4660560"/>
            <a:ext cx="22320" cy="126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970360" y="4638600"/>
            <a:ext cx="33120" cy="349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3217680" y="4582800"/>
            <a:ext cx="90360" cy="903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467160" y="4525920"/>
            <a:ext cx="146160" cy="1476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H="1" flipV="1">
            <a:off x="3727080" y="4481280"/>
            <a:ext cx="190440" cy="1918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63960" y="4402080"/>
            <a:ext cx="271440" cy="27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H="1" flipV="1">
            <a:off x="4155840" y="4300560"/>
            <a:ext cx="384120" cy="3729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48080" y="4187880"/>
            <a:ext cx="496800" cy="4856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4529160" y="4052880"/>
            <a:ext cx="620640" cy="6206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686480" y="3906720"/>
            <a:ext cx="768240" cy="766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 flipV="1">
            <a:off x="4855680" y="3759120"/>
            <a:ext cx="903240" cy="9144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014800" y="3624120"/>
            <a:ext cx="1049400" cy="10494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5194440" y="3499920"/>
            <a:ext cx="1187280" cy="11732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465880" y="3467160"/>
            <a:ext cx="226800" cy="2253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6357960" y="4357800"/>
            <a:ext cx="328680" cy="3157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6878160" y="4572000"/>
            <a:ext cx="112680" cy="1015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250040" y="4627440"/>
            <a:ext cx="46080" cy="460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7567200" y="4627440"/>
            <a:ext cx="33480" cy="460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872480" y="4649760"/>
            <a:ext cx="44280" cy="237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8210160" y="4673520"/>
            <a:ext cx="11160" cy="1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515440" y="4673520"/>
            <a:ext cx="1440" cy="1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09680" y="3433680"/>
            <a:ext cx="7318440" cy="1239840"/>
          </a:xfrm>
          <a:custGeom>
            <a:avLst/>
            <a:gdLst/>
            <a:ahLst/>
            <a:rect l="l" t="t" r="r" b="b"/>
            <a:pathLst>
              <a:path w="4610" h="781">
                <a:moveTo>
                  <a:pt x="0" y="781"/>
                </a:moveTo>
                <a:lnTo>
                  <a:pt x="28" y="781"/>
                </a:lnTo>
                <a:lnTo>
                  <a:pt x="50" y="781"/>
                </a:lnTo>
                <a:lnTo>
                  <a:pt x="78" y="781"/>
                </a:lnTo>
                <a:lnTo>
                  <a:pt x="100" y="781"/>
                </a:lnTo>
                <a:lnTo>
                  <a:pt x="121" y="781"/>
                </a:lnTo>
                <a:lnTo>
                  <a:pt x="142" y="781"/>
                </a:lnTo>
                <a:lnTo>
                  <a:pt x="164" y="781"/>
                </a:lnTo>
                <a:lnTo>
                  <a:pt x="185" y="781"/>
                </a:lnTo>
                <a:lnTo>
                  <a:pt x="213" y="781"/>
                </a:lnTo>
                <a:lnTo>
                  <a:pt x="235" y="781"/>
                </a:lnTo>
                <a:lnTo>
                  <a:pt x="256" y="781"/>
                </a:lnTo>
                <a:lnTo>
                  <a:pt x="285" y="781"/>
                </a:lnTo>
                <a:lnTo>
                  <a:pt x="306" y="781"/>
                </a:lnTo>
                <a:lnTo>
                  <a:pt x="327" y="781"/>
                </a:lnTo>
                <a:lnTo>
                  <a:pt x="349" y="781"/>
                </a:lnTo>
                <a:lnTo>
                  <a:pt x="377" y="781"/>
                </a:lnTo>
                <a:lnTo>
                  <a:pt x="398" y="781"/>
                </a:lnTo>
                <a:lnTo>
                  <a:pt x="420" y="781"/>
                </a:lnTo>
                <a:lnTo>
                  <a:pt x="441" y="781"/>
                </a:lnTo>
                <a:lnTo>
                  <a:pt x="470" y="781"/>
                </a:lnTo>
                <a:lnTo>
                  <a:pt x="491" y="781"/>
                </a:lnTo>
                <a:lnTo>
                  <a:pt x="512" y="781"/>
                </a:lnTo>
                <a:lnTo>
                  <a:pt x="541" y="781"/>
                </a:lnTo>
                <a:lnTo>
                  <a:pt x="562" y="773"/>
                </a:lnTo>
                <a:lnTo>
                  <a:pt x="583" y="773"/>
                </a:lnTo>
                <a:lnTo>
                  <a:pt x="605" y="773"/>
                </a:lnTo>
                <a:lnTo>
                  <a:pt x="626" y="773"/>
                </a:lnTo>
                <a:lnTo>
                  <a:pt x="655" y="773"/>
                </a:lnTo>
                <a:lnTo>
                  <a:pt x="676" y="773"/>
                </a:lnTo>
                <a:lnTo>
                  <a:pt x="697" y="773"/>
                </a:lnTo>
                <a:lnTo>
                  <a:pt x="726" y="773"/>
                </a:lnTo>
                <a:lnTo>
                  <a:pt x="747" y="773"/>
                </a:lnTo>
                <a:lnTo>
                  <a:pt x="768" y="773"/>
                </a:lnTo>
                <a:lnTo>
                  <a:pt x="790" y="773"/>
                </a:lnTo>
                <a:lnTo>
                  <a:pt x="811" y="773"/>
                </a:lnTo>
                <a:lnTo>
                  <a:pt x="832" y="773"/>
                </a:lnTo>
                <a:lnTo>
                  <a:pt x="861" y="773"/>
                </a:lnTo>
                <a:lnTo>
                  <a:pt x="882" y="773"/>
                </a:lnTo>
                <a:lnTo>
                  <a:pt x="911" y="773"/>
                </a:lnTo>
                <a:lnTo>
                  <a:pt x="932" y="766"/>
                </a:lnTo>
                <a:lnTo>
                  <a:pt x="953" y="766"/>
                </a:lnTo>
                <a:lnTo>
                  <a:pt x="975" y="766"/>
                </a:lnTo>
                <a:lnTo>
                  <a:pt x="996" y="766"/>
                </a:lnTo>
                <a:lnTo>
                  <a:pt x="1024" y="759"/>
                </a:lnTo>
                <a:lnTo>
                  <a:pt x="1046" y="752"/>
                </a:lnTo>
                <a:lnTo>
                  <a:pt x="1067" y="752"/>
                </a:lnTo>
                <a:lnTo>
                  <a:pt x="1096" y="745"/>
                </a:lnTo>
                <a:lnTo>
                  <a:pt x="1117" y="745"/>
                </a:lnTo>
                <a:lnTo>
                  <a:pt x="1138" y="738"/>
                </a:lnTo>
                <a:lnTo>
                  <a:pt x="1160" y="731"/>
                </a:lnTo>
                <a:lnTo>
                  <a:pt x="1188" y="724"/>
                </a:lnTo>
                <a:lnTo>
                  <a:pt x="1209" y="717"/>
                </a:lnTo>
                <a:lnTo>
                  <a:pt x="1231" y="717"/>
                </a:lnTo>
                <a:lnTo>
                  <a:pt x="1252" y="702"/>
                </a:lnTo>
                <a:lnTo>
                  <a:pt x="1281" y="702"/>
                </a:lnTo>
                <a:lnTo>
                  <a:pt x="1302" y="695"/>
                </a:lnTo>
                <a:lnTo>
                  <a:pt x="1323" y="695"/>
                </a:lnTo>
                <a:lnTo>
                  <a:pt x="1352" y="688"/>
                </a:lnTo>
                <a:lnTo>
                  <a:pt x="1373" y="681"/>
                </a:lnTo>
                <a:lnTo>
                  <a:pt x="1394" y="681"/>
                </a:lnTo>
                <a:lnTo>
                  <a:pt x="1416" y="681"/>
                </a:lnTo>
                <a:lnTo>
                  <a:pt x="1437" y="674"/>
                </a:lnTo>
                <a:lnTo>
                  <a:pt x="1459" y="674"/>
                </a:lnTo>
                <a:lnTo>
                  <a:pt x="1487" y="667"/>
                </a:lnTo>
                <a:lnTo>
                  <a:pt x="1508" y="667"/>
                </a:lnTo>
                <a:lnTo>
                  <a:pt x="1537" y="660"/>
                </a:lnTo>
                <a:lnTo>
                  <a:pt x="1558" y="653"/>
                </a:lnTo>
                <a:lnTo>
                  <a:pt x="1579" y="646"/>
                </a:lnTo>
                <a:lnTo>
                  <a:pt x="1601" y="639"/>
                </a:lnTo>
                <a:lnTo>
                  <a:pt x="1622" y="631"/>
                </a:lnTo>
                <a:lnTo>
                  <a:pt x="1643" y="617"/>
                </a:lnTo>
                <a:lnTo>
                  <a:pt x="1672" y="610"/>
                </a:lnTo>
                <a:lnTo>
                  <a:pt x="1693" y="596"/>
                </a:lnTo>
                <a:lnTo>
                  <a:pt x="1722" y="589"/>
                </a:lnTo>
                <a:lnTo>
                  <a:pt x="1743" y="575"/>
                </a:lnTo>
                <a:lnTo>
                  <a:pt x="1764" y="560"/>
                </a:lnTo>
                <a:lnTo>
                  <a:pt x="1786" y="546"/>
                </a:lnTo>
                <a:lnTo>
                  <a:pt x="1807" y="532"/>
                </a:lnTo>
                <a:lnTo>
                  <a:pt x="1836" y="518"/>
                </a:lnTo>
                <a:lnTo>
                  <a:pt x="1857" y="511"/>
                </a:lnTo>
                <a:lnTo>
                  <a:pt x="1878" y="497"/>
                </a:lnTo>
                <a:lnTo>
                  <a:pt x="1900" y="482"/>
                </a:lnTo>
                <a:lnTo>
                  <a:pt x="1928" y="461"/>
                </a:lnTo>
                <a:lnTo>
                  <a:pt x="1949" y="447"/>
                </a:lnTo>
                <a:lnTo>
                  <a:pt x="1971" y="433"/>
                </a:lnTo>
                <a:lnTo>
                  <a:pt x="1999" y="411"/>
                </a:lnTo>
                <a:lnTo>
                  <a:pt x="2021" y="397"/>
                </a:lnTo>
                <a:lnTo>
                  <a:pt x="2042" y="376"/>
                </a:lnTo>
                <a:lnTo>
                  <a:pt x="2063" y="355"/>
                </a:lnTo>
                <a:lnTo>
                  <a:pt x="2085" y="333"/>
                </a:lnTo>
                <a:lnTo>
                  <a:pt x="2113" y="312"/>
                </a:lnTo>
                <a:lnTo>
                  <a:pt x="2134" y="291"/>
                </a:lnTo>
                <a:lnTo>
                  <a:pt x="2163" y="276"/>
                </a:lnTo>
                <a:lnTo>
                  <a:pt x="2184" y="255"/>
                </a:lnTo>
                <a:lnTo>
                  <a:pt x="2206" y="234"/>
                </a:lnTo>
                <a:lnTo>
                  <a:pt x="2227" y="213"/>
                </a:lnTo>
                <a:lnTo>
                  <a:pt x="2248" y="191"/>
                </a:lnTo>
                <a:lnTo>
                  <a:pt x="2270" y="170"/>
                </a:lnTo>
                <a:lnTo>
                  <a:pt x="2298" y="156"/>
                </a:lnTo>
                <a:lnTo>
                  <a:pt x="2319" y="135"/>
                </a:lnTo>
                <a:lnTo>
                  <a:pt x="2348" y="120"/>
                </a:lnTo>
                <a:lnTo>
                  <a:pt x="2369" y="92"/>
                </a:lnTo>
                <a:lnTo>
                  <a:pt x="2391" y="78"/>
                </a:lnTo>
                <a:lnTo>
                  <a:pt x="2412" y="64"/>
                </a:lnTo>
                <a:lnTo>
                  <a:pt x="2433" y="42"/>
                </a:lnTo>
                <a:lnTo>
                  <a:pt x="2455" y="35"/>
                </a:lnTo>
                <a:lnTo>
                  <a:pt x="2483" y="21"/>
                </a:lnTo>
                <a:lnTo>
                  <a:pt x="2504" y="7"/>
                </a:lnTo>
                <a:lnTo>
                  <a:pt x="2526" y="7"/>
                </a:lnTo>
                <a:lnTo>
                  <a:pt x="2554" y="0"/>
                </a:lnTo>
                <a:lnTo>
                  <a:pt x="2576" y="7"/>
                </a:lnTo>
                <a:lnTo>
                  <a:pt x="2597" y="7"/>
                </a:lnTo>
                <a:lnTo>
                  <a:pt x="2618" y="21"/>
                </a:lnTo>
                <a:lnTo>
                  <a:pt x="2640" y="35"/>
                </a:lnTo>
                <a:lnTo>
                  <a:pt x="2668" y="49"/>
                </a:lnTo>
                <a:lnTo>
                  <a:pt x="2689" y="71"/>
                </a:lnTo>
                <a:lnTo>
                  <a:pt x="2711" y="99"/>
                </a:lnTo>
                <a:lnTo>
                  <a:pt x="2739" y="127"/>
                </a:lnTo>
                <a:lnTo>
                  <a:pt x="2761" y="156"/>
                </a:lnTo>
                <a:lnTo>
                  <a:pt x="2782" y="191"/>
                </a:lnTo>
                <a:lnTo>
                  <a:pt x="2803" y="220"/>
                </a:lnTo>
                <a:lnTo>
                  <a:pt x="2832" y="255"/>
                </a:lnTo>
                <a:lnTo>
                  <a:pt x="2853" y="291"/>
                </a:lnTo>
                <a:lnTo>
                  <a:pt x="2874" y="326"/>
                </a:lnTo>
                <a:lnTo>
                  <a:pt x="2896" y="355"/>
                </a:lnTo>
                <a:lnTo>
                  <a:pt x="2924" y="383"/>
                </a:lnTo>
                <a:lnTo>
                  <a:pt x="2946" y="411"/>
                </a:lnTo>
                <a:lnTo>
                  <a:pt x="2967" y="433"/>
                </a:lnTo>
                <a:lnTo>
                  <a:pt x="2995" y="461"/>
                </a:lnTo>
                <a:lnTo>
                  <a:pt x="3017" y="482"/>
                </a:lnTo>
                <a:lnTo>
                  <a:pt x="3038" y="497"/>
                </a:lnTo>
                <a:lnTo>
                  <a:pt x="3059" y="518"/>
                </a:lnTo>
                <a:lnTo>
                  <a:pt x="3081" y="532"/>
                </a:lnTo>
                <a:lnTo>
                  <a:pt x="3102" y="546"/>
                </a:lnTo>
                <a:lnTo>
                  <a:pt x="3130" y="560"/>
                </a:lnTo>
                <a:lnTo>
                  <a:pt x="3152" y="568"/>
                </a:lnTo>
                <a:lnTo>
                  <a:pt x="3180" y="582"/>
                </a:lnTo>
                <a:lnTo>
                  <a:pt x="3202" y="589"/>
                </a:lnTo>
                <a:lnTo>
                  <a:pt x="3223" y="596"/>
                </a:lnTo>
                <a:lnTo>
                  <a:pt x="3244" y="610"/>
                </a:lnTo>
                <a:lnTo>
                  <a:pt x="3266" y="617"/>
                </a:lnTo>
                <a:lnTo>
                  <a:pt x="3287" y="631"/>
                </a:lnTo>
                <a:lnTo>
                  <a:pt x="3315" y="639"/>
                </a:lnTo>
                <a:lnTo>
                  <a:pt x="3337" y="653"/>
                </a:lnTo>
                <a:lnTo>
                  <a:pt x="3365" y="660"/>
                </a:lnTo>
                <a:lnTo>
                  <a:pt x="3387" y="667"/>
                </a:lnTo>
                <a:lnTo>
                  <a:pt x="3408" y="681"/>
                </a:lnTo>
                <a:lnTo>
                  <a:pt x="3429" y="688"/>
                </a:lnTo>
                <a:lnTo>
                  <a:pt x="3451" y="695"/>
                </a:lnTo>
                <a:lnTo>
                  <a:pt x="3479" y="702"/>
                </a:lnTo>
                <a:lnTo>
                  <a:pt x="3500" y="710"/>
                </a:lnTo>
                <a:lnTo>
                  <a:pt x="3522" y="717"/>
                </a:lnTo>
                <a:lnTo>
                  <a:pt x="3550" y="724"/>
                </a:lnTo>
                <a:lnTo>
                  <a:pt x="3572" y="731"/>
                </a:lnTo>
                <a:lnTo>
                  <a:pt x="3593" y="731"/>
                </a:lnTo>
                <a:lnTo>
                  <a:pt x="3614" y="738"/>
                </a:lnTo>
                <a:lnTo>
                  <a:pt x="3643" y="745"/>
                </a:lnTo>
                <a:lnTo>
                  <a:pt x="3664" y="745"/>
                </a:lnTo>
                <a:lnTo>
                  <a:pt x="3685" y="745"/>
                </a:lnTo>
                <a:lnTo>
                  <a:pt x="3707" y="745"/>
                </a:lnTo>
                <a:lnTo>
                  <a:pt x="3728" y="752"/>
                </a:lnTo>
                <a:lnTo>
                  <a:pt x="3757" y="752"/>
                </a:lnTo>
                <a:lnTo>
                  <a:pt x="3778" y="752"/>
                </a:lnTo>
                <a:lnTo>
                  <a:pt x="3806" y="752"/>
                </a:lnTo>
                <a:lnTo>
                  <a:pt x="3828" y="752"/>
                </a:lnTo>
                <a:lnTo>
                  <a:pt x="3849" y="752"/>
                </a:lnTo>
                <a:lnTo>
                  <a:pt x="3870" y="752"/>
                </a:lnTo>
                <a:lnTo>
                  <a:pt x="3892" y="752"/>
                </a:lnTo>
                <a:lnTo>
                  <a:pt x="3913" y="752"/>
                </a:lnTo>
                <a:lnTo>
                  <a:pt x="3942" y="752"/>
                </a:lnTo>
                <a:lnTo>
                  <a:pt x="3963" y="752"/>
                </a:lnTo>
                <a:lnTo>
                  <a:pt x="3991" y="752"/>
                </a:lnTo>
                <a:lnTo>
                  <a:pt x="4013" y="752"/>
                </a:lnTo>
                <a:lnTo>
                  <a:pt x="4034" y="752"/>
                </a:lnTo>
                <a:lnTo>
                  <a:pt x="4055" y="759"/>
                </a:lnTo>
                <a:lnTo>
                  <a:pt x="4077" y="759"/>
                </a:lnTo>
                <a:lnTo>
                  <a:pt x="4098" y="759"/>
                </a:lnTo>
                <a:lnTo>
                  <a:pt x="4127" y="759"/>
                </a:lnTo>
                <a:lnTo>
                  <a:pt x="4148" y="766"/>
                </a:lnTo>
                <a:lnTo>
                  <a:pt x="4176" y="766"/>
                </a:lnTo>
                <a:lnTo>
                  <a:pt x="4198" y="766"/>
                </a:lnTo>
                <a:lnTo>
                  <a:pt x="4219" y="766"/>
                </a:lnTo>
                <a:lnTo>
                  <a:pt x="4240" y="766"/>
                </a:lnTo>
                <a:lnTo>
                  <a:pt x="4262" y="773"/>
                </a:lnTo>
                <a:lnTo>
                  <a:pt x="4290" y="773"/>
                </a:lnTo>
                <a:lnTo>
                  <a:pt x="4312" y="773"/>
                </a:lnTo>
                <a:lnTo>
                  <a:pt x="4333" y="781"/>
                </a:lnTo>
                <a:lnTo>
                  <a:pt x="4354" y="781"/>
                </a:lnTo>
                <a:lnTo>
                  <a:pt x="4383" y="781"/>
                </a:lnTo>
                <a:lnTo>
                  <a:pt x="4404" y="781"/>
                </a:lnTo>
                <a:lnTo>
                  <a:pt x="4425" y="781"/>
                </a:lnTo>
                <a:lnTo>
                  <a:pt x="4454" y="781"/>
                </a:lnTo>
                <a:lnTo>
                  <a:pt x="4475" y="781"/>
                </a:lnTo>
                <a:lnTo>
                  <a:pt x="4497" y="781"/>
                </a:lnTo>
                <a:lnTo>
                  <a:pt x="4518" y="781"/>
                </a:lnTo>
                <a:lnTo>
                  <a:pt x="4539" y="781"/>
                </a:lnTo>
                <a:lnTo>
                  <a:pt x="4568" y="781"/>
                </a:lnTo>
                <a:lnTo>
                  <a:pt x="4589" y="781"/>
                </a:lnTo>
                <a:lnTo>
                  <a:pt x="4610" y="781"/>
                </a:lnTo>
              </a:path>
            </a:pathLst>
          </a:custGeom>
          <a:noFill/>
          <a:ln w="334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 flipV="1">
            <a:off x="6638400" y="1243080"/>
            <a:ext cx="171720" cy="247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21640" y="1243080"/>
            <a:ext cx="188640" cy="2221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642000" y="1243080"/>
            <a:ext cx="351000" cy="28080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Summary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2667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Similar 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Palatino"/>
                <a:ea typeface="Times New Roman"/>
              </a:rPr>
              <a:t>gear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Palatino"/>
                <a:ea typeface="Times New Roman"/>
              </a:rPr>
              <a:t>season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Palatino"/>
                <a:ea typeface="Times New Roman"/>
              </a:rPr>
              <a:t>time of day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800600" y="1447920"/>
            <a:ext cx="387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Different 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Palatino"/>
                <a:ea typeface="Times New Roman"/>
              </a:rPr>
              <a:t>area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Palatino"/>
                <a:ea typeface="Times New Roman"/>
              </a:rPr>
              <a:t>depth range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Palatino"/>
                <a:ea typeface="Times New Roman"/>
              </a:rPr>
              <a:t>soak time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Palatino"/>
                <a:ea typeface="Times New Roman"/>
              </a:rPr>
              <a:t>number of hooks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04920" y="1536840"/>
                <a:ext cx="8610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4" name=""/>
          <p:cNvSpPr/>
          <p:nvPr/>
        </p:nvSpPr>
        <p:spPr>
          <a:xfrm>
            <a:off x="304920" y="4572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Generalized linear model: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3710160" y="3317760"/>
            <a:ext cx="5433840" cy="354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6" name=""/>
          <p:cNvSpPr/>
          <p:nvPr/>
        </p:nvSpPr>
        <p:spPr>
          <a:xfrm>
            <a:off x="3049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mass index = mean weight x cpu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 flipV="1">
            <a:off x="4927680" y="692280"/>
            <a:ext cx="1440" cy="41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927680" y="61272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4927680" y="531360"/>
            <a:ext cx="1440" cy="39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927680" y="90972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4927680" y="828360"/>
            <a:ext cx="1440" cy="41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927680" y="748800"/>
            <a:ext cx="1440" cy="39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73280" y="741240"/>
            <a:ext cx="154080" cy="200160"/>
          </a:xfrm>
          <a:custGeom>
            <a:avLst/>
            <a:gdLst/>
            <a:ahLst/>
            <a:rect l="l" t="t" r="r" b="b"/>
            <a:pathLst>
              <a:path w="97" h="126">
                <a:moveTo>
                  <a:pt x="0" y="63"/>
                </a:moveTo>
                <a:lnTo>
                  <a:pt x="5" y="51"/>
                </a:lnTo>
                <a:lnTo>
                  <a:pt x="10" y="41"/>
                </a:lnTo>
                <a:lnTo>
                  <a:pt x="11" y="40"/>
                </a:lnTo>
                <a:lnTo>
                  <a:pt x="16" y="30"/>
                </a:lnTo>
                <a:lnTo>
                  <a:pt x="21" y="22"/>
                </a:lnTo>
                <a:lnTo>
                  <a:pt x="28" y="15"/>
                </a:lnTo>
                <a:lnTo>
                  <a:pt x="33" y="10"/>
                </a:lnTo>
                <a:lnTo>
                  <a:pt x="38" y="5"/>
                </a:lnTo>
                <a:lnTo>
                  <a:pt x="44" y="2"/>
                </a:lnTo>
                <a:lnTo>
                  <a:pt x="44" y="2"/>
                </a:lnTo>
                <a:lnTo>
                  <a:pt x="48" y="1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3" y="1"/>
                </a:lnTo>
                <a:lnTo>
                  <a:pt x="65" y="2"/>
                </a:lnTo>
                <a:lnTo>
                  <a:pt x="69" y="5"/>
                </a:lnTo>
                <a:lnTo>
                  <a:pt x="73" y="7"/>
                </a:lnTo>
                <a:lnTo>
                  <a:pt x="77" y="10"/>
                </a:lnTo>
                <a:lnTo>
                  <a:pt x="81" y="14"/>
                </a:lnTo>
                <a:lnTo>
                  <a:pt x="83" y="17"/>
                </a:lnTo>
                <a:lnTo>
                  <a:pt x="87" y="21"/>
                </a:lnTo>
                <a:lnTo>
                  <a:pt x="91" y="26"/>
                </a:lnTo>
                <a:lnTo>
                  <a:pt x="93" y="31"/>
                </a:lnTo>
                <a:lnTo>
                  <a:pt x="97" y="36"/>
                </a:lnTo>
                <a:lnTo>
                  <a:pt x="97" y="89"/>
                </a:lnTo>
                <a:lnTo>
                  <a:pt x="93" y="95"/>
                </a:lnTo>
                <a:lnTo>
                  <a:pt x="91" y="100"/>
                </a:lnTo>
                <a:lnTo>
                  <a:pt x="87" y="105"/>
                </a:lnTo>
                <a:lnTo>
                  <a:pt x="83" y="108"/>
                </a:lnTo>
                <a:lnTo>
                  <a:pt x="81" y="112"/>
                </a:lnTo>
                <a:lnTo>
                  <a:pt x="77" y="116"/>
                </a:lnTo>
                <a:lnTo>
                  <a:pt x="73" y="119"/>
                </a:lnTo>
                <a:lnTo>
                  <a:pt x="69" y="121"/>
                </a:lnTo>
                <a:lnTo>
                  <a:pt x="65" y="124"/>
                </a:lnTo>
                <a:lnTo>
                  <a:pt x="63" y="125"/>
                </a:lnTo>
                <a:lnTo>
                  <a:pt x="59" y="126"/>
                </a:lnTo>
                <a:lnTo>
                  <a:pt x="55" y="126"/>
                </a:lnTo>
                <a:lnTo>
                  <a:pt x="52" y="126"/>
                </a:lnTo>
                <a:lnTo>
                  <a:pt x="48" y="125"/>
                </a:lnTo>
                <a:lnTo>
                  <a:pt x="44" y="124"/>
                </a:lnTo>
                <a:lnTo>
                  <a:pt x="44" y="124"/>
                </a:lnTo>
                <a:lnTo>
                  <a:pt x="38" y="120"/>
                </a:lnTo>
                <a:lnTo>
                  <a:pt x="33" y="116"/>
                </a:lnTo>
                <a:lnTo>
                  <a:pt x="28" y="110"/>
                </a:lnTo>
                <a:lnTo>
                  <a:pt x="21" y="103"/>
                </a:lnTo>
                <a:lnTo>
                  <a:pt x="16" y="95"/>
                </a:lnTo>
                <a:lnTo>
                  <a:pt x="11" y="86"/>
                </a:lnTo>
                <a:lnTo>
                  <a:pt x="10" y="84"/>
                </a:lnTo>
                <a:lnTo>
                  <a:pt x="5" y="74"/>
                </a:lnTo>
                <a:lnTo>
                  <a:pt x="0" y="63"/>
                </a:lnTo>
                <a:close/>
              </a:path>
            </a:pathLst>
          </a:custGeom>
          <a:solidFill>
            <a:srgbClr val="c8ffc8"/>
          </a:solidFill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73280" y="741240"/>
            <a:ext cx="154080" cy="200160"/>
          </a:xfrm>
          <a:custGeom>
            <a:avLst/>
            <a:gdLst/>
            <a:ahLst/>
            <a:rect l="l" t="t" r="r" b="b"/>
            <a:pathLst>
              <a:path w="97" h="126">
                <a:moveTo>
                  <a:pt x="0" y="63"/>
                </a:moveTo>
                <a:lnTo>
                  <a:pt x="5" y="51"/>
                </a:lnTo>
                <a:lnTo>
                  <a:pt x="10" y="41"/>
                </a:lnTo>
                <a:lnTo>
                  <a:pt x="11" y="40"/>
                </a:lnTo>
                <a:lnTo>
                  <a:pt x="16" y="30"/>
                </a:lnTo>
                <a:lnTo>
                  <a:pt x="21" y="22"/>
                </a:lnTo>
                <a:lnTo>
                  <a:pt x="28" y="15"/>
                </a:lnTo>
                <a:lnTo>
                  <a:pt x="33" y="10"/>
                </a:lnTo>
                <a:lnTo>
                  <a:pt x="38" y="5"/>
                </a:lnTo>
                <a:lnTo>
                  <a:pt x="44" y="2"/>
                </a:lnTo>
                <a:lnTo>
                  <a:pt x="44" y="2"/>
                </a:lnTo>
                <a:lnTo>
                  <a:pt x="48" y="1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3" y="1"/>
                </a:lnTo>
                <a:lnTo>
                  <a:pt x="65" y="2"/>
                </a:lnTo>
                <a:lnTo>
                  <a:pt x="69" y="5"/>
                </a:lnTo>
                <a:lnTo>
                  <a:pt x="73" y="7"/>
                </a:lnTo>
                <a:lnTo>
                  <a:pt x="77" y="10"/>
                </a:lnTo>
                <a:lnTo>
                  <a:pt x="81" y="14"/>
                </a:lnTo>
                <a:lnTo>
                  <a:pt x="83" y="17"/>
                </a:lnTo>
                <a:lnTo>
                  <a:pt x="87" y="21"/>
                </a:lnTo>
                <a:lnTo>
                  <a:pt x="91" y="26"/>
                </a:lnTo>
                <a:lnTo>
                  <a:pt x="93" y="31"/>
                </a:lnTo>
                <a:lnTo>
                  <a:pt x="97" y="36"/>
                </a:lnTo>
                <a:lnTo>
                  <a:pt x="97" y="89"/>
                </a:lnTo>
                <a:lnTo>
                  <a:pt x="93" y="95"/>
                </a:lnTo>
                <a:lnTo>
                  <a:pt x="91" y="100"/>
                </a:lnTo>
                <a:lnTo>
                  <a:pt x="87" y="105"/>
                </a:lnTo>
                <a:lnTo>
                  <a:pt x="83" y="108"/>
                </a:lnTo>
                <a:lnTo>
                  <a:pt x="81" y="112"/>
                </a:lnTo>
                <a:lnTo>
                  <a:pt x="77" y="116"/>
                </a:lnTo>
                <a:lnTo>
                  <a:pt x="73" y="119"/>
                </a:lnTo>
                <a:lnTo>
                  <a:pt x="69" y="121"/>
                </a:lnTo>
                <a:lnTo>
                  <a:pt x="65" y="124"/>
                </a:lnTo>
                <a:lnTo>
                  <a:pt x="63" y="125"/>
                </a:lnTo>
                <a:lnTo>
                  <a:pt x="59" y="126"/>
                </a:lnTo>
                <a:lnTo>
                  <a:pt x="55" y="126"/>
                </a:lnTo>
                <a:lnTo>
                  <a:pt x="52" y="126"/>
                </a:lnTo>
                <a:lnTo>
                  <a:pt x="48" y="125"/>
                </a:lnTo>
                <a:lnTo>
                  <a:pt x="44" y="124"/>
                </a:lnTo>
                <a:lnTo>
                  <a:pt x="44" y="124"/>
                </a:lnTo>
                <a:lnTo>
                  <a:pt x="38" y="120"/>
                </a:lnTo>
                <a:lnTo>
                  <a:pt x="33" y="116"/>
                </a:lnTo>
                <a:lnTo>
                  <a:pt x="28" y="110"/>
                </a:lnTo>
                <a:lnTo>
                  <a:pt x="21" y="103"/>
                </a:lnTo>
                <a:lnTo>
                  <a:pt x="16" y="95"/>
                </a:lnTo>
                <a:lnTo>
                  <a:pt x="11" y="86"/>
                </a:lnTo>
                <a:lnTo>
                  <a:pt x="10" y="84"/>
                </a:lnTo>
                <a:lnTo>
                  <a:pt x="5" y="74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473280" y="841320"/>
            <a:ext cx="1800" cy="180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73280" y="741240"/>
            <a:ext cx="154080" cy="200160"/>
          </a:xfrm>
          <a:custGeom>
            <a:avLst/>
            <a:gdLst/>
            <a:ahLst/>
            <a:rect l="l" t="t" r="r" b="b"/>
            <a:pathLst>
              <a:path w="97" h="126">
                <a:moveTo>
                  <a:pt x="0" y="63"/>
                </a:moveTo>
                <a:lnTo>
                  <a:pt x="5" y="51"/>
                </a:lnTo>
                <a:lnTo>
                  <a:pt x="10" y="41"/>
                </a:lnTo>
                <a:lnTo>
                  <a:pt x="11" y="40"/>
                </a:lnTo>
                <a:lnTo>
                  <a:pt x="16" y="30"/>
                </a:lnTo>
                <a:lnTo>
                  <a:pt x="21" y="22"/>
                </a:lnTo>
                <a:lnTo>
                  <a:pt x="28" y="15"/>
                </a:lnTo>
                <a:lnTo>
                  <a:pt x="33" y="10"/>
                </a:lnTo>
                <a:lnTo>
                  <a:pt x="38" y="5"/>
                </a:lnTo>
                <a:lnTo>
                  <a:pt x="44" y="2"/>
                </a:lnTo>
                <a:lnTo>
                  <a:pt x="44" y="2"/>
                </a:lnTo>
                <a:lnTo>
                  <a:pt x="48" y="1"/>
                </a:lnTo>
                <a:lnTo>
                  <a:pt x="52" y="0"/>
                </a:lnTo>
                <a:lnTo>
                  <a:pt x="55" y="0"/>
                </a:lnTo>
                <a:lnTo>
                  <a:pt x="59" y="0"/>
                </a:lnTo>
                <a:lnTo>
                  <a:pt x="63" y="1"/>
                </a:lnTo>
                <a:lnTo>
                  <a:pt x="65" y="2"/>
                </a:lnTo>
                <a:lnTo>
                  <a:pt x="69" y="5"/>
                </a:lnTo>
                <a:lnTo>
                  <a:pt x="73" y="7"/>
                </a:lnTo>
                <a:lnTo>
                  <a:pt x="77" y="10"/>
                </a:lnTo>
                <a:lnTo>
                  <a:pt x="81" y="14"/>
                </a:lnTo>
                <a:lnTo>
                  <a:pt x="83" y="17"/>
                </a:lnTo>
                <a:lnTo>
                  <a:pt x="87" y="21"/>
                </a:lnTo>
                <a:lnTo>
                  <a:pt x="91" y="26"/>
                </a:lnTo>
                <a:lnTo>
                  <a:pt x="93" y="31"/>
                </a:lnTo>
                <a:lnTo>
                  <a:pt x="97" y="36"/>
                </a:lnTo>
                <a:lnTo>
                  <a:pt x="97" y="89"/>
                </a:lnTo>
                <a:lnTo>
                  <a:pt x="93" y="95"/>
                </a:lnTo>
                <a:lnTo>
                  <a:pt x="91" y="100"/>
                </a:lnTo>
                <a:lnTo>
                  <a:pt x="87" y="105"/>
                </a:lnTo>
                <a:lnTo>
                  <a:pt x="83" y="108"/>
                </a:lnTo>
                <a:lnTo>
                  <a:pt x="81" y="112"/>
                </a:lnTo>
                <a:lnTo>
                  <a:pt x="77" y="116"/>
                </a:lnTo>
                <a:lnTo>
                  <a:pt x="73" y="119"/>
                </a:lnTo>
                <a:lnTo>
                  <a:pt x="69" y="121"/>
                </a:lnTo>
                <a:lnTo>
                  <a:pt x="65" y="124"/>
                </a:lnTo>
                <a:lnTo>
                  <a:pt x="63" y="125"/>
                </a:lnTo>
                <a:lnTo>
                  <a:pt x="59" y="126"/>
                </a:lnTo>
                <a:lnTo>
                  <a:pt x="55" y="126"/>
                </a:lnTo>
                <a:lnTo>
                  <a:pt x="52" y="126"/>
                </a:lnTo>
                <a:lnTo>
                  <a:pt x="48" y="125"/>
                </a:lnTo>
                <a:lnTo>
                  <a:pt x="44" y="124"/>
                </a:lnTo>
                <a:lnTo>
                  <a:pt x="44" y="124"/>
                </a:lnTo>
                <a:lnTo>
                  <a:pt x="38" y="120"/>
                </a:lnTo>
                <a:lnTo>
                  <a:pt x="33" y="116"/>
                </a:lnTo>
                <a:lnTo>
                  <a:pt x="28" y="110"/>
                </a:lnTo>
                <a:lnTo>
                  <a:pt x="21" y="103"/>
                </a:lnTo>
                <a:lnTo>
                  <a:pt x="16" y="95"/>
                </a:lnTo>
                <a:lnTo>
                  <a:pt x="11" y="86"/>
                </a:lnTo>
                <a:lnTo>
                  <a:pt x="10" y="84"/>
                </a:lnTo>
                <a:lnTo>
                  <a:pt x="5" y="74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949560" y="798480"/>
            <a:ext cx="8424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519360" y="798480"/>
            <a:ext cx="8424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524400" y="803160"/>
            <a:ext cx="7452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927680" y="112716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927680" y="104616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4927680" y="964800"/>
            <a:ext cx="1440" cy="41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392640" y="957240"/>
            <a:ext cx="274320" cy="201600"/>
          </a:xfrm>
          <a:custGeom>
            <a:avLst/>
            <a:gdLst/>
            <a:ahLst/>
            <a:rect l="l" t="t" r="r" b="b"/>
            <a:pathLst>
              <a:path w="173" h="127">
                <a:moveTo>
                  <a:pt x="0" y="64"/>
                </a:moveTo>
                <a:lnTo>
                  <a:pt x="11" y="50"/>
                </a:lnTo>
                <a:lnTo>
                  <a:pt x="18" y="41"/>
                </a:lnTo>
                <a:lnTo>
                  <a:pt x="24" y="34"/>
                </a:lnTo>
                <a:lnTo>
                  <a:pt x="28" y="31"/>
                </a:lnTo>
                <a:lnTo>
                  <a:pt x="34" y="24"/>
                </a:lnTo>
                <a:lnTo>
                  <a:pt x="41" y="18"/>
                </a:lnTo>
                <a:lnTo>
                  <a:pt x="47" y="14"/>
                </a:lnTo>
                <a:lnTo>
                  <a:pt x="53" y="10"/>
                </a:lnTo>
                <a:lnTo>
                  <a:pt x="60" y="7"/>
                </a:lnTo>
                <a:lnTo>
                  <a:pt x="65" y="4"/>
                </a:lnTo>
                <a:lnTo>
                  <a:pt x="71" y="3"/>
                </a:lnTo>
                <a:lnTo>
                  <a:pt x="76" y="2"/>
                </a:lnTo>
                <a:lnTo>
                  <a:pt x="82" y="0"/>
                </a:lnTo>
                <a:lnTo>
                  <a:pt x="89" y="0"/>
                </a:lnTo>
                <a:lnTo>
                  <a:pt x="94" y="0"/>
                </a:lnTo>
                <a:lnTo>
                  <a:pt x="94" y="0"/>
                </a:lnTo>
                <a:lnTo>
                  <a:pt x="99" y="2"/>
                </a:lnTo>
                <a:lnTo>
                  <a:pt x="104" y="3"/>
                </a:lnTo>
                <a:lnTo>
                  <a:pt x="109" y="4"/>
                </a:lnTo>
                <a:lnTo>
                  <a:pt x="114" y="7"/>
                </a:lnTo>
                <a:lnTo>
                  <a:pt x="119" y="8"/>
                </a:lnTo>
                <a:lnTo>
                  <a:pt x="124" y="12"/>
                </a:lnTo>
                <a:lnTo>
                  <a:pt x="129" y="14"/>
                </a:lnTo>
                <a:lnTo>
                  <a:pt x="134" y="18"/>
                </a:lnTo>
                <a:lnTo>
                  <a:pt x="138" y="22"/>
                </a:lnTo>
                <a:lnTo>
                  <a:pt x="143" y="26"/>
                </a:lnTo>
                <a:lnTo>
                  <a:pt x="147" y="29"/>
                </a:lnTo>
                <a:lnTo>
                  <a:pt x="154" y="37"/>
                </a:lnTo>
                <a:lnTo>
                  <a:pt x="160" y="42"/>
                </a:lnTo>
                <a:lnTo>
                  <a:pt x="163" y="48"/>
                </a:lnTo>
                <a:lnTo>
                  <a:pt x="168" y="55"/>
                </a:lnTo>
                <a:lnTo>
                  <a:pt x="173" y="61"/>
                </a:lnTo>
                <a:lnTo>
                  <a:pt x="173" y="66"/>
                </a:lnTo>
                <a:lnTo>
                  <a:pt x="168" y="72"/>
                </a:lnTo>
                <a:lnTo>
                  <a:pt x="163" y="79"/>
                </a:lnTo>
                <a:lnTo>
                  <a:pt x="160" y="85"/>
                </a:lnTo>
                <a:lnTo>
                  <a:pt x="154" y="91"/>
                </a:lnTo>
                <a:lnTo>
                  <a:pt x="147" y="98"/>
                </a:lnTo>
                <a:lnTo>
                  <a:pt x="143" y="102"/>
                </a:lnTo>
                <a:lnTo>
                  <a:pt x="138" y="105"/>
                </a:lnTo>
                <a:lnTo>
                  <a:pt x="134" y="109"/>
                </a:lnTo>
                <a:lnTo>
                  <a:pt x="129" y="113"/>
                </a:lnTo>
                <a:lnTo>
                  <a:pt x="124" y="117"/>
                </a:lnTo>
                <a:lnTo>
                  <a:pt x="119" y="119"/>
                </a:lnTo>
                <a:lnTo>
                  <a:pt x="114" y="122"/>
                </a:lnTo>
                <a:lnTo>
                  <a:pt x="109" y="123"/>
                </a:lnTo>
                <a:lnTo>
                  <a:pt x="104" y="124"/>
                </a:lnTo>
                <a:lnTo>
                  <a:pt x="99" y="126"/>
                </a:lnTo>
                <a:lnTo>
                  <a:pt x="94" y="127"/>
                </a:lnTo>
                <a:lnTo>
                  <a:pt x="94" y="127"/>
                </a:lnTo>
                <a:lnTo>
                  <a:pt x="89" y="127"/>
                </a:lnTo>
                <a:lnTo>
                  <a:pt x="82" y="127"/>
                </a:lnTo>
                <a:lnTo>
                  <a:pt x="76" y="126"/>
                </a:lnTo>
                <a:lnTo>
                  <a:pt x="71" y="124"/>
                </a:lnTo>
                <a:lnTo>
                  <a:pt x="65" y="123"/>
                </a:lnTo>
                <a:lnTo>
                  <a:pt x="60" y="121"/>
                </a:lnTo>
                <a:lnTo>
                  <a:pt x="53" y="117"/>
                </a:lnTo>
                <a:lnTo>
                  <a:pt x="47" y="114"/>
                </a:lnTo>
                <a:lnTo>
                  <a:pt x="41" y="109"/>
                </a:lnTo>
                <a:lnTo>
                  <a:pt x="34" y="103"/>
                </a:lnTo>
                <a:lnTo>
                  <a:pt x="28" y="96"/>
                </a:lnTo>
                <a:lnTo>
                  <a:pt x="24" y="93"/>
                </a:lnTo>
                <a:lnTo>
                  <a:pt x="18" y="86"/>
                </a:lnTo>
                <a:lnTo>
                  <a:pt x="11" y="78"/>
                </a:lnTo>
                <a:lnTo>
                  <a:pt x="0" y="64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392640" y="957240"/>
            <a:ext cx="274320" cy="201600"/>
          </a:xfrm>
          <a:custGeom>
            <a:avLst/>
            <a:gdLst/>
            <a:ahLst/>
            <a:rect l="l" t="t" r="r" b="b"/>
            <a:pathLst>
              <a:path w="173" h="127">
                <a:moveTo>
                  <a:pt x="0" y="64"/>
                </a:moveTo>
                <a:lnTo>
                  <a:pt x="11" y="50"/>
                </a:lnTo>
                <a:lnTo>
                  <a:pt x="18" y="41"/>
                </a:lnTo>
                <a:lnTo>
                  <a:pt x="24" y="34"/>
                </a:lnTo>
                <a:lnTo>
                  <a:pt x="28" y="31"/>
                </a:lnTo>
                <a:lnTo>
                  <a:pt x="34" y="24"/>
                </a:lnTo>
                <a:lnTo>
                  <a:pt x="41" y="18"/>
                </a:lnTo>
                <a:lnTo>
                  <a:pt x="47" y="14"/>
                </a:lnTo>
                <a:lnTo>
                  <a:pt x="53" y="10"/>
                </a:lnTo>
                <a:lnTo>
                  <a:pt x="60" y="7"/>
                </a:lnTo>
                <a:lnTo>
                  <a:pt x="65" y="4"/>
                </a:lnTo>
                <a:lnTo>
                  <a:pt x="71" y="3"/>
                </a:lnTo>
                <a:lnTo>
                  <a:pt x="76" y="2"/>
                </a:lnTo>
                <a:lnTo>
                  <a:pt x="82" y="0"/>
                </a:lnTo>
                <a:lnTo>
                  <a:pt x="89" y="0"/>
                </a:lnTo>
                <a:lnTo>
                  <a:pt x="94" y="0"/>
                </a:lnTo>
                <a:lnTo>
                  <a:pt x="94" y="0"/>
                </a:lnTo>
                <a:lnTo>
                  <a:pt x="99" y="2"/>
                </a:lnTo>
                <a:lnTo>
                  <a:pt x="104" y="3"/>
                </a:lnTo>
                <a:lnTo>
                  <a:pt x="109" y="4"/>
                </a:lnTo>
                <a:lnTo>
                  <a:pt x="114" y="7"/>
                </a:lnTo>
                <a:lnTo>
                  <a:pt x="119" y="8"/>
                </a:lnTo>
                <a:lnTo>
                  <a:pt x="124" y="12"/>
                </a:lnTo>
                <a:lnTo>
                  <a:pt x="129" y="14"/>
                </a:lnTo>
                <a:lnTo>
                  <a:pt x="134" y="18"/>
                </a:lnTo>
                <a:lnTo>
                  <a:pt x="138" y="22"/>
                </a:lnTo>
                <a:lnTo>
                  <a:pt x="143" y="26"/>
                </a:lnTo>
                <a:lnTo>
                  <a:pt x="147" y="29"/>
                </a:lnTo>
                <a:lnTo>
                  <a:pt x="154" y="37"/>
                </a:lnTo>
                <a:lnTo>
                  <a:pt x="160" y="42"/>
                </a:lnTo>
                <a:lnTo>
                  <a:pt x="163" y="48"/>
                </a:lnTo>
                <a:lnTo>
                  <a:pt x="168" y="55"/>
                </a:lnTo>
                <a:lnTo>
                  <a:pt x="173" y="61"/>
                </a:lnTo>
                <a:lnTo>
                  <a:pt x="173" y="66"/>
                </a:lnTo>
                <a:lnTo>
                  <a:pt x="168" y="72"/>
                </a:lnTo>
                <a:lnTo>
                  <a:pt x="163" y="79"/>
                </a:lnTo>
                <a:lnTo>
                  <a:pt x="160" y="85"/>
                </a:lnTo>
                <a:lnTo>
                  <a:pt x="154" y="91"/>
                </a:lnTo>
                <a:lnTo>
                  <a:pt x="147" y="98"/>
                </a:lnTo>
                <a:lnTo>
                  <a:pt x="143" y="102"/>
                </a:lnTo>
                <a:lnTo>
                  <a:pt x="138" y="105"/>
                </a:lnTo>
                <a:lnTo>
                  <a:pt x="134" y="109"/>
                </a:lnTo>
                <a:lnTo>
                  <a:pt x="129" y="113"/>
                </a:lnTo>
                <a:lnTo>
                  <a:pt x="124" y="117"/>
                </a:lnTo>
                <a:lnTo>
                  <a:pt x="119" y="119"/>
                </a:lnTo>
                <a:lnTo>
                  <a:pt x="114" y="122"/>
                </a:lnTo>
                <a:lnTo>
                  <a:pt x="109" y="123"/>
                </a:lnTo>
                <a:lnTo>
                  <a:pt x="104" y="124"/>
                </a:lnTo>
                <a:lnTo>
                  <a:pt x="99" y="126"/>
                </a:lnTo>
                <a:lnTo>
                  <a:pt x="94" y="127"/>
                </a:lnTo>
                <a:lnTo>
                  <a:pt x="94" y="127"/>
                </a:lnTo>
                <a:lnTo>
                  <a:pt x="89" y="127"/>
                </a:lnTo>
                <a:lnTo>
                  <a:pt x="82" y="127"/>
                </a:lnTo>
                <a:lnTo>
                  <a:pt x="76" y="126"/>
                </a:lnTo>
                <a:lnTo>
                  <a:pt x="71" y="124"/>
                </a:lnTo>
                <a:lnTo>
                  <a:pt x="65" y="123"/>
                </a:lnTo>
                <a:lnTo>
                  <a:pt x="60" y="121"/>
                </a:lnTo>
                <a:lnTo>
                  <a:pt x="53" y="117"/>
                </a:lnTo>
                <a:lnTo>
                  <a:pt x="47" y="114"/>
                </a:lnTo>
                <a:lnTo>
                  <a:pt x="41" y="109"/>
                </a:lnTo>
                <a:lnTo>
                  <a:pt x="34" y="103"/>
                </a:lnTo>
                <a:lnTo>
                  <a:pt x="28" y="96"/>
                </a:lnTo>
                <a:lnTo>
                  <a:pt x="24" y="93"/>
                </a:lnTo>
                <a:lnTo>
                  <a:pt x="18" y="86"/>
                </a:lnTo>
                <a:lnTo>
                  <a:pt x="11" y="78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392640" y="1058760"/>
            <a:ext cx="1440" cy="180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392640" y="957240"/>
            <a:ext cx="274320" cy="201600"/>
          </a:xfrm>
          <a:custGeom>
            <a:avLst/>
            <a:gdLst/>
            <a:ahLst/>
            <a:rect l="l" t="t" r="r" b="b"/>
            <a:pathLst>
              <a:path w="173" h="127">
                <a:moveTo>
                  <a:pt x="0" y="64"/>
                </a:moveTo>
                <a:lnTo>
                  <a:pt x="11" y="50"/>
                </a:lnTo>
                <a:lnTo>
                  <a:pt x="18" y="41"/>
                </a:lnTo>
                <a:lnTo>
                  <a:pt x="24" y="34"/>
                </a:lnTo>
                <a:lnTo>
                  <a:pt x="28" y="31"/>
                </a:lnTo>
                <a:lnTo>
                  <a:pt x="34" y="24"/>
                </a:lnTo>
                <a:lnTo>
                  <a:pt x="41" y="18"/>
                </a:lnTo>
                <a:lnTo>
                  <a:pt x="47" y="14"/>
                </a:lnTo>
                <a:lnTo>
                  <a:pt x="53" y="10"/>
                </a:lnTo>
                <a:lnTo>
                  <a:pt x="60" y="7"/>
                </a:lnTo>
                <a:lnTo>
                  <a:pt x="65" y="4"/>
                </a:lnTo>
                <a:lnTo>
                  <a:pt x="71" y="3"/>
                </a:lnTo>
                <a:lnTo>
                  <a:pt x="76" y="2"/>
                </a:lnTo>
                <a:lnTo>
                  <a:pt x="82" y="0"/>
                </a:lnTo>
                <a:lnTo>
                  <a:pt x="89" y="0"/>
                </a:lnTo>
                <a:lnTo>
                  <a:pt x="94" y="0"/>
                </a:lnTo>
                <a:lnTo>
                  <a:pt x="94" y="0"/>
                </a:lnTo>
                <a:lnTo>
                  <a:pt x="99" y="2"/>
                </a:lnTo>
                <a:lnTo>
                  <a:pt x="104" y="3"/>
                </a:lnTo>
                <a:lnTo>
                  <a:pt x="109" y="4"/>
                </a:lnTo>
                <a:lnTo>
                  <a:pt x="114" y="7"/>
                </a:lnTo>
                <a:lnTo>
                  <a:pt x="119" y="8"/>
                </a:lnTo>
                <a:lnTo>
                  <a:pt x="124" y="12"/>
                </a:lnTo>
                <a:lnTo>
                  <a:pt x="129" y="14"/>
                </a:lnTo>
                <a:lnTo>
                  <a:pt x="134" y="18"/>
                </a:lnTo>
                <a:lnTo>
                  <a:pt x="138" y="22"/>
                </a:lnTo>
                <a:lnTo>
                  <a:pt x="143" y="26"/>
                </a:lnTo>
                <a:lnTo>
                  <a:pt x="147" y="29"/>
                </a:lnTo>
                <a:lnTo>
                  <a:pt x="154" y="37"/>
                </a:lnTo>
                <a:lnTo>
                  <a:pt x="160" y="42"/>
                </a:lnTo>
                <a:lnTo>
                  <a:pt x="163" y="48"/>
                </a:lnTo>
                <a:lnTo>
                  <a:pt x="168" y="55"/>
                </a:lnTo>
                <a:lnTo>
                  <a:pt x="173" y="61"/>
                </a:lnTo>
                <a:lnTo>
                  <a:pt x="173" y="66"/>
                </a:lnTo>
                <a:lnTo>
                  <a:pt x="168" y="72"/>
                </a:lnTo>
                <a:lnTo>
                  <a:pt x="163" y="79"/>
                </a:lnTo>
                <a:lnTo>
                  <a:pt x="160" y="85"/>
                </a:lnTo>
                <a:lnTo>
                  <a:pt x="154" y="91"/>
                </a:lnTo>
                <a:lnTo>
                  <a:pt x="147" y="98"/>
                </a:lnTo>
                <a:lnTo>
                  <a:pt x="143" y="102"/>
                </a:lnTo>
                <a:lnTo>
                  <a:pt x="138" y="105"/>
                </a:lnTo>
                <a:lnTo>
                  <a:pt x="134" y="109"/>
                </a:lnTo>
                <a:lnTo>
                  <a:pt x="129" y="113"/>
                </a:lnTo>
                <a:lnTo>
                  <a:pt x="124" y="117"/>
                </a:lnTo>
                <a:lnTo>
                  <a:pt x="119" y="119"/>
                </a:lnTo>
                <a:lnTo>
                  <a:pt x="114" y="122"/>
                </a:lnTo>
                <a:lnTo>
                  <a:pt x="109" y="123"/>
                </a:lnTo>
                <a:lnTo>
                  <a:pt x="104" y="124"/>
                </a:lnTo>
                <a:lnTo>
                  <a:pt x="99" y="126"/>
                </a:lnTo>
                <a:lnTo>
                  <a:pt x="94" y="127"/>
                </a:lnTo>
                <a:lnTo>
                  <a:pt x="94" y="127"/>
                </a:lnTo>
                <a:lnTo>
                  <a:pt x="89" y="127"/>
                </a:lnTo>
                <a:lnTo>
                  <a:pt x="82" y="127"/>
                </a:lnTo>
                <a:lnTo>
                  <a:pt x="76" y="126"/>
                </a:lnTo>
                <a:lnTo>
                  <a:pt x="71" y="124"/>
                </a:lnTo>
                <a:lnTo>
                  <a:pt x="65" y="123"/>
                </a:lnTo>
                <a:lnTo>
                  <a:pt x="60" y="121"/>
                </a:lnTo>
                <a:lnTo>
                  <a:pt x="53" y="117"/>
                </a:lnTo>
                <a:lnTo>
                  <a:pt x="47" y="114"/>
                </a:lnTo>
                <a:lnTo>
                  <a:pt x="41" y="109"/>
                </a:lnTo>
                <a:lnTo>
                  <a:pt x="34" y="103"/>
                </a:lnTo>
                <a:lnTo>
                  <a:pt x="28" y="96"/>
                </a:lnTo>
                <a:lnTo>
                  <a:pt x="24" y="93"/>
                </a:lnTo>
                <a:lnTo>
                  <a:pt x="18" y="86"/>
                </a:lnTo>
                <a:lnTo>
                  <a:pt x="11" y="78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867120" y="1015920"/>
            <a:ext cx="8424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490920" y="1015920"/>
            <a:ext cx="8424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495600" y="1020600"/>
            <a:ext cx="7452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4927680" y="1345680"/>
            <a:ext cx="1440" cy="39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4927680" y="126540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4927680" y="1184400"/>
            <a:ext cx="1440" cy="41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763720" y="1174680"/>
            <a:ext cx="387360" cy="203400"/>
          </a:xfrm>
          <a:custGeom>
            <a:avLst/>
            <a:gdLst/>
            <a:ahLst/>
            <a:rect l="l" t="t" r="r" b="b"/>
            <a:pathLst>
              <a:path w="244" h="128">
                <a:moveTo>
                  <a:pt x="0" y="63"/>
                </a:moveTo>
                <a:lnTo>
                  <a:pt x="7" y="54"/>
                </a:lnTo>
                <a:lnTo>
                  <a:pt x="19" y="43"/>
                </a:lnTo>
                <a:lnTo>
                  <a:pt x="30" y="34"/>
                </a:lnTo>
                <a:lnTo>
                  <a:pt x="42" y="28"/>
                </a:lnTo>
                <a:lnTo>
                  <a:pt x="43" y="27"/>
                </a:lnTo>
                <a:lnTo>
                  <a:pt x="53" y="20"/>
                </a:lnTo>
                <a:lnTo>
                  <a:pt x="63" y="15"/>
                </a:lnTo>
                <a:lnTo>
                  <a:pt x="73" y="10"/>
                </a:lnTo>
                <a:lnTo>
                  <a:pt x="82" y="6"/>
                </a:lnTo>
                <a:lnTo>
                  <a:pt x="91" y="4"/>
                </a:lnTo>
                <a:lnTo>
                  <a:pt x="100" y="3"/>
                </a:lnTo>
                <a:lnTo>
                  <a:pt x="109" y="1"/>
                </a:lnTo>
                <a:lnTo>
                  <a:pt x="117" y="0"/>
                </a:lnTo>
                <a:lnTo>
                  <a:pt x="126" y="0"/>
                </a:lnTo>
                <a:lnTo>
                  <a:pt x="135" y="1"/>
                </a:lnTo>
                <a:lnTo>
                  <a:pt x="143" y="3"/>
                </a:lnTo>
                <a:lnTo>
                  <a:pt x="150" y="5"/>
                </a:lnTo>
                <a:lnTo>
                  <a:pt x="159" y="6"/>
                </a:lnTo>
                <a:lnTo>
                  <a:pt x="167" y="10"/>
                </a:lnTo>
                <a:lnTo>
                  <a:pt x="174" y="13"/>
                </a:lnTo>
                <a:lnTo>
                  <a:pt x="174" y="13"/>
                </a:lnTo>
                <a:lnTo>
                  <a:pt x="183" y="18"/>
                </a:lnTo>
                <a:lnTo>
                  <a:pt x="191" y="22"/>
                </a:lnTo>
                <a:lnTo>
                  <a:pt x="200" y="28"/>
                </a:lnTo>
                <a:lnTo>
                  <a:pt x="209" y="34"/>
                </a:lnTo>
                <a:lnTo>
                  <a:pt x="218" y="41"/>
                </a:lnTo>
                <a:lnTo>
                  <a:pt x="226" y="48"/>
                </a:lnTo>
                <a:lnTo>
                  <a:pt x="228" y="48"/>
                </a:lnTo>
                <a:lnTo>
                  <a:pt x="235" y="56"/>
                </a:lnTo>
                <a:lnTo>
                  <a:pt x="244" y="63"/>
                </a:lnTo>
                <a:lnTo>
                  <a:pt x="244" y="63"/>
                </a:lnTo>
                <a:lnTo>
                  <a:pt x="235" y="71"/>
                </a:lnTo>
                <a:lnTo>
                  <a:pt x="228" y="78"/>
                </a:lnTo>
                <a:lnTo>
                  <a:pt x="226" y="80"/>
                </a:lnTo>
                <a:lnTo>
                  <a:pt x="218" y="87"/>
                </a:lnTo>
                <a:lnTo>
                  <a:pt x="209" y="94"/>
                </a:lnTo>
                <a:lnTo>
                  <a:pt x="200" y="100"/>
                </a:lnTo>
                <a:lnTo>
                  <a:pt x="191" y="105"/>
                </a:lnTo>
                <a:lnTo>
                  <a:pt x="183" y="110"/>
                </a:lnTo>
                <a:lnTo>
                  <a:pt x="174" y="115"/>
                </a:lnTo>
                <a:lnTo>
                  <a:pt x="174" y="115"/>
                </a:lnTo>
                <a:lnTo>
                  <a:pt x="167" y="118"/>
                </a:lnTo>
                <a:lnTo>
                  <a:pt x="159" y="120"/>
                </a:lnTo>
                <a:lnTo>
                  <a:pt x="150" y="123"/>
                </a:lnTo>
                <a:lnTo>
                  <a:pt x="143" y="125"/>
                </a:lnTo>
                <a:lnTo>
                  <a:pt x="135" y="127"/>
                </a:lnTo>
                <a:lnTo>
                  <a:pt x="126" y="127"/>
                </a:lnTo>
                <a:lnTo>
                  <a:pt x="117" y="128"/>
                </a:lnTo>
                <a:lnTo>
                  <a:pt x="109" y="127"/>
                </a:lnTo>
                <a:lnTo>
                  <a:pt x="100" y="125"/>
                </a:lnTo>
                <a:lnTo>
                  <a:pt x="91" y="124"/>
                </a:lnTo>
                <a:lnTo>
                  <a:pt x="82" y="122"/>
                </a:lnTo>
                <a:lnTo>
                  <a:pt x="73" y="118"/>
                </a:lnTo>
                <a:lnTo>
                  <a:pt x="63" y="113"/>
                </a:lnTo>
                <a:lnTo>
                  <a:pt x="53" y="108"/>
                </a:lnTo>
                <a:lnTo>
                  <a:pt x="43" y="101"/>
                </a:lnTo>
                <a:lnTo>
                  <a:pt x="42" y="100"/>
                </a:lnTo>
                <a:lnTo>
                  <a:pt x="30" y="92"/>
                </a:lnTo>
                <a:lnTo>
                  <a:pt x="19" y="85"/>
                </a:lnTo>
                <a:lnTo>
                  <a:pt x="7" y="73"/>
                </a:lnTo>
                <a:lnTo>
                  <a:pt x="0" y="6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763720" y="1174680"/>
            <a:ext cx="387360" cy="203400"/>
          </a:xfrm>
          <a:custGeom>
            <a:avLst/>
            <a:gdLst/>
            <a:ahLst/>
            <a:rect l="l" t="t" r="r" b="b"/>
            <a:pathLst>
              <a:path w="244" h="128">
                <a:moveTo>
                  <a:pt x="0" y="63"/>
                </a:moveTo>
                <a:lnTo>
                  <a:pt x="7" y="54"/>
                </a:lnTo>
                <a:lnTo>
                  <a:pt x="19" y="43"/>
                </a:lnTo>
                <a:lnTo>
                  <a:pt x="30" y="34"/>
                </a:lnTo>
                <a:lnTo>
                  <a:pt x="42" y="28"/>
                </a:lnTo>
                <a:lnTo>
                  <a:pt x="43" y="27"/>
                </a:lnTo>
                <a:lnTo>
                  <a:pt x="53" y="20"/>
                </a:lnTo>
                <a:lnTo>
                  <a:pt x="63" y="15"/>
                </a:lnTo>
                <a:lnTo>
                  <a:pt x="73" y="10"/>
                </a:lnTo>
                <a:lnTo>
                  <a:pt x="82" y="6"/>
                </a:lnTo>
                <a:lnTo>
                  <a:pt x="91" y="4"/>
                </a:lnTo>
                <a:lnTo>
                  <a:pt x="100" y="3"/>
                </a:lnTo>
                <a:lnTo>
                  <a:pt x="109" y="1"/>
                </a:lnTo>
                <a:lnTo>
                  <a:pt x="117" y="0"/>
                </a:lnTo>
                <a:lnTo>
                  <a:pt x="126" y="0"/>
                </a:lnTo>
                <a:lnTo>
                  <a:pt x="135" y="1"/>
                </a:lnTo>
                <a:lnTo>
                  <a:pt x="143" y="3"/>
                </a:lnTo>
                <a:lnTo>
                  <a:pt x="150" y="5"/>
                </a:lnTo>
                <a:lnTo>
                  <a:pt x="159" y="6"/>
                </a:lnTo>
                <a:lnTo>
                  <a:pt x="167" y="10"/>
                </a:lnTo>
                <a:lnTo>
                  <a:pt x="174" y="13"/>
                </a:lnTo>
                <a:lnTo>
                  <a:pt x="174" y="13"/>
                </a:lnTo>
                <a:lnTo>
                  <a:pt x="183" y="18"/>
                </a:lnTo>
                <a:lnTo>
                  <a:pt x="191" y="22"/>
                </a:lnTo>
                <a:lnTo>
                  <a:pt x="200" y="28"/>
                </a:lnTo>
                <a:lnTo>
                  <a:pt x="209" y="34"/>
                </a:lnTo>
                <a:lnTo>
                  <a:pt x="218" y="41"/>
                </a:lnTo>
                <a:lnTo>
                  <a:pt x="226" y="48"/>
                </a:lnTo>
                <a:lnTo>
                  <a:pt x="228" y="48"/>
                </a:lnTo>
                <a:lnTo>
                  <a:pt x="235" y="56"/>
                </a:lnTo>
                <a:lnTo>
                  <a:pt x="244" y="63"/>
                </a:lnTo>
                <a:lnTo>
                  <a:pt x="244" y="63"/>
                </a:lnTo>
                <a:lnTo>
                  <a:pt x="235" y="71"/>
                </a:lnTo>
                <a:lnTo>
                  <a:pt x="228" y="78"/>
                </a:lnTo>
                <a:lnTo>
                  <a:pt x="226" y="80"/>
                </a:lnTo>
                <a:lnTo>
                  <a:pt x="218" y="87"/>
                </a:lnTo>
                <a:lnTo>
                  <a:pt x="209" y="94"/>
                </a:lnTo>
                <a:lnTo>
                  <a:pt x="200" y="100"/>
                </a:lnTo>
                <a:lnTo>
                  <a:pt x="191" y="105"/>
                </a:lnTo>
                <a:lnTo>
                  <a:pt x="183" y="110"/>
                </a:lnTo>
                <a:lnTo>
                  <a:pt x="174" y="115"/>
                </a:lnTo>
                <a:lnTo>
                  <a:pt x="174" y="115"/>
                </a:lnTo>
                <a:lnTo>
                  <a:pt x="167" y="118"/>
                </a:lnTo>
                <a:lnTo>
                  <a:pt x="159" y="120"/>
                </a:lnTo>
                <a:lnTo>
                  <a:pt x="150" y="123"/>
                </a:lnTo>
                <a:lnTo>
                  <a:pt x="143" y="125"/>
                </a:lnTo>
                <a:lnTo>
                  <a:pt x="135" y="127"/>
                </a:lnTo>
                <a:lnTo>
                  <a:pt x="126" y="127"/>
                </a:lnTo>
                <a:lnTo>
                  <a:pt x="117" y="128"/>
                </a:lnTo>
                <a:lnTo>
                  <a:pt x="109" y="127"/>
                </a:lnTo>
                <a:lnTo>
                  <a:pt x="100" y="125"/>
                </a:lnTo>
                <a:lnTo>
                  <a:pt x="91" y="124"/>
                </a:lnTo>
                <a:lnTo>
                  <a:pt x="82" y="122"/>
                </a:lnTo>
                <a:lnTo>
                  <a:pt x="73" y="118"/>
                </a:lnTo>
                <a:lnTo>
                  <a:pt x="63" y="113"/>
                </a:lnTo>
                <a:lnTo>
                  <a:pt x="53" y="108"/>
                </a:lnTo>
                <a:lnTo>
                  <a:pt x="43" y="101"/>
                </a:lnTo>
                <a:lnTo>
                  <a:pt x="42" y="100"/>
                </a:lnTo>
                <a:lnTo>
                  <a:pt x="30" y="92"/>
                </a:lnTo>
                <a:lnTo>
                  <a:pt x="19" y="85"/>
                </a:lnTo>
                <a:lnTo>
                  <a:pt x="7" y="73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63720" y="1274760"/>
            <a:ext cx="180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63720" y="1174680"/>
            <a:ext cx="387360" cy="203400"/>
          </a:xfrm>
          <a:custGeom>
            <a:avLst/>
            <a:gdLst/>
            <a:ahLst/>
            <a:rect l="l" t="t" r="r" b="b"/>
            <a:pathLst>
              <a:path w="244" h="128">
                <a:moveTo>
                  <a:pt x="0" y="63"/>
                </a:moveTo>
                <a:lnTo>
                  <a:pt x="7" y="54"/>
                </a:lnTo>
                <a:lnTo>
                  <a:pt x="19" y="43"/>
                </a:lnTo>
                <a:lnTo>
                  <a:pt x="30" y="34"/>
                </a:lnTo>
                <a:lnTo>
                  <a:pt x="42" y="28"/>
                </a:lnTo>
                <a:lnTo>
                  <a:pt x="43" y="27"/>
                </a:lnTo>
                <a:lnTo>
                  <a:pt x="53" y="20"/>
                </a:lnTo>
                <a:lnTo>
                  <a:pt x="63" y="15"/>
                </a:lnTo>
                <a:lnTo>
                  <a:pt x="73" y="10"/>
                </a:lnTo>
                <a:lnTo>
                  <a:pt x="82" y="6"/>
                </a:lnTo>
                <a:lnTo>
                  <a:pt x="91" y="4"/>
                </a:lnTo>
                <a:lnTo>
                  <a:pt x="100" y="3"/>
                </a:lnTo>
                <a:lnTo>
                  <a:pt x="109" y="1"/>
                </a:lnTo>
                <a:lnTo>
                  <a:pt x="117" y="0"/>
                </a:lnTo>
                <a:lnTo>
                  <a:pt x="126" y="0"/>
                </a:lnTo>
                <a:lnTo>
                  <a:pt x="135" y="1"/>
                </a:lnTo>
                <a:lnTo>
                  <a:pt x="143" y="3"/>
                </a:lnTo>
                <a:lnTo>
                  <a:pt x="150" y="5"/>
                </a:lnTo>
                <a:lnTo>
                  <a:pt x="159" y="6"/>
                </a:lnTo>
                <a:lnTo>
                  <a:pt x="167" y="10"/>
                </a:lnTo>
                <a:lnTo>
                  <a:pt x="174" y="13"/>
                </a:lnTo>
                <a:lnTo>
                  <a:pt x="174" y="13"/>
                </a:lnTo>
                <a:lnTo>
                  <a:pt x="183" y="18"/>
                </a:lnTo>
                <a:lnTo>
                  <a:pt x="191" y="22"/>
                </a:lnTo>
                <a:lnTo>
                  <a:pt x="200" y="28"/>
                </a:lnTo>
                <a:lnTo>
                  <a:pt x="209" y="34"/>
                </a:lnTo>
                <a:lnTo>
                  <a:pt x="218" y="41"/>
                </a:lnTo>
                <a:lnTo>
                  <a:pt x="226" y="48"/>
                </a:lnTo>
                <a:lnTo>
                  <a:pt x="228" y="48"/>
                </a:lnTo>
                <a:lnTo>
                  <a:pt x="235" y="56"/>
                </a:lnTo>
                <a:lnTo>
                  <a:pt x="244" y="63"/>
                </a:lnTo>
                <a:lnTo>
                  <a:pt x="244" y="63"/>
                </a:lnTo>
                <a:lnTo>
                  <a:pt x="235" y="71"/>
                </a:lnTo>
                <a:lnTo>
                  <a:pt x="228" y="78"/>
                </a:lnTo>
                <a:lnTo>
                  <a:pt x="226" y="80"/>
                </a:lnTo>
                <a:lnTo>
                  <a:pt x="218" y="87"/>
                </a:lnTo>
                <a:lnTo>
                  <a:pt x="209" y="94"/>
                </a:lnTo>
                <a:lnTo>
                  <a:pt x="200" y="100"/>
                </a:lnTo>
                <a:lnTo>
                  <a:pt x="191" y="105"/>
                </a:lnTo>
                <a:lnTo>
                  <a:pt x="183" y="110"/>
                </a:lnTo>
                <a:lnTo>
                  <a:pt x="174" y="115"/>
                </a:lnTo>
                <a:lnTo>
                  <a:pt x="174" y="115"/>
                </a:lnTo>
                <a:lnTo>
                  <a:pt x="167" y="118"/>
                </a:lnTo>
                <a:lnTo>
                  <a:pt x="159" y="120"/>
                </a:lnTo>
                <a:lnTo>
                  <a:pt x="150" y="123"/>
                </a:lnTo>
                <a:lnTo>
                  <a:pt x="143" y="125"/>
                </a:lnTo>
                <a:lnTo>
                  <a:pt x="135" y="127"/>
                </a:lnTo>
                <a:lnTo>
                  <a:pt x="126" y="127"/>
                </a:lnTo>
                <a:lnTo>
                  <a:pt x="117" y="128"/>
                </a:lnTo>
                <a:lnTo>
                  <a:pt x="109" y="127"/>
                </a:lnTo>
                <a:lnTo>
                  <a:pt x="100" y="125"/>
                </a:lnTo>
                <a:lnTo>
                  <a:pt x="91" y="124"/>
                </a:lnTo>
                <a:lnTo>
                  <a:pt x="82" y="122"/>
                </a:lnTo>
                <a:lnTo>
                  <a:pt x="73" y="118"/>
                </a:lnTo>
                <a:lnTo>
                  <a:pt x="63" y="113"/>
                </a:lnTo>
                <a:lnTo>
                  <a:pt x="53" y="108"/>
                </a:lnTo>
                <a:lnTo>
                  <a:pt x="43" y="101"/>
                </a:lnTo>
                <a:lnTo>
                  <a:pt x="42" y="100"/>
                </a:lnTo>
                <a:lnTo>
                  <a:pt x="30" y="92"/>
                </a:lnTo>
                <a:lnTo>
                  <a:pt x="19" y="85"/>
                </a:lnTo>
                <a:lnTo>
                  <a:pt x="7" y="73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48000" y="1233360"/>
            <a:ext cx="8424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908440" y="1233360"/>
            <a:ext cx="8388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913120" y="1238400"/>
            <a:ext cx="745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4927680" y="1561680"/>
            <a:ext cx="1440" cy="41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4927680" y="148284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4927680" y="140184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871720" y="1393920"/>
            <a:ext cx="317520" cy="201600"/>
          </a:xfrm>
          <a:custGeom>
            <a:avLst/>
            <a:gdLst/>
            <a:ahLst/>
            <a:rect l="l" t="t" r="r" b="b"/>
            <a:pathLst>
              <a:path w="200" h="127">
                <a:moveTo>
                  <a:pt x="0" y="63"/>
                </a:moveTo>
                <a:lnTo>
                  <a:pt x="4" y="58"/>
                </a:lnTo>
                <a:lnTo>
                  <a:pt x="13" y="49"/>
                </a:lnTo>
                <a:lnTo>
                  <a:pt x="20" y="40"/>
                </a:lnTo>
                <a:lnTo>
                  <a:pt x="29" y="32"/>
                </a:lnTo>
                <a:lnTo>
                  <a:pt x="36" y="28"/>
                </a:lnTo>
                <a:lnTo>
                  <a:pt x="42" y="23"/>
                </a:lnTo>
                <a:lnTo>
                  <a:pt x="48" y="19"/>
                </a:lnTo>
                <a:lnTo>
                  <a:pt x="53" y="15"/>
                </a:lnTo>
                <a:lnTo>
                  <a:pt x="60" y="11"/>
                </a:lnTo>
                <a:lnTo>
                  <a:pt x="66" y="9"/>
                </a:lnTo>
                <a:lnTo>
                  <a:pt x="72" y="6"/>
                </a:lnTo>
                <a:lnTo>
                  <a:pt x="79" y="4"/>
                </a:lnTo>
                <a:lnTo>
                  <a:pt x="84" y="3"/>
                </a:lnTo>
                <a:lnTo>
                  <a:pt x="90" y="1"/>
                </a:lnTo>
                <a:lnTo>
                  <a:pt x="96" y="0"/>
                </a:lnTo>
                <a:lnTo>
                  <a:pt x="103" y="0"/>
                </a:lnTo>
                <a:lnTo>
                  <a:pt x="109" y="0"/>
                </a:lnTo>
                <a:lnTo>
                  <a:pt x="114" y="0"/>
                </a:lnTo>
                <a:lnTo>
                  <a:pt x="120" y="0"/>
                </a:lnTo>
                <a:lnTo>
                  <a:pt x="120" y="0"/>
                </a:lnTo>
                <a:lnTo>
                  <a:pt x="125" y="1"/>
                </a:lnTo>
                <a:lnTo>
                  <a:pt x="131" y="3"/>
                </a:lnTo>
                <a:lnTo>
                  <a:pt x="134" y="4"/>
                </a:lnTo>
                <a:lnTo>
                  <a:pt x="139" y="5"/>
                </a:lnTo>
                <a:lnTo>
                  <a:pt x="144" y="8"/>
                </a:lnTo>
                <a:lnTo>
                  <a:pt x="150" y="9"/>
                </a:lnTo>
                <a:lnTo>
                  <a:pt x="155" y="11"/>
                </a:lnTo>
                <a:lnTo>
                  <a:pt x="158" y="14"/>
                </a:lnTo>
                <a:lnTo>
                  <a:pt x="163" y="16"/>
                </a:lnTo>
                <a:lnTo>
                  <a:pt x="169" y="20"/>
                </a:lnTo>
                <a:lnTo>
                  <a:pt x="174" y="24"/>
                </a:lnTo>
                <a:lnTo>
                  <a:pt x="179" y="28"/>
                </a:lnTo>
                <a:lnTo>
                  <a:pt x="184" y="32"/>
                </a:lnTo>
                <a:lnTo>
                  <a:pt x="187" y="35"/>
                </a:lnTo>
                <a:lnTo>
                  <a:pt x="193" y="39"/>
                </a:lnTo>
                <a:lnTo>
                  <a:pt x="200" y="47"/>
                </a:lnTo>
                <a:lnTo>
                  <a:pt x="200" y="78"/>
                </a:lnTo>
                <a:lnTo>
                  <a:pt x="193" y="86"/>
                </a:lnTo>
                <a:lnTo>
                  <a:pt x="187" y="91"/>
                </a:lnTo>
                <a:lnTo>
                  <a:pt x="184" y="95"/>
                </a:lnTo>
                <a:lnTo>
                  <a:pt x="179" y="99"/>
                </a:lnTo>
                <a:lnTo>
                  <a:pt x="174" y="103"/>
                </a:lnTo>
                <a:lnTo>
                  <a:pt x="169" y="105"/>
                </a:lnTo>
                <a:lnTo>
                  <a:pt x="163" y="109"/>
                </a:lnTo>
                <a:lnTo>
                  <a:pt x="158" y="111"/>
                </a:lnTo>
                <a:lnTo>
                  <a:pt x="155" y="114"/>
                </a:lnTo>
                <a:lnTo>
                  <a:pt x="150" y="116"/>
                </a:lnTo>
                <a:lnTo>
                  <a:pt x="144" y="119"/>
                </a:lnTo>
                <a:lnTo>
                  <a:pt x="139" y="120"/>
                </a:lnTo>
                <a:lnTo>
                  <a:pt x="134" y="122"/>
                </a:lnTo>
                <a:lnTo>
                  <a:pt x="131" y="123"/>
                </a:lnTo>
                <a:lnTo>
                  <a:pt x="125" y="124"/>
                </a:lnTo>
                <a:lnTo>
                  <a:pt x="120" y="125"/>
                </a:lnTo>
                <a:lnTo>
                  <a:pt x="120" y="125"/>
                </a:lnTo>
                <a:lnTo>
                  <a:pt x="114" y="127"/>
                </a:lnTo>
                <a:lnTo>
                  <a:pt x="109" y="127"/>
                </a:lnTo>
                <a:lnTo>
                  <a:pt x="103" y="127"/>
                </a:lnTo>
                <a:lnTo>
                  <a:pt x="96" y="125"/>
                </a:lnTo>
                <a:lnTo>
                  <a:pt x="90" y="125"/>
                </a:lnTo>
                <a:lnTo>
                  <a:pt x="84" y="124"/>
                </a:lnTo>
                <a:lnTo>
                  <a:pt x="79" y="122"/>
                </a:lnTo>
                <a:lnTo>
                  <a:pt x="72" y="120"/>
                </a:lnTo>
                <a:lnTo>
                  <a:pt x="66" y="118"/>
                </a:lnTo>
                <a:lnTo>
                  <a:pt x="60" y="114"/>
                </a:lnTo>
                <a:lnTo>
                  <a:pt x="53" y="110"/>
                </a:lnTo>
                <a:lnTo>
                  <a:pt x="48" y="108"/>
                </a:lnTo>
                <a:lnTo>
                  <a:pt x="42" y="103"/>
                </a:lnTo>
                <a:lnTo>
                  <a:pt x="36" y="99"/>
                </a:lnTo>
                <a:lnTo>
                  <a:pt x="29" y="94"/>
                </a:lnTo>
                <a:lnTo>
                  <a:pt x="20" y="85"/>
                </a:lnTo>
                <a:lnTo>
                  <a:pt x="13" y="77"/>
                </a:lnTo>
                <a:lnTo>
                  <a:pt x="4" y="67"/>
                </a:lnTo>
                <a:lnTo>
                  <a:pt x="0" y="6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871720" y="1393920"/>
            <a:ext cx="317520" cy="201600"/>
          </a:xfrm>
          <a:custGeom>
            <a:avLst/>
            <a:gdLst/>
            <a:ahLst/>
            <a:rect l="l" t="t" r="r" b="b"/>
            <a:pathLst>
              <a:path w="200" h="127">
                <a:moveTo>
                  <a:pt x="0" y="63"/>
                </a:moveTo>
                <a:lnTo>
                  <a:pt x="4" y="58"/>
                </a:lnTo>
                <a:lnTo>
                  <a:pt x="13" y="49"/>
                </a:lnTo>
                <a:lnTo>
                  <a:pt x="20" y="40"/>
                </a:lnTo>
                <a:lnTo>
                  <a:pt x="29" y="32"/>
                </a:lnTo>
                <a:lnTo>
                  <a:pt x="36" y="28"/>
                </a:lnTo>
                <a:lnTo>
                  <a:pt x="42" y="23"/>
                </a:lnTo>
                <a:lnTo>
                  <a:pt x="48" y="19"/>
                </a:lnTo>
                <a:lnTo>
                  <a:pt x="53" y="15"/>
                </a:lnTo>
                <a:lnTo>
                  <a:pt x="60" y="11"/>
                </a:lnTo>
                <a:lnTo>
                  <a:pt x="66" y="9"/>
                </a:lnTo>
                <a:lnTo>
                  <a:pt x="72" y="6"/>
                </a:lnTo>
                <a:lnTo>
                  <a:pt x="79" y="4"/>
                </a:lnTo>
                <a:lnTo>
                  <a:pt x="84" y="3"/>
                </a:lnTo>
                <a:lnTo>
                  <a:pt x="90" y="1"/>
                </a:lnTo>
                <a:lnTo>
                  <a:pt x="96" y="0"/>
                </a:lnTo>
                <a:lnTo>
                  <a:pt x="103" y="0"/>
                </a:lnTo>
                <a:lnTo>
                  <a:pt x="109" y="0"/>
                </a:lnTo>
                <a:lnTo>
                  <a:pt x="114" y="0"/>
                </a:lnTo>
                <a:lnTo>
                  <a:pt x="120" y="0"/>
                </a:lnTo>
                <a:lnTo>
                  <a:pt x="120" y="0"/>
                </a:lnTo>
                <a:lnTo>
                  <a:pt x="125" y="1"/>
                </a:lnTo>
                <a:lnTo>
                  <a:pt x="131" y="3"/>
                </a:lnTo>
                <a:lnTo>
                  <a:pt x="134" y="4"/>
                </a:lnTo>
                <a:lnTo>
                  <a:pt x="139" y="5"/>
                </a:lnTo>
                <a:lnTo>
                  <a:pt x="144" y="8"/>
                </a:lnTo>
                <a:lnTo>
                  <a:pt x="150" y="9"/>
                </a:lnTo>
                <a:lnTo>
                  <a:pt x="155" y="11"/>
                </a:lnTo>
                <a:lnTo>
                  <a:pt x="158" y="14"/>
                </a:lnTo>
                <a:lnTo>
                  <a:pt x="163" y="16"/>
                </a:lnTo>
                <a:lnTo>
                  <a:pt x="169" y="20"/>
                </a:lnTo>
                <a:lnTo>
                  <a:pt x="174" y="24"/>
                </a:lnTo>
                <a:lnTo>
                  <a:pt x="179" y="28"/>
                </a:lnTo>
                <a:lnTo>
                  <a:pt x="184" y="32"/>
                </a:lnTo>
                <a:lnTo>
                  <a:pt x="187" y="35"/>
                </a:lnTo>
                <a:lnTo>
                  <a:pt x="193" y="39"/>
                </a:lnTo>
                <a:lnTo>
                  <a:pt x="200" y="47"/>
                </a:lnTo>
                <a:lnTo>
                  <a:pt x="200" y="78"/>
                </a:lnTo>
                <a:lnTo>
                  <a:pt x="193" y="86"/>
                </a:lnTo>
                <a:lnTo>
                  <a:pt x="187" y="91"/>
                </a:lnTo>
                <a:lnTo>
                  <a:pt x="184" y="95"/>
                </a:lnTo>
                <a:lnTo>
                  <a:pt x="179" y="99"/>
                </a:lnTo>
                <a:lnTo>
                  <a:pt x="174" y="103"/>
                </a:lnTo>
                <a:lnTo>
                  <a:pt x="169" y="105"/>
                </a:lnTo>
                <a:lnTo>
                  <a:pt x="163" y="109"/>
                </a:lnTo>
                <a:lnTo>
                  <a:pt x="158" y="111"/>
                </a:lnTo>
                <a:lnTo>
                  <a:pt x="155" y="114"/>
                </a:lnTo>
                <a:lnTo>
                  <a:pt x="150" y="116"/>
                </a:lnTo>
                <a:lnTo>
                  <a:pt x="144" y="119"/>
                </a:lnTo>
                <a:lnTo>
                  <a:pt x="139" y="120"/>
                </a:lnTo>
                <a:lnTo>
                  <a:pt x="134" y="122"/>
                </a:lnTo>
                <a:lnTo>
                  <a:pt x="131" y="123"/>
                </a:lnTo>
                <a:lnTo>
                  <a:pt x="125" y="124"/>
                </a:lnTo>
                <a:lnTo>
                  <a:pt x="120" y="125"/>
                </a:lnTo>
                <a:lnTo>
                  <a:pt x="120" y="125"/>
                </a:lnTo>
                <a:lnTo>
                  <a:pt x="114" y="127"/>
                </a:lnTo>
                <a:lnTo>
                  <a:pt x="109" y="127"/>
                </a:lnTo>
                <a:lnTo>
                  <a:pt x="103" y="127"/>
                </a:lnTo>
                <a:lnTo>
                  <a:pt x="96" y="125"/>
                </a:lnTo>
                <a:lnTo>
                  <a:pt x="90" y="125"/>
                </a:lnTo>
                <a:lnTo>
                  <a:pt x="84" y="124"/>
                </a:lnTo>
                <a:lnTo>
                  <a:pt x="79" y="122"/>
                </a:lnTo>
                <a:lnTo>
                  <a:pt x="72" y="120"/>
                </a:lnTo>
                <a:lnTo>
                  <a:pt x="66" y="118"/>
                </a:lnTo>
                <a:lnTo>
                  <a:pt x="60" y="114"/>
                </a:lnTo>
                <a:lnTo>
                  <a:pt x="53" y="110"/>
                </a:lnTo>
                <a:lnTo>
                  <a:pt x="48" y="108"/>
                </a:lnTo>
                <a:lnTo>
                  <a:pt x="42" y="103"/>
                </a:lnTo>
                <a:lnTo>
                  <a:pt x="36" y="99"/>
                </a:lnTo>
                <a:lnTo>
                  <a:pt x="29" y="94"/>
                </a:lnTo>
                <a:lnTo>
                  <a:pt x="20" y="85"/>
                </a:lnTo>
                <a:lnTo>
                  <a:pt x="13" y="77"/>
                </a:lnTo>
                <a:lnTo>
                  <a:pt x="4" y="67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871720" y="1494000"/>
            <a:ext cx="180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71720" y="1393920"/>
            <a:ext cx="317520" cy="201600"/>
          </a:xfrm>
          <a:custGeom>
            <a:avLst/>
            <a:gdLst/>
            <a:ahLst/>
            <a:rect l="l" t="t" r="r" b="b"/>
            <a:pathLst>
              <a:path w="200" h="127">
                <a:moveTo>
                  <a:pt x="0" y="63"/>
                </a:moveTo>
                <a:lnTo>
                  <a:pt x="4" y="58"/>
                </a:lnTo>
                <a:lnTo>
                  <a:pt x="13" y="49"/>
                </a:lnTo>
                <a:lnTo>
                  <a:pt x="20" y="40"/>
                </a:lnTo>
                <a:lnTo>
                  <a:pt x="29" y="32"/>
                </a:lnTo>
                <a:lnTo>
                  <a:pt x="36" y="28"/>
                </a:lnTo>
                <a:lnTo>
                  <a:pt x="42" y="23"/>
                </a:lnTo>
                <a:lnTo>
                  <a:pt x="48" y="19"/>
                </a:lnTo>
                <a:lnTo>
                  <a:pt x="53" y="15"/>
                </a:lnTo>
                <a:lnTo>
                  <a:pt x="60" y="11"/>
                </a:lnTo>
                <a:lnTo>
                  <a:pt x="66" y="9"/>
                </a:lnTo>
                <a:lnTo>
                  <a:pt x="72" y="6"/>
                </a:lnTo>
                <a:lnTo>
                  <a:pt x="79" y="4"/>
                </a:lnTo>
                <a:lnTo>
                  <a:pt x="84" y="3"/>
                </a:lnTo>
                <a:lnTo>
                  <a:pt x="90" y="1"/>
                </a:lnTo>
                <a:lnTo>
                  <a:pt x="96" y="0"/>
                </a:lnTo>
                <a:lnTo>
                  <a:pt x="103" y="0"/>
                </a:lnTo>
                <a:lnTo>
                  <a:pt x="109" y="0"/>
                </a:lnTo>
                <a:lnTo>
                  <a:pt x="114" y="0"/>
                </a:lnTo>
                <a:lnTo>
                  <a:pt x="120" y="0"/>
                </a:lnTo>
                <a:lnTo>
                  <a:pt x="120" y="0"/>
                </a:lnTo>
                <a:lnTo>
                  <a:pt x="125" y="1"/>
                </a:lnTo>
                <a:lnTo>
                  <a:pt x="131" y="3"/>
                </a:lnTo>
                <a:lnTo>
                  <a:pt x="134" y="4"/>
                </a:lnTo>
                <a:lnTo>
                  <a:pt x="139" y="5"/>
                </a:lnTo>
                <a:lnTo>
                  <a:pt x="144" y="8"/>
                </a:lnTo>
                <a:lnTo>
                  <a:pt x="150" y="9"/>
                </a:lnTo>
                <a:lnTo>
                  <a:pt x="155" y="11"/>
                </a:lnTo>
                <a:lnTo>
                  <a:pt x="158" y="14"/>
                </a:lnTo>
                <a:lnTo>
                  <a:pt x="163" y="16"/>
                </a:lnTo>
                <a:lnTo>
                  <a:pt x="169" y="20"/>
                </a:lnTo>
                <a:lnTo>
                  <a:pt x="174" y="24"/>
                </a:lnTo>
                <a:lnTo>
                  <a:pt x="179" y="28"/>
                </a:lnTo>
                <a:lnTo>
                  <a:pt x="184" y="32"/>
                </a:lnTo>
                <a:lnTo>
                  <a:pt x="187" y="35"/>
                </a:lnTo>
                <a:lnTo>
                  <a:pt x="193" y="39"/>
                </a:lnTo>
                <a:lnTo>
                  <a:pt x="200" y="47"/>
                </a:lnTo>
                <a:lnTo>
                  <a:pt x="200" y="78"/>
                </a:lnTo>
                <a:lnTo>
                  <a:pt x="193" y="86"/>
                </a:lnTo>
                <a:lnTo>
                  <a:pt x="187" y="91"/>
                </a:lnTo>
                <a:lnTo>
                  <a:pt x="184" y="95"/>
                </a:lnTo>
                <a:lnTo>
                  <a:pt x="179" y="99"/>
                </a:lnTo>
                <a:lnTo>
                  <a:pt x="174" y="103"/>
                </a:lnTo>
                <a:lnTo>
                  <a:pt x="169" y="105"/>
                </a:lnTo>
                <a:lnTo>
                  <a:pt x="163" y="109"/>
                </a:lnTo>
                <a:lnTo>
                  <a:pt x="158" y="111"/>
                </a:lnTo>
                <a:lnTo>
                  <a:pt x="155" y="114"/>
                </a:lnTo>
                <a:lnTo>
                  <a:pt x="150" y="116"/>
                </a:lnTo>
                <a:lnTo>
                  <a:pt x="144" y="119"/>
                </a:lnTo>
                <a:lnTo>
                  <a:pt x="139" y="120"/>
                </a:lnTo>
                <a:lnTo>
                  <a:pt x="134" y="122"/>
                </a:lnTo>
                <a:lnTo>
                  <a:pt x="131" y="123"/>
                </a:lnTo>
                <a:lnTo>
                  <a:pt x="125" y="124"/>
                </a:lnTo>
                <a:lnTo>
                  <a:pt x="120" y="125"/>
                </a:lnTo>
                <a:lnTo>
                  <a:pt x="120" y="125"/>
                </a:lnTo>
                <a:lnTo>
                  <a:pt x="114" y="127"/>
                </a:lnTo>
                <a:lnTo>
                  <a:pt x="109" y="127"/>
                </a:lnTo>
                <a:lnTo>
                  <a:pt x="103" y="127"/>
                </a:lnTo>
                <a:lnTo>
                  <a:pt x="96" y="125"/>
                </a:lnTo>
                <a:lnTo>
                  <a:pt x="90" y="125"/>
                </a:lnTo>
                <a:lnTo>
                  <a:pt x="84" y="124"/>
                </a:lnTo>
                <a:lnTo>
                  <a:pt x="79" y="122"/>
                </a:lnTo>
                <a:lnTo>
                  <a:pt x="72" y="120"/>
                </a:lnTo>
                <a:lnTo>
                  <a:pt x="66" y="118"/>
                </a:lnTo>
                <a:lnTo>
                  <a:pt x="60" y="114"/>
                </a:lnTo>
                <a:lnTo>
                  <a:pt x="53" y="110"/>
                </a:lnTo>
                <a:lnTo>
                  <a:pt x="48" y="108"/>
                </a:lnTo>
                <a:lnTo>
                  <a:pt x="42" y="103"/>
                </a:lnTo>
                <a:lnTo>
                  <a:pt x="36" y="99"/>
                </a:lnTo>
                <a:lnTo>
                  <a:pt x="29" y="94"/>
                </a:lnTo>
                <a:lnTo>
                  <a:pt x="20" y="85"/>
                </a:lnTo>
                <a:lnTo>
                  <a:pt x="13" y="77"/>
                </a:lnTo>
                <a:lnTo>
                  <a:pt x="4" y="67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602160" y="1452600"/>
            <a:ext cx="8388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002040" y="1452600"/>
            <a:ext cx="8568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006720" y="1457280"/>
            <a:ext cx="763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4927680" y="1779120"/>
            <a:ext cx="1440" cy="39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4927680" y="1698120"/>
            <a:ext cx="1440" cy="41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4927680" y="161928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06640" y="1611360"/>
            <a:ext cx="292320" cy="199800"/>
          </a:xfrm>
          <a:custGeom>
            <a:avLst/>
            <a:gdLst/>
            <a:ahLst/>
            <a:rect l="l" t="t" r="r" b="b"/>
            <a:pathLst>
              <a:path w="184" h="126">
                <a:moveTo>
                  <a:pt x="0" y="63"/>
                </a:moveTo>
                <a:lnTo>
                  <a:pt x="6" y="55"/>
                </a:lnTo>
                <a:lnTo>
                  <a:pt x="12" y="47"/>
                </a:lnTo>
                <a:lnTo>
                  <a:pt x="19" y="39"/>
                </a:lnTo>
                <a:lnTo>
                  <a:pt x="26" y="33"/>
                </a:lnTo>
                <a:lnTo>
                  <a:pt x="33" y="26"/>
                </a:lnTo>
                <a:lnTo>
                  <a:pt x="39" y="21"/>
                </a:lnTo>
                <a:lnTo>
                  <a:pt x="45" y="16"/>
                </a:lnTo>
                <a:lnTo>
                  <a:pt x="52" y="12"/>
                </a:lnTo>
                <a:lnTo>
                  <a:pt x="59" y="9"/>
                </a:lnTo>
                <a:lnTo>
                  <a:pt x="65" y="6"/>
                </a:lnTo>
                <a:lnTo>
                  <a:pt x="72" y="3"/>
                </a:lnTo>
                <a:lnTo>
                  <a:pt x="78" y="1"/>
                </a:lnTo>
                <a:lnTo>
                  <a:pt x="84" y="0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0"/>
                </a:lnTo>
                <a:lnTo>
                  <a:pt x="105" y="0"/>
                </a:lnTo>
                <a:lnTo>
                  <a:pt x="111" y="1"/>
                </a:lnTo>
                <a:lnTo>
                  <a:pt x="116" y="2"/>
                </a:lnTo>
                <a:lnTo>
                  <a:pt x="121" y="5"/>
                </a:lnTo>
                <a:lnTo>
                  <a:pt x="126" y="6"/>
                </a:lnTo>
                <a:lnTo>
                  <a:pt x="133" y="9"/>
                </a:lnTo>
                <a:lnTo>
                  <a:pt x="138" y="12"/>
                </a:lnTo>
                <a:lnTo>
                  <a:pt x="143" y="15"/>
                </a:lnTo>
                <a:lnTo>
                  <a:pt x="149" y="19"/>
                </a:lnTo>
                <a:lnTo>
                  <a:pt x="153" y="22"/>
                </a:lnTo>
                <a:lnTo>
                  <a:pt x="158" y="26"/>
                </a:lnTo>
                <a:lnTo>
                  <a:pt x="164" y="33"/>
                </a:lnTo>
                <a:lnTo>
                  <a:pt x="171" y="38"/>
                </a:lnTo>
                <a:lnTo>
                  <a:pt x="176" y="44"/>
                </a:lnTo>
                <a:lnTo>
                  <a:pt x="181" y="49"/>
                </a:lnTo>
                <a:lnTo>
                  <a:pt x="184" y="55"/>
                </a:lnTo>
                <a:lnTo>
                  <a:pt x="184" y="71"/>
                </a:lnTo>
                <a:lnTo>
                  <a:pt x="181" y="77"/>
                </a:lnTo>
                <a:lnTo>
                  <a:pt x="176" y="82"/>
                </a:lnTo>
                <a:lnTo>
                  <a:pt x="171" y="88"/>
                </a:lnTo>
                <a:lnTo>
                  <a:pt x="164" y="93"/>
                </a:lnTo>
                <a:lnTo>
                  <a:pt x="158" y="98"/>
                </a:lnTo>
                <a:lnTo>
                  <a:pt x="153" y="103"/>
                </a:lnTo>
                <a:lnTo>
                  <a:pt x="149" y="107"/>
                </a:lnTo>
                <a:lnTo>
                  <a:pt x="143" y="111"/>
                </a:lnTo>
                <a:lnTo>
                  <a:pt x="138" y="114"/>
                </a:lnTo>
                <a:lnTo>
                  <a:pt x="133" y="117"/>
                </a:lnTo>
                <a:lnTo>
                  <a:pt x="126" y="120"/>
                </a:lnTo>
                <a:lnTo>
                  <a:pt x="121" y="121"/>
                </a:lnTo>
                <a:lnTo>
                  <a:pt x="116" y="124"/>
                </a:lnTo>
                <a:lnTo>
                  <a:pt x="111" y="125"/>
                </a:lnTo>
                <a:lnTo>
                  <a:pt x="105" y="126"/>
                </a:lnTo>
                <a:lnTo>
                  <a:pt x="105" y="126"/>
                </a:lnTo>
                <a:lnTo>
                  <a:pt x="100" y="126"/>
                </a:lnTo>
                <a:lnTo>
                  <a:pt x="95" y="126"/>
                </a:lnTo>
                <a:lnTo>
                  <a:pt x="90" y="126"/>
                </a:lnTo>
                <a:lnTo>
                  <a:pt x="84" y="125"/>
                </a:lnTo>
                <a:lnTo>
                  <a:pt x="78" y="125"/>
                </a:lnTo>
                <a:lnTo>
                  <a:pt x="72" y="122"/>
                </a:lnTo>
                <a:lnTo>
                  <a:pt x="65" y="120"/>
                </a:lnTo>
                <a:lnTo>
                  <a:pt x="59" y="117"/>
                </a:lnTo>
                <a:lnTo>
                  <a:pt x="52" y="114"/>
                </a:lnTo>
                <a:lnTo>
                  <a:pt x="45" y="110"/>
                </a:lnTo>
                <a:lnTo>
                  <a:pt x="39" y="105"/>
                </a:lnTo>
                <a:lnTo>
                  <a:pt x="33" y="98"/>
                </a:lnTo>
                <a:lnTo>
                  <a:pt x="26" y="93"/>
                </a:lnTo>
                <a:lnTo>
                  <a:pt x="19" y="86"/>
                </a:lnTo>
                <a:lnTo>
                  <a:pt x="12" y="79"/>
                </a:lnTo>
                <a:lnTo>
                  <a:pt x="6" y="71"/>
                </a:lnTo>
                <a:lnTo>
                  <a:pt x="0" y="63"/>
                </a:lnTo>
                <a:close/>
              </a:path>
            </a:pathLst>
          </a:custGeom>
          <a:solidFill>
            <a:srgbClr val="cecec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906640" y="1611360"/>
            <a:ext cx="292320" cy="199800"/>
          </a:xfrm>
          <a:custGeom>
            <a:avLst/>
            <a:gdLst/>
            <a:ahLst/>
            <a:rect l="l" t="t" r="r" b="b"/>
            <a:pathLst>
              <a:path w="184" h="126">
                <a:moveTo>
                  <a:pt x="0" y="63"/>
                </a:moveTo>
                <a:lnTo>
                  <a:pt x="6" y="55"/>
                </a:lnTo>
                <a:lnTo>
                  <a:pt x="12" y="47"/>
                </a:lnTo>
                <a:lnTo>
                  <a:pt x="19" y="39"/>
                </a:lnTo>
                <a:lnTo>
                  <a:pt x="26" y="33"/>
                </a:lnTo>
                <a:lnTo>
                  <a:pt x="33" y="26"/>
                </a:lnTo>
                <a:lnTo>
                  <a:pt x="39" y="21"/>
                </a:lnTo>
                <a:lnTo>
                  <a:pt x="45" y="16"/>
                </a:lnTo>
                <a:lnTo>
                  <a:pt x="52" y="12"/>
                </a:lnTo>
                <a:lnTo>
                  <a:pt x="59" y="9"/>
                </a:lnTo>
                <a:lnTo>
                  <a:pt x="65" y="6"/>
                </a:lnTo>
                <a:lnTo>
                  <a:pt x="72" y="3"/>
                </a:lnTo>
                <a:lnTo>
                  <a:pt x="78" y="1"/>
                </a:lnTo>
                <a:lnTo>
                  <a:pt x="84" y="0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0"/>
                </a:lnTo>
                <a:lnTo>
                  <a:pt x="105" y="0"/>
                </a:lnTo>
                <a:lnTo>
                  <a:pt x="111" y="1"/>
                </a:lnTo>
                <a:lnTo>
                  <a:pt x="116" y="2"/>
                </a:lnTo>
                <a:lnTo>
                  <a:pt x="121" y="5"/>
                </a:lnTo>
                <a:lnTo>
                  <a:pt x="126" y="6"/>
                </a:lnTo>
                <a:lnTo>
                  <a:pt x="133" y="9"/>
                </a:lnTo>
                <a:lnTo>
                  <a:pt x="138" y="12"/>
                </a:lnTo>
                <a:lnTo>
                  <a:pt x="143" y="15"/>
                </a:lnTo>
                <a:lnTo>
                  <a:pt x="149" y="19"/>
                </a:lnTo>
                <a:lnTo>
                  <a:pt x="153" y="22"/>
                </a:lnTo>
                <a:lnTo>
                  <a:pt x="158" y="26"/>
                </a:lnTo>
                <a:lnTo>
                  <a:pt x="164" y="33"/>
                </a:lnTo>
                <a:lnTo>
                  <a:pt x="171" y="38"/>
                </a:lnTo>
                <a:lnTo>
                  <a:pt x="176" y="44"/>
                </a:lnTo>
                <a:lnTo>
                  <a:pt x="181" y="49"/>
                </a:lnTo>
                <a:lnTo>
                  <a:pt x="184" y="55"/>
                </a:lnTo>
                <a:lnTo>
                  <a:pt x="184" y="71"/>
                </a:lnTo>
                <a:lnTo>
                  <a:pt x="181" y="77"/>
                </a:lnTo>
                <a:lnTo>
                  <a:pt x="176" y="82"/>
                </a:lnTo>
                <a:lnTo>
                  <a:pt x="171" y="88"/>
                </a:lnTo>
                <a:lnTo>
                  <a:pt x="164" y="93"/>
                </a:lnTo>
                <a:lnTo>
                  <a:pt x="158" y="98"/>
                </a:lnTo>
                <a:lnTo>
                  <a:pt x="153" y="103"/>
                </a:lnTo>
                <a:lnTo>
                  <a:pt x="149" y="107"/>
                </a:lnTo>
                <a:lnTo>
                  <a:pt x="143" y="111"/>
                </a:lnTo>
                <a:lnTo>
                  <a:pt x="138" y="114"/>
                </a:lnTo>
                <a:lnTo>
                  <a:pt x="133" y="117"/>
                </a:lnTo>
                <a:lnTo>
                  <a:pt x="126" y="120"/>
                </a:lnTo>
                <a:lnTo>
                  <a:pt x="121" y="121"/>
                </a:lnTo>
                <a:lnTo>
                  <a:pt x="116" y="124"/>
                </a:lnTo>
                <a:lnTo>
                  <a:pt x="111" y="125"/>
                </a:lnTo>
                <a:lnTo>
                  <a:pt x="105" y="126"/>
                </a:lnTo>
                <a:lnTo>
                  <a:pt x="105" y="126"/>
                </a:lnTo>
                <a:lnTo>
                  <a:pt x="100" y="126"/>
                </a:lnTo>
                <a:lnTo>
                  <a:pt x="95" y="126"/>
                </a:lnTo>
                <a:lnTo>
                  <a:pt x="90" y="126"/>
                </a:lnTo>
                <a:lnTo>
                  <a:pt x="84" y="125"/>
                </a:lnTo>
                <a:lnTo>
                  <a:pt x="78" y="125"/>
                </a:lnTo>
                <a:lnTo>
                  <a:pt x="72" y="122"/>
                </a:lnTo>
                <a:lnTo>
                  <a:pt x="65" y="120"/>
                </a:lnTo>
                <a:lnTo>
                  <a:pt x="59" y="117"/>
                </a:lnTo>
                <a:lnTo>
                  <a:pt x="52" y="114"/>
                </a:lnTo>
                <a:lnTo>
                  <a:pt x="45" y="110"/>
                </a:lnTo>
                <a:lnTo>
                  <a:pt x="39" y="105"/>
                </a:lnTo>
                <a:lnTo>
                  <a:pt x="33" y="98"/>
                </a:lnTo>
                <a:lnTo>
                  <a:pt x="26" y="93"/>
                </a:lnTo>
                <a:lnTo>
                  <a:pt x="19" y="86"/>
                </a:lnTo>
                <a:lnTo>
                  <a:pt x="12" y="79"/>
                </a:lnTo>
                <a:lnTo>
                  <a:pt x="6" y="71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906640" y="1711440"/>
            <a:ext cx="180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906640" y="1611360"/>
            <a:ext cx="292320" cy="199800"/>
          </a:xfrm>
          <a:custGeom>
            <a:avLst/>
            <a:gdLst/>
            <a:ahLst/>
            <a:rect l="l" t="t" r="r" b="b"/>
            <a:pathLst>
              <a:path w="184" h="126">
                <a:moveTo>
                  <a:pt x="0" y="63"/>
                </a:moveTo>
                <a:lnTo>
                  <a:pt x="6" y="55"/>
                </a:lnTo>
                <a:lnTo>
                  <a:pt x="12" y="47"/>
                </a:lnTo>
                <a:lnTo>
                  <a:pt x="19" y="39"/>
                </a:lnTo>
                <a:lnTo>
                  <a:pt x="26" y="33"/>
                </a:lnTo>
                <a:lnTo>
                  <a:pt x="33" y="26"/>
                </a:lnTo>
                <a:lnTo>
                  <a:pt x="39" y="21"/>
                </a:lnTo>
                <a:lnTo>
                  <a:pt x="45" y="16"/>
                </a:lnTo>
                <a:lnTo>
                  <a:pt x="52" y="12"/>
                </a:lnTo>
                <a:lnTo>
                  <a:pt x="59" y="9"/>
                </a:lnTo>
                <a:lnTo>
                  <a:pt x="65" y="6"/>
                </a:lnTo>
                <a:lnTo>
                  <a:pt x="72" y="3"/>
                </a:lnTo>
                <a:lnTo>
                  <a:pt x="78" y="1"/>
                </a:lnTo>
                <a:lnTo>
                  <a:pt x="84" y="0"/>
                </a:lnTo>
                <a:lnTo>
                  <a:pt x="90" y="0"/>
                </a:lnTo>
                <a:lnTo>
                  <a:pt x="95" y="0"/>
                </a:lnTo>
                <a:lnTo>
                  <a:pt x="100" y="0"/>
                </a:lnTo>
                <a:lnTo>
                  <a:pt x="105" y="0"/>
                </a:lnTo>
                <a:lnTo>
                  <a:pt x="105" y="0"/>
                </a:lnTo>
                <a:lnTo>
                  <a:pt x="111" y="1"/>
                </a:lnTo>
                <a:lnTo>
                  <a:pt x="116" y="2"/>
                </a:lnTo>
                <a:lnTo>
                  <a:pt x="121" y="5"/>
                </a:lnTo>
                <a:lnTo>
                  <a:pt x="126" y="6"/>
                </a:lnTo>
                <a:lnTo>
                  <a:pt x="133" y="9"/>
                </a:lnTo>
                <a:lnTo>
                  <a:pt x="138" y="12"/>
                </a:lnTo>
                <a:lnTo>
                  <a:pt x="143" y="15"/>
                </a:lnTo>
                <a:lnTo>
                  <a:pt x="149" y="19"/>
                </a:lnTo>
                <a:lnTo>
                  <a:pt x="153" y="22"/>
                </a:lnTo>
                <a:lnTo>
                  <a:pt x="158" y="26"/>
                </a:lnTo>
                <a:lnTo>
                  <a:pt x="164" y="33"/>
                </a:lnTo>
                <a:lnTo>
                  <a:pt x="171" y="38"/>
                </a:lnTo>
                <a:lnTo>
                  <a:pt x="176" y="44"/>
                </a:lnTo>
                <a:lnTo>
                  <a:pt x="181" y="49"/>
                </a:lnTo>
                <a:lnTo>
                  <a:pt x="184" y="55"/>
                </a:lnTo>
                <a:lnTo>
                  <a:pt x="184" y="71"/>
                </a:lnTo>
                <a:lnTo>
                  <a:pt x="181" y="77"/>
                </a:lnTo>
                <a:lnTo>
                  <a:pt x="176" y="82"/>
                </a:lnTo>
                <a:lnTo>
                  <a:pt x="171" y="88"/>
                </a:lnTo>
                <a:lnTo>
                  <a:pt x="164" y="93"/>
                </a:lnTo>
                <a:lnTo>
                  <a:pt x="158" y="98"/>
                </a:lnTo>
                <a:lnTo>
                  <a:pt x="153" y="103"/>
                </a:lnTo>
                <a:lnTo>
                  <a:pt x="149" y="107"/>
                </a:lnTo>
                <a:lnTo>
                  <a:pt x="143" y="111"/>
                </a:lnTo>
                <a:lnTo>
                  <a:pt x="138" y="114"/>
                </a:lnTo>
                <a:lnTo>
                  <a:pt x="133" y="117"/>
                </a:lnTo>
                <a:lnTo>
                  <a:pt x="126" y="120"/>
                </a:lnTo>
                <a:lnTo>
                  <a:pt x="121" y="121"/>
                </a:lnTo>
                <a:lnTo>
                  <a:pt x="116" y="124"/>
                </a:lnTo>
                <a:lnTo>
                  <a:pt x="111" y="125"/>
                </a:lnTo>
                <a:lnTo>
                  <a:pt x="105" y="126"/>
                </a:lnTo>
                <a:lnTo>
                  <a:pt x="105" y="126"/>
                </a:lnTo>
                <a:lnTo>
                  <a:pt x="100" y="126"/>
                </a:lnTo>
                <a:lnTo>
                  <a:pt x="95" y="126"/>
                </a:lnTo>
                <a:lnTo>
                  <a:pt x="90" y="126"/>
                </a:lnTo>
                <a:lnTo>
                  <a:pt x="84" y="125"/>
                </a:lnTo>
                <a:lnTo>
                  <a:pt x="78" y="125"/>
                </a:lnTo>
                <a:lnTo>
                  <a:pt x="72" y="122"/>
                </a:lnTo>
                <a:lnTo>
                  <a:pt x="65" y="120"/>
                </a:lnTo>
                <a:lnTo>
                  <a:pt x="59" y="117"/>
                </a:lnTo>
                <a:lnTo>
                  <a:pt x="52" y="114"/>
                </a:lnTo>
                <a:lnTo>
                  <a:pt x="45" y="110"/>
                </a:lnTo>
                <a:lnTo>
                  <a:pt x="39" y="105"/>
                </a:lnTo>
                <a:lnTo>
                  <a:pt x="33" y="98"/>
                </a:lnTo>
                <a:lnTo>
                  <a:pt x="26" y="93"/>
                </a:lnTo>
                <a:lnTo>
                  <a:pt x="19" y="86"/>
                </a:lnTo>
                <a:lnTo>
                  <a:pt x="12" y="79"/>
                </a:lnTo>
                <a:lnTo>
                  <a:pt x="6" y="71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497400" y="1668600"/>
            <a:ext cx="83880" cy="856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014640" y="1668600"/>
            <a:ext cx="84240" cy="856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019320" y="1673280"/>
            <a:ext cx="7488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4927680" y="1996560"/>
            <a:ext cx="1440" cy="39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927680" y="191628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4927680" y="1835280"/>
            <a:ext cx="1440" cy="41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527280" y="1827360"/>
            <a:ext cx="455760" cy="201600"/>
          </a:xfrm>
          <a:custGeom>
            <a:avLst/>
            <a:gdLst/>
            <a:ahLst/>
            <a:rect l="l" t="t" r="r" b="b"/>
            <a:pathLst>
              <a:path w="287" h="127">
                <a:moveTo>
                  <a:pt x="0" y="64"/>
                </a:moveTo>
                <a:lnTo>
                  <a:pt x="11" y="54"/>
                </a:lnTo>
                <a:lnTo>
                  <a:pt x="24" y="43"/>
                </a:lnTo>
                <a:lnTo>
                  <a:pt x="35" y="36"/>
                </a:lnTo>
                <a:lnTo>
                  <a:pt x="48" y="28"/>
                </a:lnTo>
                <a:lnTo>
                  <a:pt x="61" y="21"/>
                </a:lnTo>
                <a:lnTo>
                  <a:pt x="72" y="16"/>
                </a:lnTo>
                <a:lnTo>
                  <a:pt x="85" y="11"/>
                </a:lnTo>
                <a:lnTo>
                  <a:pt x="96" y="7"/>
                </a:lnTo>
                <a:lnTo>
                  <a:pt x="109" y="4"/>
                </a:lnTo>
                <a:lnTo>
                  <a:pt x="118" y="3"/>
                </a:lnTo>
                <a:lnTo>
                  <a:pt x="126" y="2"/>
                </a:lnTo>
                <a:lnTo>
                  <a:pt x="137" y="0"/>
                </a:lnTo>
                <a:lnTo>
                  <a:pt x="144" y="0"/>
                </a:lnTo>
                <a:lnTo>
                  <a:pt x="144" y="0"/>
                </a:lnTo>
                <a:lnTo>
                  <a:pt x="154" y="0"/>
                </a:lnTo>
                <a:lnTo>
                  <a:pt x="163" y="2"/>
                </a:lnTo>
                <a:lnTo>
                  <a:pt x="172" y="3"/>
                </a:lnTo>
                <a:lnTo>
                  <a:pt x="181" y="5"/>
                </a:lnTo>
                <a:lnTo>
                  <a:pt x="190" y="7"/>
                </a:lnTo>
                <a:lnTo>
                  <a:pt x="199" y="11"/>
                </a:lnTo>
                <a:lnTo>
                  <a:pt x="207" y="13"/>
                </a:lnTo>
                <a:lnTo>
                  <a:pt x="216" y="17"/>
                </a:lnTo>
                <a:lnTo>
                  <a:pt x="224" y="21"/>
                </a:lnTo>
                <a:lnTo>
                  <a:pt x="230" y="24"/>
                </a:lnTo>
                <a:lnTo>
                  <a:pt x="238" y="28"/>
                </a:lnTo>
                <a:lnTo>
                  <a:pt x="244" y="32"/>
                </a:lnTo>
                <a:lnTo>
                  <a:pt x="252" y="36"/>
                </a:lnTo>
                <a:lnTo>
                  <a:pt x="252" y="37"/>
                </a:lnTo>
                <a:lnTo>
                  <a:pt x="258" y="41"/>
                </a:lnTo>
                <a:lnTo>
                  <a:pt x="266" y="46"/>
                </a:lnTo>
                <a:lnTo>
                  <a:pt x="272" y="50"/>
                </a:lnTo>
                <a:lnTo>
                  <a:pt x="278" y="55"/>
                </a:lnTo>
                <a:lnTo>
                  <a:pt x="287" y="64"/>
                </a:lnTo>
                <a:lnTo>
                  <a:pt x="287" y="65"/>
                </a:lnTo>
                <a:lnTo>
                  <a:pt x="278" y="73"/>
                </a:lnTo>
                <a:lnTo>
                  <a:pt x="272" y="78"/>
                </a:lnTo>
                <a:lnTo>
                  <a:pt x="266" y="83"/>
                </a:lnTo>
                <a:lnTo>
                  <a:pt x="258" y="86"/>
                </a:lnTo>
                <a:lnTo>
                  <a:pt x="252" y="92"/>
                </a:lnTo>
                <a:lnTo>
                  <a:pt x="252" y="92"/>
                </a:lnTo>
                <a:lnTo>
                  <a:pt x="244" y="97"/>
                </a:lnTo>
                <a:lnTo>
                  <a:pt x="238" y="100"/>
                </a:lnTo>
                <a:lnTo>
                  <a:pt x="230" y="104"/>
                </a:lnTo>
                <a:lnTo>
                  <a:pt x="224" y="108"/>
                </a:lnTo>
                <a:lnTo>
                  <a:pt x="216" y="111"/>
                </a:lnTo>
                <a:lnTo>
                  <a:pt x="207" y="114"/>
                </a:lnTo>
                <a:lnTo>
                  <a:pt x="199" y="118"/>
                </a:lnTo>
                <a:lnTo>
                  <a:pt x="190" y="121"/>
                </a:lnTo>
                <a:lnTo>
                  <a:pt x="181" y="123"/>
                </a:lnTo>
                <a:lnTo>
                  <a:pt x="172" y="124"/>
                </a:lnTo>
                <a:lnTo>
                  <a:pt x="163" y="126"/>
                </a:lnTo>
                <a:lnTo>
                  <a:pt x="154" y="127"/>
                </a:lnTo>
                <a:lnTo>
                  <a:pt x="144" y="127"/>
                </a:lnTo>
                <a:lnTo>
                  <a:pt x="144" y="127"/>
                </a:lnTo>
                <a:lnTo>
                  <a:pt x="137" y="127"/>
                </a:lnTo>
                <a:lnTo>
                  <a:pt x="126" y="127"/>
                </a:lnTo>
                <a:lnTo>
                  <a:pt x="118" y="126"/>
                </a:lnTo>
                <a:lnTo>
                  <a:pt x="109" y="124"/>
                </a:lnTo>
                <a:lnTo>
                  <a:pt x="96" y="121"/>
                </a:lnTo>
                <a:lnTo>
                  <a:pt x="85" y="117"/>
                </a:lnTo>
                <a:lnTo>
                  <a:pt x="72" y="112"/>
                </a:lnTo>
                <a:lnTo>
                  <a:pt x="61" y="107"/>
                </a:lnTo>
                <a:lnTo>
                  <a:pt x="48" y="100"/>
                </a:lnTo>
                <a:lnTo>
                  <a:pt x="35" y="93"/>
                </a:lnTo>
                <a:lnTo>
                  <a:pt x="24" y="84"/>
                </a:lnTo>
                <a:lnTo>
                  <a:pt x="11" y="75"/>
                </a:lnTo>
                <a:lnTo>
                  <a:pt x="0" y="64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527280" y="1827360"/>
            <a:ext cx="455760" cy="201600"/>
          </a:xfrm>
          <a:custGeom>
            <a:avLst/>
            <a:gdLst/>
            <a:ahLst/>
            <a:rect l="l" t="t" r="r" b="b"/>
            <a:pathLst>
              <a:path w="287" h="127">
                <a:moveTo>
                  <a:pt x="0" y="64"/>
                </a:moveTo>
                <a:lnTo>
                  <a:pt x="11" y="54"/>
                </a:lnTo>
                <a:lnTo>
                  <a:pt x="24" y="43"/>
                </a:lnTo>
                <a:lnTo>
                  <a:pt x="35" y="36"/>
                </a:lnTo>
                <a:lnTo>
                  <a:pt x="48" y="28"/>
                </a:lnTo>
                <a:lnTo>
                  <a:pt x="61" y="21"/>
                </a:lnTo>
                <a:lnTo>
                  <a:pt x="72" y="16"/>
                </a:lnTo>
                <a:lnTo>
                  <a:pt x="85" y="11"/>
                </a:lnTo>
                <a:lnTo>
                  <a:pt x="96" y="7"/>
                </a:lnTo>
                <a:lnTo>
                  <a:pt x="109" y="4"/>
                </a:lnTo>
                <a:lnTo>
                  <a:pt x="118" y="3"/>
                </a:lnTo>
                <a:lnTo>
                  <a:pt x="126" y="2"/>
                </a:lnTo>
                <a:lnTo>
                  <a:pt x="137" y="0"/>
                </a:lnTo>
                <a:lnTo>
                  <a:pt x="144" y="0"/>
                </a:lnTo>
                <a:lnTo>
                  <a:pt x="144" y="0"/>
                </a:lnTo>
                <a:lnTo>
                  <a:pt x="154" y="0"/>
                </a:lnTo>
                <a:lnTo>
                  <a:pt x="163" y="2"/>
                </a:lnTo>
                <a:lnTo>
                  <a:pt x="172" y="3"/>
                </a:lnTo>
                <a:lnTo>
                  <a:pt x="181" y="5"/>
                </a:lnTo>
                <a:lnTo>
                  <a:pt x="190" y="7"/>
                </a:lnTo>
                <a:lnTo>
                  <a:pt x="199" y="11"/>
                </a:lnTo>
                <a:lnTo>
                  <a:pt x="207" y="13"/>
                </a:lnTo>
                <a:lnTo>
                  <a:pt x="216" y="17"/>
                </a:lnTo>
                <a:lnTo>
                  <a:pt x="224" y="21"/>
                </a:lnTo>
                <a:lnTo>
                  <a:pt x="230" y="24"/>
                </a:lnTo>
                <a:lnTo>
                  <a:pt x="238" y="28"/>
                </a:lnTo>
                <a:lnTo>
                  <a:pt x="244" y="32"/>
                </a:lnTo>
                <a:lnTo>
                  <a:pt x="252" y="36"/>
                </a:lnTo>
                <a:lnTo>
                  <a:pt x="252" y="37"/>
                </a:lnTo>
                <a:lnTo>
                  <a:pt x="258" y="41"/>
                </a:lnTo>
                <a:lnTo>
                  <a:pt x="266" y="46"/>
                </a:lnTo>
                <a:lnTo>
                  <a:pt x="272" y="50"/>
                </a:lnTo>
                <a:lnTo>
                  <a:pt x="278" y="55"/>
                </a:lnTo>
                <a:lnTo>
                  <a:pt x="287" y="64"/>
                </a:lnTo>
                <a:lnTo>
                  <a:pt x="287" y="65"/>
                </a:lnTo>
                <a:lnTo>
                  <a:pt x="278" y="73"/>
                </a:lnTo>
                <a:lnTo>
                  <a:pt x="272" y="78"/>
                </a:lnTo>
                <a:lnTo>
                  <a:pt x="266" y="83"/>
                </a:lnTo>
                <a:lnTo>
                  <a:pt x="258" y="86"/>
                </a:lnTo>
                <a:lnTo>
                  <a:pt x="252" y="92"/>
                </a:lnTo>
                <a:lnTo>
                  <a:pt x="252" y="92"/>
                </a:lnTo>
                <a:lnTo>
                  <a:pt x="244" y="97"/>
                </a:lnTo>
                <a:lnTo>
                  <a:pt x="238" y="100"/>
                </a:lnTo>
                <a:lnTo>
                  <a:pt x="230" y="104"/>
                </a:lnTo>
                <a:lnTo>
                  <a:pt x="224" y="108"/>
                </a:lnTo>
                <a:lnTo>
                  <a:pt x="216" y="111"/>
                </a:lnTo>
                <a:lnTo>
                  <a:pt x="207" y="114"/>
                </a:lnTo>
                <a:lnTo>
                  <a:pt x="199" y="118"/>
                </a:lnTo>
                <a:lnTo>
                  <a:pt x="190" y="121"/>
                </a:lnTo>
                <a:lnTo>
                  <a:pt x="181" y="123"/>
                </a:lnTo>
                <a:lnTo>
                  <a:pt x="172" y="124"/>
                </a:lnTo>
                <a:lnTo>
                  <a:pt x="163" y="126"/>
                </a:lnTo>
                <a:lnTo>
                  <a:pt x="154" y="127"/>
                </a:lnTo>
                <a:lnTo>
                  <a:pt x="144" y="127"/>
                </a:lnTo>
                <a:lnTo>
                  <a:pt x="144" y="127"/>
                </a:lnTo>
                <a:lnTo>
                  <a:pt x="137" y="127"/>
                </a:lnTo>
                <a:lnTo>
                  <a:pt x="126" y="127"/>
                </a:lnTo>
                <a:lnTo>
                  <a:pt x="118" y="126"/>
                </a:lnTo>
                <a:lnTo>
                  <a:pt x="109" y="124"/>
                </a:lnTo>
                <a:lnTo>
                  <a:pt x="96" y="121"/>
                </a:lnTo>
                <a:lnTo>
                  <a:pt x="85" y="117"/>
                </a:lnTo>
                <a:lnTo>
                  <a:pt x="72" y="112"/>
                </a:lnTo>
                <a:lnTo>
                  <a:pt x="61" y="107"/>
                </a:lnTo>
                <a:lnTo>
                  <a:pt x="48" y="100"/>
                </a:lnTo>
                <a:lnTo>
                  <a:pt x="35" y="93"/>
                </a:lnTo>
                <a:lnTo>
                  <a:pt x="24" y="84"/>
                </a:lnTo>
                <a:lnTo>
                  <a:pt x="11" y="75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527280" y="1928880"/>
            <a:ext cx="180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27280" y="1827360"/>
            <a:ext cx="455760" cy="201600"/>
          </a:xfrm>
          <a:custGeom>
            <a:avLst/>
            <a:gdLst/>
            <a:ahLst/>
            <a:rect l="l" t="t" r="r" b="b"/>
            <a:pathLst>
              <a:path w="287" h="127">
                <a:moveTo>
                  <a:pt x="0" y="64"/>
                </a:moveTo>
                <a:lnTo>
                  <a:pt x="11" y="54"/>
                </a:lnTo>
                <a:lnTo>
                  <a:pt x="24" y="43"/>
                </a:lnTo>
                <a:lnTo>
                  <a:pt x="35" y="36"/>
                </a:lnTo>
                <a:lnTo>
                  <a:pt x="48" y="28"/>
                </a:lnTo>
                <a:lnTo>
                  <a:pt x="61" y="21"/>
                </a:lnTo>
                <a:lnTo>
                  <a:pt x="72" y="16"/>
                </a:lnTo>
                <a:lnTo>
                  <a:pt x="85" y="11"/>
                </a:lnTo>
                <a:lnTo>
                  <a:pt x="96" y="7"/>
                </a:lnTo>
                <a:lnTo>
                  <a:pt x="109" y="4"/>
                </a:lnTo>
                <a:lnTo>
                  <a:pt x="118" y="3"/>
                </a:lnTo>
                <a:lnTo>
                  <a:pt x="126" y="2"/>
                </a:lnTo>
                <a:lnTo>
                  <a:pt x="137" y="0"/>
                </a:lnTo>
                <a:lnTo>
                  <a:pt x="144" y="0"/>
                </a:lnTo>
                <a:lnTo>
                  <a:pt x="144" y="0"/>
                </a:lnTo>
                <a:lnTo>
                  <a:pt x="154" y="0"/>
                </a:lnTo>
                <a:lnTo>
                  <a:pt x="163" y="2"/>
                </a:lnTo>
                <a:lnTo>
                  <a:pt x="172" y="3"/>
                </a:lnTo>
                <a:lnTo>
                  <a:pt x="181" y="5"/>
                </a:lnTo>
                <a:lnTo>
                  <a:pt x="190" y="7"/>
                </a:lnTo>
                <a:lnTo>
                  <a:pt x="199" y="11"/>
                </a:lnTo>
                <a:lnTo>
                  <a:pt x="207" y="13"/>
                </a:lnTo>
                <a:lnTo>
                  <a:pt x="216" y="17"/>
                </a:lnTo>
                <a:lnTo>
                  <a:pt x="224" y="21"/>
                </a:lnTo>
                <a:lnTo>
                  <a:pt x="230" y="24"/>
                </a:lnTo>
                <a:lnTo>
                  <a:pt x="238" y="28"/>
                </a:lnTo>
                <a:lnTo>
                  <a:pt x="244" y="32"/>
                </a:lnTo>
                <a:lnTo>
                  <a:pt x="252" y="36"/>
                </a:lnTo>
                <a:lnTo>
                  <a:pt x="252" y="37"/>
                </a:lnTo>
                <a:lnTo>
                  <a:pt x="258" y="41"/>
                </a:lnTo>
                <a:lnTo>
                  <a:pt x="266" y="46"/>
                </a:lnTo>
                <a:lnTo>
                  <a:pt x="272" y="50"/>
                </a:lnTo>
                <a:lnTo>
                  <a:pt x="278" y="55"/>
                </a:lnTo>
                <a:lnTo>
                  <a:pt x="287" y="64"/>
                </a:lnTo>
                <a:lnTo>
                  <a:pt x="287" y="65"/>
                </a:lnTo>
                <a:lnTo>
                  <a:pt x="278" y="73"/>
                </a:lnTo>
                <a:lnTo>
                  <a:pt x="272" y="78"/>
                </a:lnTo>
                <a:lnTo>
                  <a:pt x="266" y="83"/>
                </a:lnTo>
                <a:lnTo>
                  <a:pt x="258" y="86"/>
                </a:lnTo>
                <a:lnTo>
                  <a:pt x="252" y="92"/>
                </a:lnTo>
                <a:lnTo>
                  <a:pt x="252" y="92"/>
                </a:lnTo>
                <a:lnTo>
                  <a:pt x="244" y="97"/>
                </a:lnTo>
                <a:lnTo>
                  <a:pt x="238" y="100"/>
                </a:lnTo>
                <a:lnTo>
                  <a:pt x="230" y="104"/>
                </a:lnTo>
                <a:lnTo>
                  <a:pt x="224" y="108"/>
                </a:lnTo>
                <a:lnTo>
                  <a:pt x="216" y="111"/>
                </a:lnTo>
                <a:lnTo>
                  <a:pt x="207" y="114"/>
                </a:lnTo>
                <a:lnTo>
                  <a:pt x="199" y="118"/>
                </a:lnTo>
                <a:lnTo>
                  <a:pt x="190" y="121"/>
                </a:lnTo>
                <a:lnTo>
                  <a:pt x="181" y="123"/>
                </a:lnTo>
                <a:lnTo>
                  <a:pt x="172" y="124"/>
                </a:lnTo>
                <a:lnTo>
                  <a:pt x="163" y="126"/>
                </a:lnTo>
                <a:lnTo>
                  <a:pt x="154" y="127"/>
                </a:lnTo>
                <a:lnTo>
                  <a:pt x="144" y="127"/>
                </a:lnTo>
                <a:lnTo>
                  <a:pt x="144" y="127"/>
                </a:lnTo>
                <a:lnTo>
                  <a:pt x="137" y="127"/>
                </a:lnTo>
                <a:lnTo>
                  <a:pt x="126" y="127"/>
                </a:lnTo>
                <a:lnTo>
                  <a:pt x="118" y="126"/>
                </a:lnTo>
                <a:lnTo>
                  <a:pt x="109" y="124"/>
                </a:lnTo>
                <a:lnTo>
                  <a:pt x="96" y="121"/>
                </a:lnTo>
                <a:lnTo>
                  <a:pt x="85" y="117"/>
                </a:lnTo>
                <a:lnTo>
                  <a:pt x="72" y="112"/>
                </a:lnTo>
                <a:lnTo>
                  <a:pt x="61" y="107"/>
                </a:lnTo>
                <a:lnTo>
                  <a:pt x="48" y="100"/>
                </a:lnTo>
                <a:lnTo>
                  <a:pt x="35" y="93"/>
                </a:lnTo>
                <a:lnTo>
                  <a:pt x="24" y="84"/>
                </a:lnTo>
                <a:lnTo>
                  <a:pt x="11" y="75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99120" y="1886040"/>
            <a:ext cx="83880" cy="838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714840" y="1886040"/>
            <a:ext cx="83880" cy="838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719520" y="1890720"/>
            <a:ext cx="745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927680" y="221616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4927680" y="213516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4927680" y="2053800"/>
            <a:ext cx="1440" cy="414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319480" y="2044800"/>
            <a:ext cx="1149120" cy="203040"/>
          </a:xfrm>
          <a:custGeom>
            <a:avLst/>
            <a:gdLst/>
            <a:ahLst/>
            <a:rect l="l" t="t" r="r" b="b"/>
            <a:pathLst>
              <a:path w="724" h="128">
                <a:moveTo>
                  <a:pt x="0" y="63"/>
                </a:moveTo>
                <a:lnTo>
                  <a:pt x="47" y="42"/>
                </a:lnTo>
                <a:lnTo>
                  <a:pt x="89" y="28"/>
                </a:lnTo>
                <a:lnTo>
                  <a:pt x="89" y="28"/>
                </a:lnTo>
                <a:lnTo>
                  <a:pt x="120" y="22"/>
                </a:lnTo>
                <a:lnTo>
                  <a:pt x="149" y="17"/>
                </a:lnTo>
                <a:lnTo>
                  <a:pt x="177" y="12"/>
                </a:lnTo>
                <a:lnTo>
                  <a:pt x="209" y="8"/>
                </a:lnTo>
                <a:lnTo>
                  <a:pt x="238" y="5"/>
                </a:lnTo>
                <a:lnTo>
                  <a:pt x="266" y="3"/>
                </a:lnTo>
                <a:lnTo>
                  <a:pt x="290" y="1"/>
                </a:lnTo>
                <a:lnTo>
                  <a:pt x="313" y="1"/>
                </a:lnTo>
                <a:lnTo>
                  <a:pt x="334" y="0"/>
                </a:lnTo>
                <a:lnTo>
                  <a:pt x="354" y="0"/>
                </a:lnTo>
                <a:lnTo>
                  <a:pt x="354" y="0"/>
                </a:lnTo>
                <a:lnTo>
                  <a:pt x="375" y="1"/>
                </a:lnTo>
                <a:lnTo>
                  <a:pt x="394" y="1"/>
                </a:lnTo>
                <a:lnTo>
                  <a:pt x="413" y="3"/>
                </a:lnTo>
                <a:lnTo>
                  <a:pt x="430" y="4"/>
                </a:lnTo>
                <a:lnTo>
                  <a:pt x="447" y="5"/>
                </a:lnTo>
                <a:lnTo>
                  <a:pt x="448" y="5"/>
                </a:lnTo>
                <a:lnTo>
                  <a:pt x="462" y="6"/>
                </a:lnTo>
                <a:lnTo>
                  <a:pt x="476" y="8"/>
                </a:lnTo>
                <a:lnTo>
                  <a:pt x="490" y="10"/>
                </a:lnTo>
                <a:lnTo>
                  <a:pt x="503" y="12"/>
                </a:lnTo>
                <a:lnTo>
                  <a:pt x="515" y="13"/>
                </a:lnTo>
                <a:lnTo>
                  <a:pt x="528" y="15"/>
                </a:lnTo>
                <a:lnTo>
                  <a:pt x="539" y="18"/>
                </a:lnTo>
                <a:lnTo>
                  <a:pt x="541" y="18"/>
                </a:lnTo>
                <a:lnTo>
                  <a:pt x="554" y="20"/>
                </a:lnTo>
                <a:lnTo>
                  <a:pt x="567" y="23"/>
                </a:lnTo>
                <a:lnTo>
                  <a:pt x="579" y="24"/>
                </a:lnTo>
                <a:lnTo>
                  <a:pt x="590" y="27"/>
                </a:lnTo>
                <a:lnTo>
                  <a:pt x="601" y="29"/>
                </a:lnTo>
                <a:lnTo>
                  <a:pt x="611" y="32"/>
                </a:lnTo>
                <a:lnTo>
                  <a:pt x="622" y="34"/>
                </a:lnTo>
                <a:lnTo>
                  <a:pt x="632" y="37"/>
                </a:lnTo>
                <a:lnTo>
                  <a:pt x="634" y="37"/>
                </a:lnTo>
                <a:lnTo>
                  <a:pt x="644" y="39"/>
                </a:lnTo>
                <a:lnTo>
                  <a:pt x="654" y="43"/>
                </a:lnTo>
                <a:lnTo>
                  <a:pt x="665" y="46"/>
                </a:lnTo>
                <a:lnTo>
                  <a:pt x="675" y="48"/>
                </a:lnTo>
                <a:lnTo>
                  <a:pt x="684" y="51"/>
                </a:lnTo>
                <a:lnTo>
                  <a:pt x="692" y="53"/>
                </a:lnTo>
                <a:lnTo>
                  <a:pt x="701" y="56"/>
                </a:lnTo>
                <a:lnTo>
                  <a:pt x="709" y="58"/>
                </a:lnTo>
                <a:lnTo>
                  <a:pt x="717" y="61"/>
                </a:lnTo>
                <a:lnTo>
                  <a:pt x="724" y="63"/>
                </a:lnTo>
                <a:lnTo>
                  <a:pt x="724" y="63"/>
                </a:lnTo>
                <a:lnTo>
                  <a:pt x="717" y="67"/>
                </a:lnTo>
                <a:lnTo>
                  <a:pt x="709" y="70"/>
                </a:lnTo>
                <a:lnTo>
                  <a:pt x="701" y="72"/>
                </a:lnTo>
                <a:lnTo>
                  <a:pt x="692" y="75"/>
                </a:lnTo>
                <a:lnTo>
                  <a:pt x="684" y="77"/>
                </a:lnTo>
                <a:lnTo>
                  <a:pt x="675" y="80"/>
                </a:lnTo>
                <a:lnTo>
                  <a:pt x="665" y="82"/>
                </a:lnTo>
                <a:lnTo>
                  <a:pt x="654" y="85"/>
                </a:lnTo>
                <a:lnTo>
                  <a:pt x="644" y="87"/>
                </a:lnTo>
                <a:lnTo>
                  <a:pt x="634" y="91"/>
                </a:lnTo>
                <a:lnTo>
                  <a:pt x="632" y="91"/>
                </a:lnTo>
                <a:lnTo>
                  <a:pt x="622" y="94"/>
                </a:lnTo>
                <a:lnTo>
                  <a:pt x="611" y="96"/>
                </a:lnTo>
                <a:lnTo>
                  <a:pt x="601" y="99"/>
                </a:lnTo>
                <a:lnTo>
                  <a:pt x="590" y="101"/>
                </a:lnTo>
                <a:lnTo>
                  <a:pt x="579" y="104"/>
                </a:lnTo>
                <a:lnTo>
                  <a:pt x="567" y="105"/>
                </a:lnTo>
                <a:lnTo>
                  <a:pt x="554" y="108"/>
                </a:lnTo>
                <a:lnTo>
                  <a:pt x="541" y="110"/>
                </a:lnTo>
                <a:lnTo>
                  <a:pt x="539" y="110"/>
                </a:lnTo>
                <a:lnTo>
                  <a:pt x="528" y="113"/>
                </a:lnTo>
                <a:lnTo>
                  <a:pt x="515" y="114"/>
                </a:lnTo>
                <a:lnTo>
                  <a:pt x="503" y="117"/>
                </a:lnTo>
                <a:lnTo>
                  <a:pt x="490" y="118"/>
                </a:lnTo>
                <a:lnTo>
                  <a:pt x="476" y="120"/>
                </a:lnTo>
                <a:lnTo>
                  <a:pt x="462" y="122"/>
                </a:lnTo>
                <a:lnTo>
                  <a:pt x="448" y="123"/>
                </a:lnTo>
                <a:lnTo>
                  <a:pt x="447" y="123"/>
                </a:lnTo>
                <a:lnTo>
                  <a:pt x="430" y="124"/>
                </a:lnTo>
                <a:lnTo>
                  <a:pt x="413" y="125"/>
                </a:lnTo>
                <a:lnTo>
                  <a:pt x="394" y="127"/>
                </a:lnTo>
                <a:lnTo>
                  <a:pt x="375" y="127"/>
                </a:lnTo>
                <a:lnTo>
                  <a:pt x="354" y="128"/>
                </a:lnTo>
                <a:lnTo>
                  <a:pt x="354" y="128"/>
                </a:lnTo>
                <a:lnTo>
                  <a:pt x="334" y="128"/>
                </a:lnTo>
                <a:lnTo>
                  <a:pt x="313" y="127"/>
                </a:lnTo>
                <a:lnTo>
                  <a:pt x="290" y="127"/>
                </a:lnTo>
                <a:lnTo>
                  <a:pt x="266" y="125"/>
                </a:lnTo>
                <a:lnTo>
                  <a:pt x="238" y="123"/>
                </a:lnTo>
                <a:lnTo>
                  <a:pt x="209" y="120"/>
                </a:lnTo>
                <a:lnTo>
                  <a:pt x="177" y="115"/>
                </a:lnTo>
                <a:lnTo>
                  <a:pt x="149" y="112"/>
                </a:lnTo>
                <a:lnTo>
                  <a:pt x="120" y="106"/>
                </a:lnTo>
                <a:lnTo>
                  <a:pt x="89" y="100"/>
                </a:lnTo>
                <a:lnTo>
                  <a:pt x="89" y="100"/>
                </a:lnTo>
                <a:lnTo>
                  <a:pt x="47" y="86"/>
                </a:lnTo>
                <a:lnTo>
                  <a:pt x="0" y="63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319480" y="2044800"/>
            <a:ext cx="1149120" cy="203040"/>
          </a:xfrm>
          <a:custGeom>
            <a:avLst/>
            <a:gdLst/>
            <a:ahLst/>
            <a:rect l="l" t="t" r="r" b="b"/>
            <a:pathLst>
              <a:path w="724" h="128">
                <a:moveTo>
                  <a:pt x="0" y="63"/>
                </a:moveTo>
                <a:lnTo>
                  <a:pt x="47" y="42"/>
                </a:lnTo>
                <a:lnTo>
                  <a:pt x="89" y="28"/>
                </a:lnTo>
                <a:lnTo>
                  <a:pt x="89" y="28"/>
                </a:lnTo>
                <a:lnTo>
                  <a:pt x="120" y="22"/>
                </a:lnTo>
                <a:lnTo>
                  <a:pt x="149" y="17"/>
                </a:lnTo>
                <a:lnTo>
                  <a:pt x="177" y="12"/>
                </a:lnTo>
                <a:lnTo>
                  <a:pt x="209" y="8"/>
                </a:lnTo>
                <a:lnTo>
                  <a:pt x="238" y="5"/>
                </a:lnTo>
                <a:lnTo>
                  <a:pt x="266" y="3"/>
                </a:lnTo>
                <a:lnTo>
                  <a:pt x="290" y="1"/>
                </a:lnTo>
                <a:lnTo>
                  <a:pt x="313" y="1"/>
                </a:lnTo>
                <a:lnTo>
                  <a:pt x="334" y="0"/>
                </a:lnTo>
                <a:lnTo>
                  <a:pt x="354" y="0"/>
                </a:lnTo>
                <a:lnTo>
                  <a:pt x="354" y="0"/>
                </a:lnTo>
                <a:lnTo>
                  <a:pt x="375" y="1"/>
                </a:lnTo>
                <a:lnTo>
                  <a:pt x="394" y="1"/>
                </a:lnTo>
                <a:lnTo>
                  <a:pt x="413" y="3"/>
                </a:lnTo>
                <a:lnTo>
                  <a:pt x="430" y="4"/>
                </a:lnTo>
                <a:lnTo>
                  <a:pt x="447" y="5"/>
                </a:lnTo>
                <a:lnTo>
                  <a:pt x="448" y="5"/>
                </a:lnTo>
                <a:lnTo>
                  <a:pt x="462" y="6"/>
                </a:lnTo>
                <a:lnTo>
                  <a:pt x="476" y="8"/>
                </a:lnTo>
                <a:lnTo>
                  <a:pt x="490" y="10"/>
                </a:lnTo>
                <a:lnTo>
                  <a:pt x="503" y="12"/>
                </a:lnTo>
                <a:lnTo>
                  <a:pt x="515" y="13"/>
                </a:lnTo>
                <a:lnTo>
                  <a:pt x="528" y="15"/>
                </a:lnTo>
                <a:lnTo>
                  <a:pt x="539" y="18"/>
                </a:lnTo>
                <a:lnTo>
                  <a:pt x="541" y="18"/>
                </a:lnTo>
                <a:lnTo>
                  <a:pt x="554" y="20"/>
                </a:lnTo>
                <a:lnTo>
                  <a:pt x="567" y="23"/>
                </a:lnTo>
                <a:lnTo>
                  <a:pt x="579" y="24"/>
                </a:lnTo>
                <a:lnTo>
                  <a:pt x="590" y="27"/>
                </a:lnTo>
                <a:lnTo>
                  <a:pt x="601" y="29"/>
                </a:lnTo>
                <a:lnTo>
                  <a:pt x="611" y="32"/>
                </a:lnTo>
                <a:lnTo>
                  <a:pt x="622" y="34"/>
                </a:lnTo>
                <a:lnTo>
                  <a:pt x="632" y="37"/>
                </a:lnTo>
                <a:lnTo>
                  <a:pt x="634" y="37"/>
                </a:lnTo>
                <a:lnTo>
                  <a:pt x="644" y="39"/>
                </a:lnTo>
                <a:lnTo>
                  <a:pt x="654" y="43"/>
                </a:lnTo>
                <a:lnTo>
                  <a:pt x="665" y="46"/>
                </a:lnTo>
                <a:lnTo>
                  <a:pt x="675" y="48"/>
                </a:lnTo>
                <a:lnTo>
                  <a:pt x="684" y="51"/>
                </a:lnTo>
                <a:lnTo>
                  <a:pt x="692" y="53"/>
                </a:lnTo>
                <a:lnTo>
                  <a:pt x="701" y="56"/>
                </a:lnTo>
                <a:lnTo>
                  <a:pt x="709" y="58"/>
                </a:lnTo>
                <a:lnTo>
                  <a:pt x="717" y="61"/>
                </a:lnTo>
                <a:lnTo>
                  <a:pt x="724" y="63"/>
                </a:lnTo>
                <a:lnTo>
                  <a:pt x="724" y="63"/>
                </a:lnTo>
                <a:lnTo>
                  <a:pt x="717" y="67"/>
                </a:lnTo>
                <a:lnTo>
                  <a:pt x="709" y="70"/>
                </a:lnTo>
                <a:lnTo>
                  <a:pt x="701" y="72"/>
                </a:lnTo>
                <a:lnTo>
                  <a:pt x="692" y="75"/>
                </a:lnTo>
                <a:lnTo>
                  <a:pt x="684" y="77"/>
                </a:lnTo>
                <a:lnTo>
                  <a:pt x="675" y="80"/>
                </a:lnTo>
                <a:lnTo>
                  <a:pt x="665" y="82"/>
                </a:lnTo>
                <a:lnTo>
                  <a:pt x="654" y="85"/>
                </a:lnTo>
                <a:lnTo>
                  <a:pt x="644" y="87"/>
                </a:lnTo>
                <a:lnTo>
                  <a:pt x="634" y="91"/>
                </a:lnTo>
                <a:lnTo>
                  <a:pt x="632" y="91"/>
                </a:lnTo>
                <a:lnTo>
                  <a:pt x="622" y="94"/>
                </a:lnTo>
                <a:lnTo>
                  <a:pt x="611" y="96"/>
                </a:lnTo>
                <a:lnTo>
                  <a:pt x="601" y="99"/>
                </a:lnTo>
                <a:lnTo>
                  <a:pt x="590" y="101"/>
                </a:lnTo>
                <a:lnTo>
                  <a:pt x="579" y="104"/>
                </a:lnTo>
                <a:lnTo>
                  <a:pt x="567" y="105"/>
                </a:lnTo>
                <a:lnTo>
                  <a:pt x="554" y="108"/>
                </a:lnTo>
                <a:lnTo>
                  <a:pt x="541" y="110"/>
                </a:lnTo>
                <a:lnTo>
                  <a:pt x="539" y="110"/>
                </a:lnTo>
                <a:lnTo>
                  <a:pt x="528" y="113"/>
                </a:lnTo>
                <a:lnTo>
                  <a:pt x="515" y="114"/>
                </a:lnTo>
                <a:lnTo>
                  <a:pt x="503" y="117"/>
                </a:lnTo>
                <a:lnTo>
                  <a:pt x="490" y="118"/>
                </a:lnTo>
                <a:lnTo>
                  <a:pt x="476" y="120"/>
                </a:lnTo>
                <a:lnTo>
                  <a:pt x="462" y="122"/>
                </a:lnTo>
                <a:lnTo>
                  <a:pt x="448" y="123"/>
                </a:lnTo>
                <a:lnTo>
                  <a:pt x="447" y="123"/>
                </a:lnTo>
                <a:lnTo>
                  <a:pt x="430" y="124"/>
                </a:lnTo>
                <a:lnTo>
                  <a:pt x="413" y="125"/>
                </a:lnTo>
                <a:lnTo>
                  <a:pt x="394" y="127"/>
                </a:lnTo>
                <a:lnTo>
                  <a:pt x="375" y="127"/>
                </a:lnTo>
                <a:lnTo>
                  <a:pt x="354" y="128"/>
                </a:lnTo>
                <a:lnTo>
                  <a:pt x="354" y="128"/>
                </a:lnTo>
                <a:lnTo>
                  <a:pt x="334" y="128"/>
                </a:lnTo>
                <a:lnTo>
                  <a:pt x="313" y="127"/>
                </a:lnTo>
                <a:lnTo>
                  <a:pt x="290" y="127"/>
                </a:lnTo>
                <a:lnTo>
                  <a:pt x="266" y="125"/>
                </a:lnTo>
                <a:lnTo>
                  <a:pt x="238" y="123"/>
                </a:lnTo>
                <a:lnTo>
                  <a:pt x="209" y="120"/>
                </a:lnTo>
                <a:lnTo>
                  <a:pt x="177" y="115"/>
                </a:lnTo>
                <a:lnTo>
                  <a:pt x="149" y="112"/>
                </a:lnTo>
                <a:lnTo>
                  <a:pt x="120" y="106"/>
                </a:lnTo>
                <a:lnTo>
                  <a:pt x="89" y="100"/>
                </a:lnTo>
                <a:lnTo>
                  <a:pt x="89" y="100"/>
                </a:lnTo>
                <a:lnTo>
                  <a:pt x="47" y="86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319480" y="2144880"/>
            <a:ext cx="144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319480" y="2044800"/>
            <a:ext cx="1149120" cy="203040"/>
          </a:xfrm>
          <a:custGeom>
            <a:avLst/>
            <a:gdLst/>
            <a:ahLst/>
            <a:rect l="l" t="t" r="r" b="b"/>
            <a:pathLst>
              <a:path w="724" h="128">
                <a:moveTo>
                  <a:pt x="0" y="63"/>
                </a:moveTo>
                <a:lnTo>
                  <a:pt x="47" y="42"/>
                </a:lnTo>
                <a:lnTo>
                  <a:pt x="89" y="28"/>
                </a:lnTo>
                <a:lnTo>
                  <a:pt x="89" y="28"/>
                </a:lnTo>
                <a:lnTo>
                  <a:pt x="120" y="22"/>
                </a:lnTo>
                <a:lnTo>
                  <a:pt x="149" y="17"/>
                </a:lnTo>
                <a:lnTo>
                  <a:pt x="177" y="12"/>
                </a:lnTo>
                <a:lnTo>
                  <a:pt x="209" y="8"/>
                </a:lnTo>
                <a:lnTo>
                  <a:pt x="238" y="5"/>
                </a:lnTo>
                <a:lnTo>
                  <a:pt x="266" y="3"/>
                </a:lnTo>
                <a:lnTo>
                  <a:pt x="290" y="1"/>
                </a:lnTo>
                <a:lnTo>
                  <a:pt x="313" y="1"/>
                </a:lnTo>
                <a:lnTo>
                  <a:pt x="334" y="0"/>
                </a:lnTo>
                <a:lnTo>
                  <a:pt x="354" y="0"/>
                </a:lnTo>
                <a:lnTo>
                  <a:pt x="354" y="0"/>
                </a:lnTo>
                <a:lnTo>
                  <a:pt x="375" y="1"/>
                </a:lnTo>
                <a:lnTo>
                  <a:pt x="394" y="1"/>
                </a:lnTo>
                <a:lnTo>
                  <a:pt x="413" y="3"/>
                </a:lnTo>
                <a:lnTo>
                  <a:pt x="430" y="4"/>
                </a:lnTo>
                <a:lnTo>
                  <a:pt x="447" y="5"/>
                </a:lnTo>
                <a:lnTo>
                  <a:pt x="448" y="5"/>
                </a:lnTo>
                <a:lnTo>
                  <a:pt x="462" y="6"/>
                </a:lnTo>
                <a:lnTo>
                  <a:pt x="476" y="8"/>
                </a:lnTo>
                <a:lnTo>
                  <a:pt x="490" y="10"/>
                </a:lnTo>
                <a:lnTo>
                  <a:pt x="503" y="12"/>
                </a:lnTo>
                <a:lnTo>
                  <a:pt x="515" y="13"/>
                </a:lnTo>
                <a:lnTo>
                  <a:pt x="528" y="15"/>
                </a:lnTo>
                <a:lnTo>
                  <a:pt x="539" y="18"/>
                </a:lnTo>
                <a:lnTo>
                  <a:pt x="541" y="18"/>
                </a:lnTo>
                <a:lnTo>
                  <a:pt x="554" y="20"/>
                </a:lnTo>
                <a:lnTo>
                  <a:pt x="567" y="23"/>
                </a:lnTo>
                <a:lnTo>
                  <a:pt x="579" y="24"/>
                </a:lnTo>
                <a:lnTo>
                  <a:pt x="590" y="27"/>
                </a:lnTo>
                <a:lnTo>
                  <a:pt x="601" y="29"/>
                </a:lnTo>
                <a:lnTo>
                  <a:pt x="611" y="32"/>
                </a:lnTo>
                <a:lnTo>
                  <a:pt x="622" y="34"/>
                </a:lnTo>
                <a:lnTo>
                  <a:pt x="632" y="37"/>
                </a:lnTo>
                <a:lnTo>
                  <a:pt x="634" y="37"/>
                </a:lnTo>
                <a:lnTo>
                  <a:pt x="644" y="39"/>
                </a:lnTo>
                <a:lnTo>
                  <a:pt x="654" y="43"/>
                </a:lnTo>
                <a:lnTo>
                  <a:pt x="665" y="46"/>
                </a:lnTo>
                <a:lnTo>
                  <a:pt x="675" y="48"/>
                </a:lnTo>
                <a:lnTo>
                  <a:pt x="684" y="51"/>
                </a:lnTo>
                <a:lnTo>
                  <a:pt x="692" y="53"/>
                </a:lnTo>
                <a:lnTo>
                  <a:pt x="701" y="56"/>
                </a:lnTo>
                <a:lnTo>
                  <a:pt x="709" y="58"/>
                </a:lnTo>
                <a:lnTo>
                  <a:pt x="717" y="61"/>
                </a:lnTo>
                <a:lnTo>
                  <a:pt x="724" y="63"/>
                </a:lnTo>
                <a:lnTo>
                  <a:pt x="724" y="63"/>
                </a:lnTo>
                <a:lnTo>
                  <a:pt x="717" y="67"/>
                </a:lnTo>
                <a:lnTo>
                  <a:pt x="709" y="70"/>
                </a:lnTo>
                <a:lnTo>
                  <a:pt x="701" y="72"/>
                </a:lnTo>
                <a:lnTo>
                  <a:pt x="692" y="75"/>
                </a:lnTo>
                <a:lnTo>
                  <a:pt x="684" y="77"/>
                </a:lnTo>
                <a:lnTo>
                  <a:pt x="675" y="80"/>
                </a:lnTo>
                <a:lnTo>
                  <a:pt x="665" y="82"/>
                </a:lnTo>
                <a:lnTo>
                  <a:pt x="654" y="85"/>
                </a:lnTo>
                <a:lnTo>
                  <a:pt x="644" y="87"/>
                </a:lnTo>
                <a:lnTo>
                  <a:pt x="634" y="91"/>
                </a:lnTo>
                <a:lnTo>
                  <a:pt x="632" y="91"/>
                </a:lnTo>
                <a:lnTo>
                  <a:pt x="622" y="94"/>
                </a:lnTo>
                <a:lnTo>
                  <a:pt x="611" y="96"/>
                </a:lnTo>
                <a:lnTo>
                  <a:pt x="601" y="99"/>
                </a:lnTo>
                <a:lnTo>
                  <a:pt x="590" y="101"/>
                </a:lnTo>
                <a:lnTo>
                  <a:pt x="579" y="104"/>
                </a:lnTo>
                <a:lnTo>
                  <a:pt x="567" y="105"/>
                </a:lnTo>
                <a:lnTo>
                  <a:pt x="554" y="108"/>
                </a:lnTo>
                <a:lnTo>
                  <a:pt x="541" y="110"/>
                </a:lnTo>
                <a:lnTo>
                  <a:pt x="539" y="110"/>
                </a:lnTo>
                <a:lnTo>
                  <a:pt x="528" y="113"/>
                </a:lnTo>
                <a:lnTo>
                  <a:pt x="515" y="114"/>
                </a:lnTo>
                <a:lnTo>
                  <a:pt x="503" y="117"/>
                </a:lnTo>
                <a:lnTo>
                  <a:pt x="490" y="118"/>
                </a:lnTo>
                <a:lnTo>
                  <a:pt x="476" y="120"/>
                </a:lnTo>
                <a:lnTo>
                  <a:pt x="462" y="122"/>
                </a:lnTo>
                <a:lnTo>
                  <a:pt x="448" y="123"/>
                </a:lnTo>
                <a:lnTo>
                  <a:pt x="447" y="123"/>
                </a:lnTo>
                <a:lnTo>
                  <a:pt x="430" y="124"/>
                </a:lnTo>
                <a:lnTo>
                  <a:pt x="413" y="125"/>
                </a:lnTo>
                <a:lnTo>
                  <a:pt x="394" y="127"/>
                </a:lnTo>
                <a:lnTo>
                  <a:pt x="375" y="127"/>
                </a:lnTo>
                <a:lnTo>
                  <a:pt x="354" y="128"/>
                </a:lnTo>
                <a:lnTo>
                  <a:pt x="354" y="128"/>
                </a:lnTo>
                <a:lnTo>
                  <a:pt x="334" y="128"/>
                </a:lnTo>
                <a:lnTo>
                  <a:pt x="313" y="127"/>
                </a:lnTo>
                <a:lnTo>
                  <a:pt x="290" y="127"/>
                </a:lnTo>
                <a:lnTo>
                  <a:pt x="266" y="125"/>
                </a:lnTo>
                <a:lnTo>
                  <a:pt x="238" y="123"/>
                </a:lnTo>
                <a:lnTo>
                  <a:pt x="209" y="120"/>
                </a:lnTo>
                <a:lnTo>
                  <a:pt x="177" y="115"/>
                </a:lnTo>
                <a:lnTo>
                  <a:pt x="149" y="112"/>
                </a:lnTo>
                <a:lnTo>
                  <a:pt x="120" y="106"/>
                </a:lnTo>
                <a:lnTo>
                  <a:pt x="89" y="100"/>
                </a:lnTo>
                <a:lnTo>
                  <a:pt x="89" y="100"/>
                </a:lnTo>
                <a:lnTo>
                  <a:pt x="47" y="86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676600" y="2103480"/>
            <a:ext cx="8424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08360" y="2103480"/>
            <a:ext cx="8424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813040" y="2108160"/>
            <a:ext cx="745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927680" y="2432160"/>
            <a:ext cx="1440" cy="410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4927680" y="235260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927680" y="2271240"/>
            <a:ext cx="1440" cy="39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81240" y="2263680"/>
            <a:ext cx="1074600" cy="201600"/>
          </a:xfrm>
          <a:custGeom>
            <a:avLst/>
            <a:gdLst/>
            <a:ahLst/>
            <a:rect l="l" t="t" r="r" b="b"/>
            <a:pathLst>
              <a:path w="677" h="127">
                <a:moveTo>
                  <a:pt x="0" y="63"/>
                </a:moveTo>
                <a:lnTo>
                  <a:pt x="8" y="60"/>
                </a:lnTo>
                <a:lnTo>
                  <a:pt x="25" y="55"/>
                </a:lnTo>
                <a:lnTo>
                  <a:pt x="90" y="36"/>
                </a:lnTo>
                <a:lnTo>
                  <a:pt x="91" y="34"/>
                </a:lnTo>
                <a:lnTo>
                  <a:pt x="138" y="23"/>
                </a:lnTo>
                <a:lnTo>
                  <a:pt x="178" y="15"/>
                </a:lnTo>
                <a:lnTo>
                  <a:pt x="211" y="10"/>
                </a:lnTo>
                <a:lnTo>
                  <a:pt x="240" y="6"/>
                </a:lnTo>
                <a:lnTo>
                  <a:pt x="268" y="4"/>
                </a:lnTo>
                <a:lnTo>
                  <a:pt x="292" y="1"/>
                </a:lnTo>
                <a:lnTo>
                  <a:pt x="315" y="0"/>
                </a:lnTo>
                <a:lnTo>
                  <a:pt x="336" y="0"/>
                </a:lnTo>
                <a:lnTo>
                  <a:pt x="358" y="0"/>
                </a:lnTo>
                <a:lnTo>
                  <a:pt x="358" y="0"/>
                </a:lnTo>
                <a:lnTo>
                  <a:pt x="378" y="0"/>
                </a:lnTo>
                <a:lnTo>
                  <a:pt x="397" y="0"/>
                </a:lnTo>
                <a:lnTo>
                  <a:pt x="416" y="1"/>
                </a:lnTo>
                <a:lnTo>
                  <a:pt x="434" y="3"/>
                </a:lnTo>
                <a:lnTo>
                  <a:pt x="450" y="4"/>
                </a:lnTo>
                <a:lnTo>
                  <a:pt x="466" y="5"/>
                </a:lnTo>
                <a:lnTo>
                  <a:pt x="479" y="6"/>
                </a:lnTo>
                <a:lnTo>
                  <a:pt x="493" y="8"/>
                </a:lnTo>
                <a:lnTo>
                  <a:pt x="506" y="10"/>
                </a:lnTo>
                <a:lnTo>
                  <a:pt x="519" y="11"/>
                </a:lnTo>
                <a:lnTo>
                  <a:pt x="531" y="14"/>
                </a:lnTo>
                <a:lnTo>
                  <a:pt x="544" y="15"/>
                </a:lnTo>
                <a:lnTo>
                  <a:pt x="557" y="18"/>
                </a:lnTo>
                <a:lnTo>
                  <a:pt x="571" y="20"/>
                </a:lnTo>
                <a:lnTo>
                  <a:pt x="582" y="23"/>
                </a:lnTo>
                <a:lnTo>
                  <a:pt x="593" y="25"/>
                </a:lnTo>
                <a:lnTo>
                  <a:pt x="605" y="28"/>
                </a:lnTo>
                <a:lnTo>
                  <a:pt x="616" y="30"/>
                </a:lnTo>
                <a:lnTo>
                  <a:pt x="626" y="33"/>
                </a:lnTo>
                <a:lnTo>
                  <a:pt x="636" y="36"/>
                </a:lnTo>
                <a:lnTo>
                  <a:pt x="647" y="38"/>
                </a:lnTo>
                <a:lnTo>
                  <a:pt x="657" y="42"/>
                </a:lnTo>
                <a:lnTo>
                  <a:pt x="667" y="44"/>
                </a:lnTo>
                <a:lnTo>
                  <a:pt x="677" y="47"/>
                </a:lnTo>
                <a:lnTo>
                  <a:pt x="677" y="80"/>
                </a:lnTo>
                <a:lnTo>
                  <a:pt x="667" y="82"/>
                </a:lnTo>
                <a:lnTo>
                  <a:pt x="657" y="85"/>
                </a:lnTo>
                <a:lnTo>
                  <a:pt x="647" y="87"/>
                </a:lnTo>
                <a:lnTo>
                  <a:pt x="636" y="90"/>
                </a:lnTo>
                <a:lnTo>
                  <a:pt x="626" y="93"/>
                </a:lnTo>
                <a:lnTo>
                  <a:pt x="616" y="95"/>
                </a:lnTo>
                <a:lnTo>
                  <a:pt x="605" y="98"/>
                </a:lnTo>
                <a:lnTo>
                  <a:pt x="593" y="100"/>
                </a:lnTo>
                <a:lnTo>
                  <a:pt x="582" y="103"/>
                </a:lnTo>
                <a:lnTo>
                  <a:pt x="571" y="105"/>
                </a:lnTo>
                <a:lnTo>
                  <a:pt x="557" y="108"/>
                </a:lnTo>
                <a:lnTo>
                  <a:pt x="544" y="110"/>
                </a:lnTo>
                <a:lnTo>
                  <a:pt x="531" y="113"/>
                </a:lnTo>
                <a:lnTo>
                  <a:pt x="519" y="114"/>
                </a:lnTo>
                <a:lnTo>
                  <a:pt x="506" y="117"/>
                </a:lnTo>
                <a:lnTo>
                  <a:pt x="493" y="118"/>
                </a:lnTo>
                <a:lnTo>
                  <a:pt x="479" y="119"/>
                </a:lnTo>
                <a:lnTo>
                  <a:pt x="466" y="122"/>
                </a:lnTo>
                <a:lnTo>
                  <a:pt x="450" y="123"/>
                </a:lnTo>
                <a:lnTo>
                  <a:pt x="434" y="124"/>
                </a:lnTo>
                <a:lnTo>
                  <a:pt x="416" y="125"/>
                </a:lnTo>
                <a:lnTo>
                  <a:pt x="397" y="125"/>
                </a:lnTo>
                <a:lnTo>
                  <a:pt x="378" y="127"/>
                </a:lnTo>
                <a:lnTo>
                  <a:pt x="358" y="127"/>
                </a:lnTo>
                <a:lnTo>
                  <a:pt x="358" y="127"/>
                </a:lnTo>
                <a:lnTo>
                  <a:pt x="336" y="127"/>
                </a:lnTo>
                <a:lnTo>
                  <a:pt x="315" y="125"/>
                </a:lnTo>
                <a:lnTo>
                  <a:pt x="292" y="124"/>
                </a:lnTo>
                <a:lnTo>
                  <a:pt x="268" y="123"/>
                </a:lnTo>
                <a:lnTo>
                  <a:pt x="240" y="119"/>
                </a:lnTo>
                <a:lnTo>
                  <a:pt x="211" y="115"/>
                </a:lnTo>
                <a:lnTo>
                  <a:pt x="178" y="110"/>
                </a:lnTo>
                <a:lnTo>
                  <a:pt x="138" y="103"/>
                </a:lnTo>
                <a:lnTo>
                  <a:pt x="91" y="91"/>
                </a:lnTo>
                <a:lnTo>
                  <a:pt x="90" y="91"/>
                </a:lnTo>
                <a:lnTo>
                  <a:pt x="25" y="72"/>
                </a:lnTo>
                <a:lnTo>
                  <a:pt x="8" y="66"/>
                </a:lnTo>
                <a:lnTo>
                  <a:pt x="0" y="63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181240" y="2263680"/>
            <a:ext cx="1074600" cy="201600"/>
          </a:xfrm>
          <a:custGeom>
            <a:avLst/>
            <a:gdLst/>
            <a:ahLst/>
            <a:rect l="l" t="t" r="r" b="b"/>
            <a:pathLst>
              <a:path w="677" h="127">
                <a:moveTo>
                  <a:pt x="0" y="63"/>
                </a:moveTo>
                <a:lnTo>
                  <a:pt x="8" y="60"/>
                </a:lnTo>
                <a:lnTo>
                  <a:pt x="25" y="55"/>
                </a:lnTo>
                <a:lnTo>
                  <a:pt x="90" y="36"/>
                </a:lnTo>
                <a:lnTo>
                  <a:pt x="91" y="34"/>
                </a:lnTo>
                <a:lnTo>
                  <a:pt x="138" y="23"/>
                </a:lnTo>
                <a:lnTo>
                  <a:pt x="178" y="15"/>
                </a:lnTo>
                <a:lnTo>
                  <a:pt x="211" y="10"/>
                </a:lnTo>
                <a:lnTo>
                  <a:pt x="240" y="6"/>
                </a:lnTo>
                <a:lnTo>
                  <a:pt x="268" y="4"/>
                </a:lnTo>
                <a:lnTo>
                  <a:pt x="292" y="1"/>
                </a:lnTo>
                <a:lnTo>
                  <a:pt x="315" y="0"/>
                </a:lnTo>
                <a:lnTo>
                  <a:pt x="336" y="0"/>
                </a:lnTo>
                <a:lnTo>
                  <a:pt x="358" y="0"/>
                </a:lnTo>
                <a:lnTo>
                  <a:pt x="358" y="0"/>
                </a:lnTo>
                <a:lnTo>
                  <a:pt x="378" y="0"/>
                </a:lnTo>
                <a:lnTo>
                  <a:pt x="397" y="0"/>
                </a:lnTo>
                <a:lnTo>
                  <a:pt x="416" y="1"/>
                </a:lnTo>
                <a:lnTo>
                  <a:pt x="434" y="3"/>
                </a:lnTo>
                <a:lnTo>
                  <a:pt x="450" y="4"/>
                </a:lnTo>
                <a:lnTo>
                  <a:pt x="466" y="5"/>
                </a:lnTo>
                <a:lnTo>
                  <a:pt x="479" y="6"/>
                </a:lnTo>
                <a:lnTo>
                  <a:pt x="493" y="8"/>
                </a:lnTo>
                <a:lnTo>
                  <a:pt x="506" y="10"/>
                </a:lnTo>
                <a:lnTo>
                  <a:pt x="519" y="11"/>
                </a:lnTo>
                <a:lnTo>
                  <a:pt x="531" y="14"/>
                </a:lnTo>
                <a:lnTo>
                  <a:pt x="544" y="15"/>
                </a:lnTo>
                <a:lnTo>
                  <a:pt x="557" y="18"/>
                </a:lnTo>
                <a:lnTo>
                  <a:pt x="571" y="20"/>
                </a:lnTo>
                <a:lnTo>
                  <a:pt x="582" y="23"/>
                </a:lnTo>
                <a:lnTo>
                  <a:pt x="593" y="25"/>
                </a:lnTo>
                <a:lnTo>
                  <a:pt x="605" y="28"/>
                </a:lnTo>
                <a:lnTo>
                  <a:pt x="616" y="30"/>
                </a:lnTo>
                <a:lnTo>
                  <a:pt x="626" y="33"/>
                </a:lnTo>
                <a:lnTo>
                  <a:pt x="636" y="36"/>
                </a:lnTo>
                <a:lnTo>
                  <a:pt x="647" y="38"/>
                </a:lnTo>
                <a:lnTo>
                  <a:pt x="657" y="42"/>
                </a:lnTo>
                <a:lnTo>
                  <a:pt x="667" y="44"/>
                </a:lnTo>
                <a:lnTo>
                  <a:pt x="677" y="47"/>
                </a:lnTo>
                <a:lnTo>
                  <a:pt x="677" y="80"/>
                </a:lnTo>
                <a:lnTo>
                  <a:pt x="667" y="82"/>
                </a:lnTo>
                <a:lnTo>
                  <a:pt x="657" y="85"/>
                </a:lnTo>
                <a:lnTo>
                  <a:pt x="647" y="87"/>
                </a:lnTo>
                <a:lnTo>
                  <a:pt x="636" y="90"/>
                </a:lnTo>
                <a:lnTo>
                  <a:pt x="626" y="93"/>
                </a:lnTo>
                <a:lnTo>
                  <a:pt x="616" y="95"/>
                </a:lnTo>
                <a:lnTo>
                  <a:pt x="605" y="98"/>
                </a:lnTo>
                <a:lnTo>
                  <a:pt x="593" y="100"/>
                </a:lnTo>
                <a:lnTo>
                  <a:pt x="582" y="103"/>
                </a:lnTo>
                <a:lnTo>
                  <a:pt x="571" y="105"/>
                </a:lnTo>
                <a:lnTo>
                  <a:pt x="557" y="108"/>
                </a:lnTo>
                <a:lnTo>
                  <a:pt x="544" y="110"/>
                </a:lnTo>
                <a:lnTo>
                  <a:pt x="531" y="113"/>
                </a:lnTo>
                <a:lnTo>
                  <a:pt x="519" y="114"/>
                </a:lnTo>
                <a:lnTo>
                  <a:pt x="506" y="117"/>
                </a:lnTo>
                <a:lnTo>
                  <a:pt x="493" y="118"/>
                </a:lnTo>
                <a:lnTo>
                  <a:pt x="479" y="119"/>
                </a:lnTo>
                <a:lnTo>
                  <a:pt x="466" y="122"/>
                </a:lnTo>
                <a:lnTo>
                  <a:pt x="450" y="123"/>
                </a:lnTo>
                <a:lnTo>
                  <a:pt x="434" y="124"/>
                </a:lnTo>
                <a:lnTo>
                  <a:pt x="416" y="125"/>
                </a:lnTo>
                <a:lnTo>
                  <a:pt x="397" y="125"/>
                </a:lnTo>
                <a:lnTo>
                  <a:pt x="378" y="127"/>
                </a:lnTo>
                <a:lnTo>
                  <a:pt x="358" y="127"/>
                </a:lnTo>
                <a:lnTo>
                  <a:pt x="358" y="127"/>
                </a:lnTo>
                <a:lnTo>
                  <a:pt x="336" y="127"/>
                </a:lnTo>
                <a:lnTo>
                  <a:pt x="315" y="125"/>
                </a:lnTo>
                <a:lnTo>
                  <a:pt x="292" y="124"/>
                </a:lnTo>
                <a:lnTo>
                  <a:pt x="268" y="123"/>
                </a:lnTo>
                <a:lnTo>
                  <a:pt x="240" y="119"/>
                </a:lnTo>
                <a:lnTo>
                  <a:pt x="211" y="115"/>
                </a:lnTo>
                <a:lnTo>
                  <a:pt x="178" y="110"/>
                </a:lnTo>
                <a:lnTo>
                  <a:pt x="138" y="103"/>
                </a:lnTo>
                <a:lnTo>
                  <a:pt x="91" y="91"/>
                </a:lnTo>
                <a:lnTo>
                  <a:pt x="90" y="91"/>
                </a:lnTo>
                <a:lnTo>
                  <a:pt x="25" y="72"/>
                </a:lnTo>
                <a:lnTo>
                  <a:pt x="8" y="66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181240" y="2363760"/>
            <a:ext cx="144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181240" y="2263680"/>
            <a:ext cx="1074600" cy="201600"/>
          </a:xfrm>
          <a:custGeom>
            <a:avLst/>
            <a:gdLst/>
            <a:ahLst/>
            <a:rect l="l" t="t" r="r" b="b"/>
            <a:pathLst>
              <a:path w="677" h="127">
                <a:moveTo>
                  <a:pt x="0" y="63"/>
                </a:moveTo>
                <a:lnTo>
                  <a:pt x="8" y="60"/>
                </a:lnTo>
                <a:lnTo>
                  <a:pt x="25" y="55"/>
                </a:lnTo>
                <a:lnTo>
                  <a:pt x="90" y="36"/>
                </a:lnTo>
                <a:lnTo>
                  <a:pt x="91" y="34"/>
                </a:lnTo>
                <a:lnTo>
                  <a:pt x="138" y="23"/>
                </a:lnTo>
                <a:lnTo>
                  <a:pt x="178" y="15"/>
                </a:lnTo>
                <a:lnTo>
                  <a:pt x="211" y="10"/>
                </a:lnTo>
                <a:lnTo>
                  <a:pt x="240" y="6"/>
                </a:lnTo>
                <a:lnTo>
                  <a:pt x="268" y="4"/>
                </a:lnTo>
                <a:lnTo>
                  <a:pt x="292" y="1"/>
                </a:lnTo>
                <a:lnTo>
                  <a:pt x="315" y="0"/>
                </a:lnTo>
                <a:lnTo>
                  <a:pt x="336" y="0"/>
                </a:lnTo>
                <a:lnTo>
                  <a:pt x="358" y="0"/>
                </a:lnTo>
                <a:lnTo>
                  <a:pt x="358" y="0"/>
                </a:lnTo>
                <a:lnTo>
                  <a:pt x="378" y="0"/>
                </a:lnTo>
                <a:lnTo>
                  <a:pt x="397" y="0"/>
                </a:lnTo>
                <a:lnTo>
                  <a:pt x="416" y="1"/>
                </a:lnTo>
                <a:lnTo>
                  <a:pt x="434" y="3"/>
                </a:lnTo>
                <a:lnTo>
                  <a:pt x="450" y="4"/>
                </a:lnTo>
                <a:lnTo>
                  <a:pt x="466" y="5"/>
                </a:lnTo>
                <a:lnTo>
                  <a:pt x="479" y="6"/>
                </a:lnTo>
                <a:lnTo>
                  <a:pt x="493" y="8"/>
                </a:lnTo>
                <a:lnTo>
                  <a:pt x="506" y="10"/>
                </a:lnTo>
                <a:lnTo>
                  <a:pt x="519" y="11"/>
                </a:lnTo>
                <a:lnTo>
                  <a:pt x="531" y="14"/>
                </a:lnTo>
                <a:lnTo>
                  <a:pt x="544" y="15"/>
                </a:lnTo>
                <a:lnTo>
                  <a:pt x="557" y="18"/>
                </a:lnTo>
                <a:lnTo>
                  <a:pt x="571" y="20"/>
                </a:lnTo>
                <a:lnTo>
                  <a:pt x="582" y="23"/>
                </a:lnTo>
                <a:lnTo>
                  <a:pt x="593" y="25"/>
                </a:lnTo>
                <a:lnTo>
                  <a:pt x="605" y="28"/>
                </a:lnTo>
                <a:lnTo>
                  <a:pt x="616" y="30"/>
                </a:lnTo>
                <a:lnTo>
                  <a:pt x="626" y="33"/>
                </a:lnTo>
                <a:lnTo>
                  <a:pt x="636" y="36"/>
                </a:lnTo>
                <a:lnTo>
                  <a:pt x="647" y="38"/>
                </a:lnTo>
                <a:lnTo>
                  <a:pt x="657" y="42"/>
                </a:lnTo>
                <a:lnTo>
                  <a:pt x="667" y="44"/>
                </a:lnTo>
                <a:lnTo>
                  <a:pt x="677" y="47"/>
                </a:lnTo>
                <a:lnTo>
                  <a:pt x="677" y="80"/>
                </a:lnTo>
                <a:lnTo>
                  <a:pt x="667" y="82"/>
                </a:lnTo>
                <a:lnTo>
                  <a:pt x="657" y="85"/>
                </a:lnTo>
                <a:lnTo>
                  <a:pt x="647" y="87"/>
                </a:lnTo>
                <a:lnTo>
                  <a:pt x="636" y="90"/>
                </a:lnTo>
                <a:lnTo>
                  <a:pt x="626" y="93"/>
                </a:lnTo>
                <a:lnTo>
                  <a:pt x="616" y="95"/>
                </a:lnTo>
                <a:lnTo>
                  <a:pt x="605" y="98"/>
                </a:lnTo>
                <a:lnTo>
                  <a:pt x="593" y="100"/>
                </a:lnTo>
                <a:lnTo>
                  <a:pt x="582" y="103"/>
                </a:lnTo>
                <a:lnTo>
                  <a:pt x="571" y="105"/>
                </a:lnTo>
                <a:lnTo>
                  <a:pt x="557" y="108"/>
                </a:lnTo>
                <a:lnTo>
                  <a:pt x="544" y="110"/>
                </a:lnTo>
                <a:lnTo>
                  <a:pt x="531" y="113"/>
                </a:lnTo>
                <a:lnTo>
                  <a:pt x="519" y="114"/>
                </a:lnTo>
                <a:lnTo>
                  <a:pt x="506" y="117"/>
                </a:lnTo>
                <a:lnTo>
                  <a:pt x="493" y="118"/>
                </a:lnTo>
                <a:lnTo>
                  <a:pt x="479" y="119"/>
                </a:lnTo>
                <a:lnTo>
                  <a:pt x="466" y="122"/>
                </a:lnTo>
                <a:lnTo>
                  <a:pt x="450" y="123"/>
                </a:lnTo>
                <a:lnTo>
                  <a:pt x="434" y="124"/>
                </a:lnTo>
                <a:lnTo>
                  <a:pt x="416" y="125"/>
                </a:lnTo>
                <a:lnTo>
                  <a:pt x="397" y="125"/>
                </a:lnTo>
                <a:lnTo>
                  <a:pt x="378" y="127"/>
                </a:lnTo>
                <a:lnTo>
                  <a:pt x="358" y="127"/>
                </a:lnTo>
                <a:lnTo>
                  <a:pt x="358" y="127"/>
                </a:lnTo>
                <a:lnTo>
                  <a:pt x="336" y="127"/>
                </a:lnTo>
                <a:lnTo>
                  <a:pt x="315" y="125"/>
                </a:lnTo>
                <a:lnTo>
                  <a:pt x="292" y="124"/>
                </a:lnTo>
                <a:lnTo>
                  <a:pt x="268" y="123"/>
                </a:lnTo>
                <a:lnTo>
                  <a:pt x="240" y="119"/>
                </a:lnTo>
                <a:lnTo>
                  <a:pt x="211" y="115"/>
                </a:lnTo>
                <a:lnTo>
                  <a:pt x="178" y="110"/>
                </a:lnTo>
                <a:lnTo>
                  <a:pt x="138" y="103"/>
                </a:lnTo>
                <a:lnTo>
                  <a:pt x="91" y="91"/>
                </a:lnTo>
                <a:lnTo>
                  <a:pt x="90" y="91"/>
                </a:lnTo>
                <a:lnTo>
                  <a:pt x="25" y="72"/>
                </a:lnTo>
                <a:lnTo>
                  <a:pt x="8" y="66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187800" y="2322360"/>
            <a:ext cx="8388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706840" y="2322360"/>
            <a:ext cx="8388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711520" y="2327400"/>
            <a:ext cx="745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927680" y="2649600"/>
            <a:ext cx="1440" cy="39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927680" y="2569680"/>
            <a:ext cx="1440" cy="39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4927680" y="2488680"/>
            <a:ext cx="1440" cy="399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568680" y="2481120"/>
            <a:ext cx="879480" cy="200160"/>
          </a:xfrm>
          <a:custGeom>
            <a:avLst/>
            <a:gdLst/>
            <a:ahLst/>
            <a:rect l="l" t="t" r="r" b="b"/>
            <a:pathLst>
              <a:path w="554" h="126">
                <a:moveTo>
                  <a:pt x="0" y="63"/>
                </a:moveTo>
                <a:lnTo>
                  <a:pt x="4" y="61"/>
                </a:lnTo>
                <a:lnTo>
                  <a:pt x="22" y="54"/>
                </a:lnTo>
                <a:lnTo>
                  <a:pt x="73" y="34"/>
                </a:lnTo>
                <a:lnTo>
                  <a:pt x="109" y="23"/>
                </a:lnTo>
                <a:lnTo>
                  <a:pt x="143" y="14"/>
                </a:lnTo>
                <a:lnTo>
                  <a:pt x="169" y="9"/>
                </a:lnTo>
                <a:lnTo>
                  <a:pt x="193" y="5"/>
                </a:lnTo>
                <a:lnTo>
                  <a:pt x="216" y="2"/>
                </a:lnTo>
                <a:lnTo>
                  <a:pt x="235" y="1"/>
                </a:lnTo>
                <a:lnTo>
                  <a:pt x="254" y="0"/>
                </a:lnTo>
                <a:lnTo>
                  <a:pt x="270" y="0"/>
                </a:lnTo>
                <a:lnTo>
                  <a:pt x="288" y="0"/>
                </a:lnTo>
                <a:lnTo>
                  <a:pt x="288" y="0"/>
                </a:lnTo>
                <a:lnTo>
                  <a:pt x="307" y="0"/>
                </a:lnTo>
                <a:lnTo>
                  <a:pt x="326" y="1"/>
                </a:lnTo>
                <a:lnTo>
                  <a:pt x="344" y="2"/>
                </a:lnTo>
                <a:lnTo>
                  <a:pt x="361" y="5"/>
                </a:lnTo>
                <a:lnTo>
                  <a:pt x="376" y="6"/>
                </a:lnTo>
                <a:lnTo>
                  <a:pt x="392" y="9"/>
                </a:lnTo>
                <a:lnTo>
                  <a:pt x="406" y="11"/>
                </a:lnTo>
                <a:lnTo>
                  <a:pt x="421" y="14"/>
                </a:lnTo>
                <a:lnTo>
                  <a:pt x="433" y="18"/>
                </a:lnTo>
                <a:lnTo>
                  <a:pt x="446" y="20"/>
                </a:lnTo>
                <a:lnTo>
                  <a:pt x="457" y="23"/>
                </a:lnTo>
                <a:lnTo>
                  <a:pt x="469" y="26"/>
                </a:lnTo>
                <a:lnTo>
                  <a:pt x="479" y="29"/>
                </a:lnTo>
                <a:lnTo>
                  <a:pt x="490" y="31"/>
                </a:lnTo>
                <a:lnTo>
                  <a:pt x="500" y="35"/>
                </a:lnTo>
                <a:lnTo>
                  <a:pt x="507" y="38"/>
                </a:lnTo>
                <a:lnTo>
                  <a:pt x="517" y="40"/>
                </a:lnTo>
                <a:lnTo>
                  <a:pt x="526" y="44"/>
                </a:lnTo>
                <a:lnTo>
                  <a:pt x="536" y="47"/>
                </a:lnTo>
                <a:lnTo>
                  <a:pt x="545" y="50"/>
                </a:lnTo>
                <a:lnTo>
                  <a:pt x="554" y="54"/>
                </a:lnTo>
                <a:lnTo>
                  <a:pt x="554" y="72"/>
                </a:lnTo>
                <a:lnTo>
                  <a:pt x="545" y="76"/>
                </a:lnTo>
                <a:lnTo>
                  <a:pt x="536" y="78"/>
                </a:lnTo>
                <a:lnTo>
                  <a:pt x="526" y="82"/>
                </a:lnTo>
                <a:lnTo>
                  <a:pt x="517" y="86"/>
                </a:lnTo>
                <a:lnTo>
                  <a:pt x="507" y="88"/>
                </a:lnTo>
                <a:lnTo>
                  <a:pt x="500" y="91"/>
                </a:lnTo>
                <a:lnTo>
                  <a:pt x="490" y="93"/>
                </a:lnTo>
                <a:lnTo>
                  <a:pt x="479" y="97"/>
                </a:lnTo>
                <a:lnTo>
                  <a:pt x="469" y="100"/>
                </a:lnTo>
                <a:lnTo>
                  <a:pt x="457" y="104"/>
                </a:lnTo>
                <a:lnTo>
                  <a:pt x="446" y="106"/>
                </a:lnTo>
                <a:lnTo>
                  <a:pt x="433" y="109"/>
                </a:lnTo>
                <a:lnTo>
                  <a:pt x="421" y="111"/>
                </a:lnTo>
                <a:lnTo>
                  <a:pt x="406" y="115"/>
                </a:lnTo>
                <a:lnTo>
                  <a:pt x="392" y="118"/>
                </a:lnTo>
                <a:lnTo>
                  <a:pt x="376" y="120"/>
                </a:lnTo>
                <a:lnTo>
                  <a:pt x="361" y="121"/>
                </a:lnTo>
                <a:lnTo>
                  <a:pt x="344" y="124"/>
                </a:lnTo>
                <a:lnTo>
                  <a:pt x="326" y="125"/>
                </a:lnTo>
                <a:lnTo>
                  <a:pt x="307" y="126"/>
                </a:lnTo>
                <a:lnTo>
                  <a:pt x="288" y="126"/>
                </a:lnTo>
                <a:lnTo>
                  <a:pt x="288" y="126"/>
                </a:lnTo>
                <a:lnTo>
                  <a:pt x="270" y="126"/>
                </a:lnTo>
                <a:lnTo>
                  <a:pt x="254" y="126"/>
                </a:lnTo>
                <a:lnTo>
                  <a:pt x="235" y="125"/>
                </a:lnTo>
                <a:lnTo>
                  <a:pt x="216" y="124"/>
                </a:lnTo>
                <a:lnTo>
                  <a:pt x="193" y="120"/>
                </a:lnTo>
                <a:lnTo>
                  <a:pt x="169" y="118"/>
                </a:lnTo>
                <a:lnTo>
                  <a:pt x="143" y="112"/>
                </a:lnTo>
                <a:lnTo>
                  <a:pt x="109" y="104"/>
                </a:lnTo>
                <a:lnTo>
                  <a:pt x="73" y="92"/>
                </a:lnTo>
                <a:lnTo>
                  <a:pt x="22" y="72"/>
                </a:lnTo>
                <a:lnTo>
                  <a:pt x="4" y="64"/>
                </a:lnTo>
                <a:lnTo>
                  <a:pt x="0" y="63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568680" y="2481120"/>
            <a:ext cx="879480" cy="200160"/>
          </a:xfrm>
          <a:custGeom>
            <a:avLst/>
            <a:gdLst/>
            <a:ahLst/>
            <a:rect l="l" t="t" r="r" b="b"/>
            <a:pathLst>
              <a:path w="554" h="126">
                <a:moveTo>
                  <a:pt x="0" y="63"/>
                </a:moveTo>
                <a:lnTo>
                  <a:pt x="4" y="61"/>
                </a:lnTo>
                <a:lnTo>
                  <a:pt x="22" y="54"/>
                </a:lnTo>
                <a:lnTo>
                  <a:pt x="73" y="34"/>
                </a:lnTo>
                <a:lnTo>
                  <a:pt x="109" y="23"/>
                </a:lnTo>
                <a:lnTo>
                  <a:pt x="143" y="14"/>
                </a:lnTo>
                <a:lnTo>
                  <a:pt x="169" y="9"/>
                </a:lnTo>
                <a:lnTo>
                  <a:pt x="193" y="5"/>
                </a:lnTo>
                <a:lnTo>
                  <a:pt x="216" y="2"/>
                </a:lnTo>
                <a:lnTo>
                  <a:pt x="235" y="1"/>
                </a:lnTo>
                <a:lnTo>
                  <a:pt x="254" y="0"/>
                </a:lnTo>
                <a:lnTo>
                  <a:pt x="270" y="0"/>
                </a:lnTo>
                <a:lnTo>
                  <a:pt x="288" y="0"/>
                </a:lnTo>
                <a:lnTo>
                  <a:pt x="288" y="0"/>
                </a:lnTo>
                <a:lnTo>
                  <a:pt x="307" y="0"/>
                </a:lnTo>
                <a:lnTo>
                  <a:pt x="326" y="1"/>
                </a:lnTo>
                <a:lnTo>
                  <a:pt x="344" y="2"/>
                </a:lnTo>
                <a:lnTo>
                  <a:pt x="361" y="5"/>
                </a:lnTo>
                <a:lnTo>
                  <a:pt x="376" y="6"/>
                </a:lnTo>
                <a:lnTo>
                  <a:pt x="392" y="9"/>
                </a:lnTo>
                <a:lnTo>
                  <a:pt x="406" y="11"/>
                </a:lnTo>
                <a:lnTo>
                  <a:pt x="421" y="14"/>
                </a:lnTo>
                <a:lnTo>
                  <a:pt x="433" y="18"/>
                </a:lnTo>
                <a:lnTo>
                  <a:pt x="446" y="20"/>
                </a:lnTo>
                <a:lnTo>
                  <a:pt x="457" y="23"/>
                </a:lnTo>
                <a:lnTo>
                  <a:pt x="469" y="26"/>
                </a:lnTo>
                <a:lnTo>
                  <a:pt x="479" y="29"/>
                </a:lnTo>
                <a:lnTo>
                  <a:pt x="490" y="31"/>
                </a:lnTo>
                <a:lnTo>
                  <a:pt x="500" y="35"/>
                </a:lnTo>
                <a:lnTo>
                  <a:pt x="507" y="38"/>
                </a:lnTo>
                <a:lnTo>
                  <a:pt x="517" y="40"/>
                </a:lnTo>
                <a:lnTo>
                  <a:pt x="526" y="44"/>
                </a:lnTo>
                <a:lnTo>
                  <a:pt x="536" y="47"/>
                </a:lnTo>
                <a:lnTo>
                  <a:pt x="545" y="50"/>
                </a:lnTo>
                <a:lnTo>
                  <a:pt x="554" y="54"/>
                </a:lnTo>
                <a:lnTo>
                  <a:pt x="554" y="72"/>
                </a:lnTo>
                <a:lnTo>
                  <a:pt x="545" y="76"/>
                </a:lnTo>
                <a:lnTo>
                  <a:pt x="536" y="78"/>
                </a:lnTo>
                <a:lnTo>
                  <a:pt x="526" y="82"/>
                </a:lnTo>
                <a:lnTo>
                  <a:pt x="517" y="86"/>
                </a:lnTo>
                <a:lnTo>
                  <a:pt x="507" y="88"/>
                </a:lnTo>
                <a:lnTo>
                  <a:pt x="500" y="91"/>
                </a:lnTo>
                <a:lnTo>
                  <a:pt x="490" y="93"/>
                </a:lnTo>
                <a:lnTo>
                  <a:pt x="479" y="97"/>
                </a:lnTo>
                <a:lnTo>
                  <a:pt x="469" y="100"/>
                </a:lnTo>
                <a:lnTo>
                  <a:pt x="457" y="104"/>
                </a:lnTo>
                <a:lnTo>
                  <a:pt x="446" y="106"/>
                </a:lnTo>
                <a:lnTo>
                  <a:pt x="433" y="109"/>
                </a:lnTo>
                <a:lnTo>
                  <a:pt x="421" y="111"/>
                </a:lnTo>
                <a:lnTo>
                  <a:pt x="406" y="115"/>
                </a:lnTo>
                <a:lnTo>
                  <a:pt x="392" y="118"/>
                </a:lnTo>
                <a:lnTo>
                  <a:pt x="376" y="120"/>
                </a:lnTo>
                <a:lnTo>
                  <a:pt x="361" y="121"/>
                </a:lnTo>
                <a:lnTo>
                  <a:pt x="344" y="124"/>
                </a:lnTo>
                <a:lnTo>
                  <a:pt x="326" y="125"/>
                </a:lnTo>
                <a:lnTo>
                  <a:pt x="307" y="126"/>
                </a:lnTo>
                <a:lnTo>
                  <a:pt x="288" y="126"/>
                </a:lnTo>
                <a:lnTo>
                  <a:pt x="288" y="126"/>
                </a:lnTo>
                <a:lnTo>
                  <a:pt x="270" y="126"/>
                </a:lnTo>
                <a:lnTo>
                  <a:pt x="254" y="126"/>
                </a:lnTo>
                <a:lnTo>
                  <a:pt x="235" y="125"/>
                </a:lnTo>
                <a:lnTo>
                  <a:pt x="216" y="124"/>
                </a:lnTo>
                <a:lnTo>
                  <a:pt x="193" y="120"/>
                </a:lnTo>
                <a:lnTo>
                  <a:pt x="169" y="118"/>
                </a:lnTo>
                <a:lnTo>
                  <a:pt x="143" y="112"/>
                </a:lnTo>
                <a:lnTo>
                  <a:pt x="109" y="104"/>
                </a:lnTo>
                <a:lnTo>
                  <a:pt x="73" y="92"/>
                </a:lnTo>
                <a:lnTo>
                  <a:pt x="22" y="72"/>
                </a:lnTo>
                <a:lnTo>
                  <a:pt x="4" y="64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568680" y="2581200"/>
            <a:ext cx="1440" cy="180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568680" y="2481120"/>
            <a:ext cx="879480" cy="200160"/>
          </a:xfrm>
          <a:custGeom>
            <a:avLst/>
            <a:gdLst/>
            <a:ahLst/>
            <a:rect l="l" t="t" r="r" b="b"/>
            <a:pathLst>
              <a:path w="554" h="126">
                <a:moveTo>
                  <a:pt x="0" y="63"/>
                </a:moveTo>
                <a:lnTo>
                  <a:pt x="4" y="61"/>
                </a:lnTo>
                <a:lnTo>
                  <a:pt x="22" y="54"/>
                </a:lnTo>
                <a:lnTo>
                  <a:pt x="73" y="34"/>
                </a:lnTo>
                <a:lnTo>
                  <a:pt x="109" y="23"/>
                </a:lnTo>
                <a:lnTo>
                  <a:pt x="143" y="14"/>
                </a:lnTo>
                <a:lnTo>
                  <a:pt x="169" y="9"/>
                </a:lnTo>
                <a:lnTo>
                  <a:pt x="193" y="5"/>
                </a:lnTo>
                <a:lnTo>
                  <a:pt x="216" y="2"/>
                </a:lnTo>
                <a:lnTo>
                  <a:pt x="235" y="1"/>
                </a:lnTo>
                <a:lnTo>
                  <a:pt x="254" y="0"/>
                </a:lnTo>
                <a:lnTo>
                  <a:pt x="270" y="0"/>
                </a:lnTo>
                <a:lnTo>
                  <a:pt x="288" y="0"/>
                </a:lnTo>
                <a:lnTo>
                  <a:pt x="288" y="0"/>
                </a:lnTo>
                <a:lnTo>
                  <a:pt x="307" y="0"/>
                </a:lnTo>
                <a:lnTo>
                  <a:pt x="326" y="1"/>
                </a:lnTo>
                <a:lnTo>
                  <a:pt x="344" y="2"/>
                </a:lnTo>
                <a:lnTo>
                  <a:pt x="361" y="5"/>
                </a:lnTo>
                <a:lnTo>
                  <a:pt x="376" y="6"/>
                </a:lnTo>
                <a:lnTo>
                  <a:pt x="392" y="9"/>
                </a:lnTo>
                <a:lnTo>
                  <a:pt x="406" y="11"/>
                </a:lnTo>
                <a:lnTo>
                  <a:pt x="421" y="14"/>
                </a:lnTo>
                <a:lnTo>
                  <a:pt x="433" y="18"/>
                </a:lnTo>
                <a:lnTo>
                  <a:pt x="446" y="20"/>
                </a:lnTo>
                <a:lnTo>
                  <a:pt x="457" y="23"/>
                </a:lnTo>
                <a:lnTo>
                  <a:pt x="469" y="26"/>
                </a:lnTo>
                <a:lnTo>
                  <a:pt x="479" y="29"/>
                </a:lnTo>
                <a:lnTo>
                  <a:pt x="490" y="31"/>
                </a:lnTo>
                <a:lnTo>
                  <a:pt x="500" y="35"/>
                </a:lnTo>
                <a:lnTo>
                  <a:pt x="507" y="38"/>
                </a:lnTo>
                <a:lnTo>
                  <a:pt x="517" y="40"/>
                </a:lnTo>
                <a:lnTo>
                  <a:pt x="526" y="44"/>
                </a:lnTo>
                <a:lnTo>
                  <a:pt x="536" y="47"/>
                </a:lnTo>
                <a:lnTo>
                  <a:pt x="545" y="50"/>
                </a:lnTo>
                <a:lnTo>
                  <a:pt x="554" y="54"/>
                </a:lnTo>
                <a:lnTo>
                  <a:pt x="554" y="72"/>
                </a:lnTo>
                <a:lnTo>
                  <a:pt x="545" y="76"/>
                </a:lnTo>
                <a:lnTo>
                  <a:pt x="536" y="78"/>
                </a:lnTo>
                <a:lnTo>
                  <a:pt x="526" y="82"/>
                </a:lnTo>
                <a:lnTo>
                  <a:pt x="517" y="86"/>
                </a:lnTo>
                <a:lnTo>
                  <a:pt x="507" y="88"/>
                </a:lnTo>
                <a:lnTo>
                  <a:pt x="500" y="91"/>
                </a:lnTo>
                <a:lnTo>
                  <a:pt x="490" y="93"/>
                </a:lnTo>
                <a:lnTo>
                  <a:pt x="479" y="97"/>
                </a:lnTo>
                <a:lnTo>
                  <a:pt x="469" y="100"/>
                </a:lnTo>
                <a:lnTo>
                  <a:pt x="457" y="104"/>
                </a:lnTo>
                <a:lnTo>
                  <a:pt x="446" y="106"/>
                </a:lnTo>
                <a:lnTo>
                  <a:pt x="433" y="109"/>
                </a:lnTo>
                <a:lnTo>
                  <a:pt x="421" y="111"/>
                </a:lnTo>
                <a:lnTo>
                  <a:pt x="406" y="115"/>
                </a:lnTo>
                <a:lnTo>
                  <a:pt x="392" y="118"/>
                </a:lnTo>
                <a:lnTo>
                  <a:pt x="376" y="120"/>
                </a:lnTo>
                <a:lnTo>
                  <a:pt x="361" y="121"/>
                </a:lnTo>
                <a:lnTo>
                  <a:pt x="344" y="124"/>
                </a:lnTo>
                <a:lnTo>
                  <a:pt x="326" y="125"/>
                </a:lnTo>
                <a:lnTo>
                  <a:pt x="307" y="126"/>
                </a:lnTo>
                <a:lnTo>
                  <a:pt x="288" y="126"/>
                </a:lnTo>
                <a:lnTo>
                  <a:pt x="288" y="126"/>
                </a:lnTo>
                <a:lnTo>
                  <a:pt x="270" y="126"/>
                </a:lnTo>
                <a:lnTo>
                  <a:pt x="254" y="126"/>
                </a:lnTo>
                <a:lnTo>
                  <a:pt x="235" y="125"/>
                </a:lnTo>
                <a:lnTo>
                  <a:pt x="216" y="124"/>
                </a:lnTo>
                <a:lnTo>
                  <a:pt x="193" y="120"/>
                </a:lnTo>
                <a:lnTo>
                  <a:pt x="169" y="118"/>
                </a:lnTo>
                <a:lnTo>
                  <a:pt x="143" y="112"/>
                </a:lnTo>
                <a:lnTo>
                  <a:pt x="109" y="104"/>
                </a:lnTo>
                <a:lnTo>
                  <a:pt x="73" y="92"/>
                </a:lnTo>
                <a:lnTo>
                  <a:pt x="22" y="72"/>
                </a:lnTo>
                <a:lnTo>
                  <a:pt x="4" y="64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471920" y="2540160"/>
            <a:ext cx="84240" cy="838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983040" y="2540160"/>
            <a:ext cx="84240" cy="838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987720" y="2544840"/>
            <a:ext cx="745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920960" y="2698920"/>
            <a:ext cx="2995560" cy="199800"/>
          </a:xfrm>
          <a:custGeom>
            <a:avLst/>
            <a:gdLst/>
            <a:ahLst/>
            <a:rect l="l" t="t" r="r" b="b"/>
            <a:pathLst>
              <a:path w="1887" h="126">
                <a:moveTo>
                  <a:pt x="0" y="63"/>
                </a:moveTo>
                <a:lnTo>
                  <a:pt x="17" y="60"/>
                </a:lnTo>
                <a:lnTo>
                  <a:pt x="51" y="56"/>
                </a:lnTo>
                <a:lnTo>
                  <a:pt x="279" y="31"/>
                </a:lnTo>
                <a:lnTo>
                  <a:pt x="557" y="11"/>
                </a:lnTo>
                <a:lnTo>
                  <a:pt x="778" y="2"/>
                </a:lnTo>
                <a:lnTo>
                  <a:pt x="922" y="0"/>
                </a:lnTo>
                <a:lnTo>
                  <a:pt x="1028" y="2"/>
                </a:lnTo>
                <a:lnTo>
                  <a:pt x="1114" y="6"/>
                </a:lnTo>
                <a:lnTo>
                  <a:pt x="1114" y="6"/>
                </a:lnTo>
                <a:lnTo>
                  <a:pt x="1189" y="10"/>
                </a:lnTo>
                <a:lnTo>
                  <a:pt x="1252" y="12"/>
                </a:lnTo>
                <a:lnTo>
                  <a:pt x="1308" y="13"/>
                </a:lnTo>
                <a:lnTo>
                  <a:pt x="1354" y="16"/>
                </a:lnTo>
                <a:lnTo>
                  <a:pt x="1395" y="19"/>
                </a:lnTo>
                <a:lnTo>
                  <a:pt x="1433" y="21"/>
                </a:lnTo>
                <a:lnTo>
                  <a:pt x="1469" y="24"/>
                </a:lnTo>
                <a:lnTo>
                  <a:pt x="1501" y="26"/>
                </a:lnTo>
                <a:lnTo>
                  <a:pt x="1540" y="29"/>
                </a:lnTo>
                <a:lnTo>
                  <a:pt x="1566" y="31"/>
                </a:lnTo>
                <a:lnTo>
                  <a:pt x="1590" y="34"/>
                </a:lnTo>
                <a:lnTo>
                  <a:pt x="1613" y="35"/>
                </a:lnTo>
                <a:lnTo>
                  <a:pt x="1635" y="38"/>
                </a:lnTo>
                <a:lnTo>
                  <a:pt x="1655" y="39"/>
                </a:lnTo>
                <a:lnTo>
                  <a:pt x="1675" y="40"/>
                </a:lnTo>
                <a:lnTo>
                  <a:pt x="1693" y="43"/>
                </a:lnTo>
                <a:lnTo>
                  <a:pt x="1714" y="44"/>
                </a:lnTo>
                <a:lnTo>
                  <a:pt x="1735" y="46"/>
                </a:lnTo>
                <a:lnTo>
                  <a:pt x="1754" y="48"/>
                </a:lnTo>
                <a:lnTo>
                  <a:pt x="1768" y="50"/>
                </a:lnTo>
                <a:lnTo>
                  <a:pt x="1783" y="51"/>
                </a:lnTo>
                <a:lnTo>
                  <a:pt x="1797" y="53"/>
                </a:lnTo>
                <a:lnTo>
                  <a:pt x="1809" y="54"/>
                </a:lnTo>
                <a:lnTo>
                  <a:pt x="1823" y="55"/>
                </a:lnTo>
                <a:lnTo>
                  <a:pt x="1836" y="56"/>
                </a:lnTo>
                <a:lnTo>
                  <a:pt x="1847" y="58"/>
                </a:lnTo>
                <a:lnTo>
                  <a:pt x="1860" y="59"/>
                </a:lnTo>
                <a:lnTo>
                  <a:pt x="1873" y="60"/>
                </a:lnTo>
                <a:lnTo>
                  <a:pt x="1887" y="62"/>
                </a:lnTo>
                <a:lnTo>
                  <a:pt x="1887" y="64"/>
                </a:lnTo>
                <a:lnTo>
                  <a:pt x="1873" y="65"/>
                </a:lnTo>
                <a:lnTo>
                  <a:pt x="1860" y="67"/>
                </a:lnTo>
                <a:lnTo>
                  <a:pt x="1847" y="68"/>
                </a:lnTo>
                <a:lnTo>
                  <a:pt x="1836" y="69"/>
                </a:lnTo>
                <a:lnTo>
                  <a:pt x="1823" y="72"/>
                </a:lnTo>
                <a:lnTo>
                  <a:pt x="1809" y="73"/>
                </a:lnTo>
                <a:lnTo>
                  <a:pt x="1797" y="74"/>
                </a:lnTo>
                <a:lnTo>
                  <a:pt x="1783" y="75"/>
                </a:lnTo>
                <a:lnTo>
                  <a:pt x="1768" y="77"/>
                </a:lnTo>
                <a:lnTo>
                  <a:pt x="1754" y="78"/>
                </a:lnTo>
                <a:lnTo>
                  <a:pt x="1735" y="81"/>
                </a:lnTo>
                <a:lnTo>
                  <a:pt x="1714" y="82"/>
                </a:lnTo>
                <a:lnTo>
                  <a:pt x="1693" y="84"/>
                </a:lnTo>
                <a:lnTo>
                  <a:pt x="1675" y="86"/>
                </a:lnTo>
                <a:lnTo>
                  <a:pt x="1655" y="87"/>
                </a:lnTo>
                <a:lnTo>
                  <a:pt x="1635" y="89"/>
                </a:lnTo>
                <a:lnTo>
                  <a:pt x="1613" y="91"/>
                </a:lnTo>
                <a:lnTo>
                  <a:pt x="1590" y="93"/>
                </a:lnTo>
                <a:lnTo>
                  <a:pt x="1566" y="94"/>
                </a:lnTo>
                <a:lnTo>
                  <a:pt x="1540" y="97"/>
                </a:lnTo>
                <a:lnTo>
                  <a:pt x="1501" y="100"/>
                </a:lnTo>
                <a:lnTo>
                  <a:pt x="1469" y="102"/>
                </a:lnTo>
                <a:lnTo>
                  <a:pt x="1433" y="105"/>
                </a:lnTo>
                <a:lnTo>
                  <a:pt x="1395" y="107"/>
                </a:lnTo>
                <a:lnTo>
                  <a:pt x="1354" y="110"/>
                </a:lnTo>
                <a:lnTo>
                  <a:pt x="1308" y="112"/>
                </a:lnTo>
                <a:lnTo>
                  <a:pt x="1252" y="115"/>
                </a:lnTo>
                <a:lnTo>
                  <a:pt x="1189" y="117"/>
                </a:lnTo>
                <a:lnTo>
                  <a:pt x="1114" y="120"/>
                </a:lnTo>
                <a:lnTo>
                  <a:pt x="1114" y="120"/>
                </a:lnTo>
                <a:lnTo>
                  <a:pt x="1028" y="124"/>
                </a:lnTo>
                <a:lnTo>
                  <a:pt x="922" y="126"/>
                </a:lnTo>
                <a:lnTo>
                  <a:pt x="778" y="125"/>
                </a:lnTo>
                <a:lnTo>
                  <a:pt x="557" y="115"/>
                </a:lnTo>
                <a:lnTo>
                  <a:pt x="279" y="94"/>
                </a:lnTo>
                <a:lnTo>
                  <a:pt x="51" y="69"/>
                </a:lnTo>
                <a:lnTo>
                  <a:pt x="17" y="65"/>
                </a:lnTo>
                <a:lnTo>
                  <a:pt x="0" y="63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920960" y="2698920"/>
            <a:ext cx="2995560" cy="199800"/>
          </a:xfrm>
          <a:custGeom>
            <a:avLst/>
            <a:gdLst/>
            <a:ahLst/>
            <a:rect l="l" t="t" r="r" b="b"/>
            <a:pathLst>
              <a:path w="1887" h="126">
                <a:moveTo>
                  <a:pt x="0" y="63"/>
                </a:moveTo>
                <a:lnTo>
                  <a:pt x="17" y="60"/>
                </a:lnTo>
                <a:lnTo>
                  <a:pt x="51" y="56"/>
                </a:lnTo>
                <a:lnTo>
                  <a:pt x="279" y="31"/>
                </a:lnTo>
                <a:lnTo>
                  <a:pt x="557" y="11"/>
                </a:lnTo>
                <a:lnTo>
                  <a:pt x="778" y="2"/>
                </a:lnTo>
                <a:lnTo>
                  <a:pt x="922" y="0"/>
                </a:lnTo>
                <a:lnTo>
                  <a:pt x="1028" y="2"/>
                </a:lnTo>
                <a:lnTo>
                  <a:pt x="1114" y="6"/>
                </a:lnTo>
                <a:lnTo>
                  <a:pt x="1114" y="6"/>
                </a:lnTo>
                <a:lnTo>
                  <a:pt x="1189" y="10"/>
                </a:lnTo>
                <a:lnTo>
                  <a:pt x="1252" y="12"/>
                </a:lnTo>
                <a:lnTo>
                  <a:pt x="1308" y="13"/>
                </a:lnTo>
                <a:lnTo>
                  <a:pt x="1354" y="16"/>
                </a:lnTo>
                <a:lnTo>
                  <a:pt x="1395" y="19"/>
                </a:lnTo>
                <a:lnTo>
                  <a:pt x="1433" y="21"/>
                </a:lnTo>
                <a:lnTo>
                  <a:pt x="1469" y="24"/>
                </a:lnTo>
                <a:lnTo>
                  <a:pt x="1501" y="26"/>
                </a:lnTo>
                <a:lnTo>
                  <a:pt x="1540" y="29"/>
                </a:lnTo>
                <a:lnTo>
                  <a:pt x="1566" y="31"/>
                </a:lnTo>
                <a:lnTo>
                  <a:pt x="1590" y="34"/>
                </a:lnTo>
                <a:lnTo>
                  <a:pt x="1613" y="35"/>
                </a:lnTo>
                <a:lnTo>
                  <a:pt x="1635" y="38"/>
                </a:lnTo>
                <a:lnTo>
                  <a:pt x="1655" y="39"/>
                </a:lnTo>
                <a:lnTo>
                  <a:pt x="1675" y="40"/>
                </a:lnTo>
                <a:lnTo>
                  <a:pt x="1693" y="43"/>
                </a:lnTo>
                <a:lnTo>
                  <a:pt x="1714" y="44"/>
                </a:lnTo>
                <a:lnTo>
                  <a:pt x="1735" y="46"/>
                </a:lnTo>
                <a:lnTo>
                  <a:pt x="1754" y="48"/>
                </a:lnTo>
                <a:lnTo>
                  <a:pt x="1768" y="50"/>
                </a:lnTo>
                <a:lnTo>
                  <a:pt x="1783" y="51"/>
                </a:lnTo>
                <a:lnTo>
                  <a:pt x="1797" y="53"/>
                </a:lnTo>
                <a:lnTo>
                  <a:pt x="1809" y="54"/>
                </a:lnTo>
                <a:lnTo>
                  <a:pt x="1823" y="55"/>
                </a:lnTo>
                <a:lnTo>
                  <a:pt x="1836" y="56"/>
                </a:lnTo>
                <a:lnTo>
                  <a:pt x="1847" y="58"/>
                </a:lnTo>
                <a:lnTo>
                  <a:pt x="1860" y="59"/>
                </a:lnTo>
                <a:lnTo>
                  <a:pt x="1873" y="60"/>
                </a:lnTo>
                <a:lnTo>
                  <a:pt x="1887" y="62"/>
                </a:lnTo>
                <a:lnTo>
                  <a:pt x="1887" y="64"/>
                </a:lnTo>
                <a:lnTo>
                  <a:pt x="1873" y="65"/>
                </a:lnTo>
                <a:lnTo>
                  <a:pt x="1860" y="67"/>
                </a:lnTo>
                <a:lnTo>
                  <a:pt x="1847" y="68"/>
                </a:lnTo>
                <a:lnTo>
                  <a:pt x="1836" y="69"/>
                </a:lnTo>
                <a:lnTo>
                  <a:pt x="1823" y="72"/>
                </a:lnTo>
                <a:lnTo>
                  <a:pt x="1809" y="73"/>
                </a:lnTo>
                <a:lnTo>
                  <a:pt x="1797" y="74"/>
                </a:lnTo>
                <a:lnTo>
                  <a:pt x="1783" y="75"/>
                </a:lnTo>
                <a:lnTo>
                  <a:pt x="1768" y="77"/>
                </a:lnTo>
                <a:lnTo>
                  <a:pt x="1754" y="78"/>
                </a:lnTo>
                <a:lnTo>
                  <a:pt x="1735" y="81"/>
                </a:lnTo>
                <a:lnTo>
                  <a:pt x="1714" y="82"/>
                </a:lnTo>
                <a:lnTo>
                  <a:pt x="1693" y="84"/>
                </a:lnTo>
                <a:lnTo>
                  <a:pt x="1675" y="86"/>
                </a:lnTo>
                <a:lnTo>
                  <a:pt x="1655" y="87"/>
                </a:lnTo>
                <a:lnTo>
                  <a:pt x="1635" y="89"/>
                </a:lnTo>
                <a:lnTo>
                  <a:pt x="1613" y="91"/>
                </a:lnTo>
                <a:lnTo>
                  <a:pt x="1590" y="93"/>
                </a:lnTo>
                <a:lnTo>
                  <a:pt x="1566" y="94"/>
                </a:lnTo>
                <a:lnTo>
                  <a:pt x="1540" y="97"/>
                </a:lnTo>
                <a:lnTo>
                  <a:pt x="1501" y="100"/>
                </a:lnTo>
                <a:lnTo>
                  <a:pt x="1469" y="102"/>
                </a:lnTo>
                <a:lnTo>
                  <a:pt x="1433" y="105"/>
                </a:lnTo>
                <a:lnTo>
                  <a:pt x="1395" y="107"/>
                </a:lnTo>
                <a:lnTo>
                  <a:pt x="1354" y="110"/>
                </a:lnTo>
                <a:lnTo>
                  <a:pt x="1308" y="112"/>
                </a:lnTo>
                <a:lnTo>
                  <a:pt x="1252" y="115"/>
                </a:lnTo>
                <a:lnTo>
                  <a:pt x="1189" y="117"/>
                </a:lnTo>
                <a:lnTo>
                  <a:pt x="1114" y="120"/>
                </a:lnTo>
                <a:lnTo>
                  <a:pt x="1114" y="120"/>
                </a:lnTo>
                <a:lnTo>
                  <a:pt x="1028" y="124"/>
                </a:lnTo>
                <a:lnTo>
                  <a:pt x="922" y="126"/>
                </a:lnTo>
                <a:lnTo>
                  <a:pt x="778" y="125"/>
                </a:lnTo>
                <a:lnTo>
                  <a:pt x="557" y="115"/>
                </a:lnTo>
                <a:lnTo>
                  <a:pt x="279" y="94"/>
                </a:lnTo>
                <a:lnTo>
                  <a:pt x="51" y="69"/>
                </a:lnTo>
                <a:lnTo>
                  <a:pt x="17" y="65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920960" y="2798640"/>
            <a:ext cx="1440" cy="180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920960" y="2698920"/>
            <a:ext cx="2995560" cy="199800"/>
          </a:xfrm>
          <a:custGeom>
            <a:avLst/>
            <a:gdLst/>
            <a:ahLst/>
            <a:rect l="l" t="t" r="r" b="b"/>
            <a:pathLst>
              <a:path w="1887" h="126">
                <a:moveTo>
                  <a:pt x="0" y="63"/>
                </a:moveTo>
                <a:lnTo>
                  <a:pt x="17" y="60"/>
                </a:lnTo>
                <a:lnTo>
                  <a:pt x="51" y="56"/>
                </a:lnTo>
                <a:lnTo>
                  <a:pt x="279" y="31"/>
                </a:lnTo>
                <a:lnTo>
                  <a:pt x="557" y="11"/>
                </a:lnTo>
                <a:lnTo>
                  <a:pt x="778" y="2"/>
                </a:lnTo>
                <a:lnTo>
                  <a:pt x="922" y="0"/>
                </a:lnTo>
                <a:lnTo>
                  <a:pt x="1028" y="2"/>
                </a:lnTo>
                <a:lnTo>
                  <a:pt x="1114" y="6"/>
                </a:lnTo>
                <a:lnTo>
                  <a:pt x="1114" y="6"/>
                </a:lnTo>
                <a:lnTo>
                  <a:pt x="1189" y="10"/>
                </a:lnTo>
                <a:lnTo>
                  <a:pt x="1252" y="12"/>
                </a:lnTo>
                <a:lnTo>
                  <a:pt x="1308" y="13"/>
                </a:lnTo>
                <a:lnTo>
                  <a:pt x="1354" y="16"/>
                </a:lnTo>
                <a:lnTo>
                  <a:pt x="1395" y="19"/>
                </a:lnTo>
                <a:lnTo>
                  <a:pt x="1433" y="21"/>
                </a:lnTo>
                <a:lnTo>
                  <a:pt x="1469" y="24"/>
                </a:lnTo>
                <a:lnTo>
                  <a:pt x="1501" y="26"/>
                </a:lnTo>
                <a:lnTo>
                  <a:pt x="1540" y="29"/>
                </a:lnTo>
                <a:lnTo>
                  <a:pt x="1566" y="31"/>
                </a:lnTo>
                <a:lnTo>
                  <a:pt x="1590" y="34"/>
                </a:lnTo>
                <a:lnTo>
                  <a:pt x="1613" y="35"/>
                </a:lnTo>
                <a:lnTo>
                  <a:pt x="1635" y="38"/>
                </a:lnTo>
                <a:lnTo>
                  <a:pt x="1655" y="39"/>
                </a:lnTo>
                <a:lnTo>
                  <a:pt x="1675" y="40"/>
                </a:lnTo>
                <a:lnTo>
                  <a:pt x="1693" y="43"/>
                </a:lnTo>
                <a:lnTo>
                  <a:pt x="1714" y="44"/>
                </a:lnTo>
                <a:lnTo>
                  <a:pt x="1735" y="46"/>
                </a:lnTo>
                <a:lnTo>
                  <a:pt x="1754" y="48"/>
                </a:lnTo>
                <a:lnTo>
                  <a:pt x="1768" y="50"/>
                </a:lnTo>
                <a:lnTo>
                  <a:pt x="1783" y="51"/>
                </a:lnTo>
                <a:lnTo>
                  <a:pt x="1797" y="53"/>
                </a:lnTo>
                <a:lnTo>
                  <a:pt x="1809" y="54"/>
                </a:lnTo>
                <a:lnTo>
                  <a:pt x="1823" y="55"/>
                </a:lnTo>
                <a:lnTo>
                  <a:pt x="1836" y="56"/>
                </a:lnTo>
                <a:lnTo>
                  <a:pt x="1847" y="58"/>
                </a:lnTo>
                <a:lnTo>
                  <a:pt x="1860" y="59"/>
                </a:lnTo>
                <a:lnTo>
                  <a:pt x="1873" y="60"/>
                </a:lnTo>
                <a:lnTo>
                  <a:pt x="1887" y="62"/>
                </a:lnTo>
                <a:lnTo>
                  <a:pt x="1887" y="64"/>
                </a:lnTo>
                <a:lnTo>
                  <a:pt x="1873" y="65"/>
                </a:lnTo>
                <a:lnTo>
                  <a:pt x="1860" y="67"/>
                </a:lnTo>
                <a:lnTo>
                  <a:pt x="1847" y="68"/>
                </a:lnTo>
                <a:lnTo>
                  <a:pt x="1836" y="69"/>
                </a:lnTo>
                <a:lnTo>
                  <a:pt x="1823" y="72"/>
                </a:lnTo>
                <a:lnTo>
                  <a:pt x="1809" y="73"/>
                </a:lnTo>
                <a:lnTo>
                  <a:pt x="1797" y="74"/>
                </a:lnTo>
                <a:lnTo>
                  <a:pt x="1783" y="75"/>
                </a:lnTo>
                <a:lnTo>
                  <a:pt x="1768" y="77"/>
                </a:lnTo>
                <a:lnTo>
                  <a:pt x="1754" y="78"/>
                </a:lnTo>
                <a:lnTo>
                  <a:pt x="1735" y="81"/>
                </a:lnTo>
                <a:lnTo>
                  <a:pt x="1714" y="82"/>
                </a:lnTo>
                <a:lnTo>
                  <a:pt x="1693" y="84"/>
                </a:lnTo>
                <a:lnTo>
                  <a:pt x="1675" y="86"/>
                </a:lnTo>
                <a:lnTo>
                  <a:pt x="1655" y="87"/>
                </a:lnTo>
                <a:lnTo>
                  <a:pt x="1635" y="89"/>
                </a:lnTo>
                <a:lnTo>
                  <a:pt x="1613" y="91"/>
                </a:lnTo>
                <a:lnTo>
                  <a:pt x="1590" y="93"/>
                </a:lnTo>
                <a:lnTo>
                  <a:pt x="1566" y="94"/>
                </a:lnTo>
                <a:lnTo>
                  <a:pt x="1540" y="97"/>
                </a:lnTo>
                <a:lnTo>
                  <a:pt x="1501" y="100"/>
                </a:lnTo>
                <a:lnTo>
                  <a:pt x="1469" y="102"/>
                </a:lnTo>
                <a:lnTo>
                  <a:pt x="1433" y="105"/>
                </a:lnTo>
                <a:lnTo>
                  <a:pt x="1395" y="107"/>
                </a:lnTo>
                <a:lnTo>
                  <a:pt x="1354" y="110"/>
                </a:lnTo>
                <a:lnTo>
                  <a:pt x="1308" y="112"/>
                </a:lnTo>
                <a:lnTo>
                  <a:pt x="1252" y="115"/>
                </a:lnTo>
                <a:lnTo>
                  <a:pt x="1189" y="117"/>
                </a:lnTo>
                <a:lnTo>
                  <a:pt x="1114" y="120"/>
                </a:lnTo>
                <a:lnTo>
                  <a:pt x="1114" y="120"/>
                </a:lnTo>
                <a:lnTo>
                  <a:pt x="1028" y="124"/>
                </a:lnTo>
                <a:lnTo>
                  <a:pt x="922" y="126"/>
                </a:lnTo>
                <a:lnTo>
                  <a:pt x="778" y="125"/>
                </a:lnTo>
                <a:lnTo>
                  <a:pt x="557" y="115"/>
                </a:lnTo>
                <a:lnTo>
                  <a:pt x="279" y="94"/>
                </a:lnTo>
                <a:lnTo>
                  <a:pt x="51" y="69"/>
                </a:lnTo>
                <a:lnTo>
                  <a:pt x="17" y="65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214880" y="2755800"/>
            <a:ext cx="8424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341520" y="2755800"/>
            <a:ext cx="8604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46560" y="2760840"/>
            <a:ext cx="7596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927680" y="3086280"/>
            <a:ext cx="1440" cy="396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4927680" y="3005280"/>
            <a:ext cx="1440" cy="4104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4927680" y="2925720"/>
            <a:ext cx="1440" cy="396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70320" y="2914560"/>
            <a:ext cx="554040" cy="203400"/>
          </a:xfrm>
          <a:custGeom>
            <a:avLst/>
            <a:gdLst/>
            <a:ahLst/>
            <a:rect l="l" t="t" r="r" b="b"/>
            <a:pathLst>
              <a:path w="349" h="128">
                <a:moveTo>
                  <a:pt x="0" y="64"/>
                </a:moveTo>
                <a:lnTo>
                  <a:pt x="13" y="56"/>
                </a:lnTo>
                <a:lnTo>
                  <a:pt x="23" y="48"/>
                </a:lnTo>
                <a:lnTo>
                  <a:pt x="30" y="45"/>
                </a:lnTo>
                <a:lnTo>
                  <a:pt x="42" y="37"/>
                </a:lnTo>
                <a:lnTo>
                  <a:pt x="52" y="32"/>
                </a:lnTo>
                <a:lnTo>
                  <a:pt x="57" y="31"/>
                </a:lnTo>
                <a:lnTo>
                  <a:pt x="60" y="29"/>
                </a:lnTo>
                <a:lnTo>
                  <a:pt x="61" y="28"/>
                </a:lnTo>
                <a:lnTo>
                  <a:pt x="61" y="28"/>
                </a:lnTo>
                <a:lnTo>
                  <a:pt x="62" y="28"/>
                </a:lnTo>
                <a:lnTo>
                  <a:pt x="65" y="27"/>
                </a:lnTo>
                <a:lnTo>
                  <a:pt x="66" y="26"/>
                </a:lnTo>
                <a:lnTo>
                  <a:pt x="73" y="23"/>
                </a:lnTo>
                <a:lnTo>
                  <a:pt x="79" y="20"/>
                </a:lnTo>
                <a:lnTo>
                  <a:pt x="85" y="18"/>
                </a:lnTo>
                <a:lnTo>
                  <a:pt x="92" y="15"/>
                </a:lnTo>
                <a:lnTo>
                  <a:pt x="98" y="13"/>
                </a:lnTo>
                <a:lnTo>
                  <a:pt x="104" y="12"/>
                </a:lnTo>
                <a:lnTo>
                  <a:pt x="111" y="10"/>
                </a:lnTo>
                <a:lnTo>
                  <a:pt x="117" y="8"/>
                </a:lnTo>
                <a:lnTo>
                  <a:pt x="122" y="7"/>
                </a:lnTo>
                <a:lnTo>
                  <a:pt x="128" y="5"/>
                </a:lnTo>
                <a:lnTo>
                  <a:pt x="135" y="4"/>
                </a:lnTo>
                <a:lnTo>
                  <a:pt x="140" y="3"/>
                </a:lnTo>
                <a:lnTo>
                  <a:pt x="146" y="3"/>
                </a:lnTo>
                <a:lnTo>
                  <a:pt x="151" y="2"/>
                </a:lnTo>
                <a:lnTo>
                  <a:pt x="156" y="2"/>
                </a:lnTo>
                <a:lnTo>
                  <a:pt x="162" y="2"/>
                </a:lnTo>
                <a:lnTo>
                  <a:pt x="168" y="0"/>
                </a:lnTo>
                <a:lnTo>
                  <a:pt x="173" y="0"/>
                </a:lnTo>
                <a:lnTo>
                  <a:pt x="178" y="0"/>
                </a:lnTo>
                <a:lnTo>
                  <a:pt x="183" y="0"/>
                </a:lnTo>
                <a:lnTo>
                  <a:pt x="188" y="2"/>
                </a:lnTo>
                <a:lnTo>
                  <a:pt x="193" y="2"/>
                </a:lnTo>
                <a:lnTo>
                  <a:pt x="198" y="2"/>
                </a:lnTo>
                <a:lnTo>
                  <a:pt x="203" y="3"/>
                </a:lnTo>
                <a:lnTo>
                  <a:pt x="208" y="3"/>
                </a:lnTo>
                <a:lnTo>
                  <a:pt x="213" y="4"/>
                </a:lnTo>
                <a:lnTo>
                  <a:pt x="217" y="5"/>
                </a:lnTo>
                <a:lnTo>
                  <a:pt x="222" y="5"/>
                </a:lnTo>
                <a:lnTo>
                  <a:pt x="227" y="7"/>
                </a:lnTo>
                <a:lnTo>
                  <a:pt x="231" y="8"/>
                </a:lnTo>
                <a:lnTo>
                  <a:pt x="236" y="9"/>
                </a:lnTo>
                <a:lnTo>
                  <a:pt x="241" y="10"/>
                </a:lnTo>
                <a:lnTo>
                  <a:pt x="245" y="12"/>
                </a:lnTo>
                <a:lnTo>
                  <a:pt x="250" y="13"/>
                </a:lnTo>
                <a:lnTo>
                  <a:pt x="254" y="14"/>
                </a:lnTo>
                <a:lnTo>
                  <a:pt x="257" y="15"/>
                </a:lnTo>
                <a:lnTo>
                  <a:pt x="262" y="18"/>
                </a:lnTo>
                <a:lnTo>
                  <a:pt x="262" y="18"/>
                </a:lnTo>
                <a:lnTo>
                  <a:pt x="268" y="19"/>
                </a:lnTo>
                <a:lnTo>
                  <a:pt x="273" y="22"/>
                </a:lnTo>
                <a:lnTo>
                  <a:pt x="278" y="23"/>
                </a:lnTo>
                <a:lnTo>
                  <a:pt x="284" y="26"/>
                </a:lnTo>
                <a:lnTo>
                  <a:pt x="288" y="28"/>
                </a:lnTo>
                <a:lnTo>
                  <a:pt x="293" y="31"/>
                </a:lnTo>
                <a:lnTo>
                  <a:pt x="297" y="32"/>
                </a:lnTo>
                <a:lnTo>
                  <a:pt x="302" y="34"/>
                </a:lnTo>
                <a:lnTo>
                  <a:pt x="306" y="37"/>
                </a:lnTo>
                <a:lnTo>
                  <a:pt x="311" y="39"/>
                </a:lnTo>
                <a:lnTo>
                  <a:pt x="316" y="42"/>
                </a:lnTo>
                <a:lnTo>
                  <a:pt x="323" y="46"/>
                </a:lnTo>
                <a:lnTo>
                  <a:pt x="327" y="50"/>
                </a:lnTo>
                <a:lnTo>
                  <a:pt x="331" y="51"/>
                </a:lnTo>
                <a:lnTo>
                  <a:pt x="335" y="53"/>
                </a:lnTo>
                <a:lnTo>
                  <a:pt x="338" y="56"/>
                </a:lnTo>
                <a:lnTo>
                  <a:pt x="342" y="58"/>
                </a:lnTo>
                <a:lnTo>
                  <a:pt x="345" y="60"/>
                </a:lnTo>
                <a:lnTo>
                  <a:pt x="349" y="64"/>
                </a:lnTo>
                <a:lnTo>
                  <a:pt x="349" y="65"/>
                </a:lnTo>
                <a:lnTo>
                  <a:pt x="345" y="67"/>
                </a:lnTo>
                <a:lnTo>
                  <a:pt x="342" y="70"/>
                </a:lnTo>
                <a:lnTo>
                  <a:pt x="338" y="72"/>
                </a:lnTo>
                <a:lnTo>
                  <a:pt x="335" y="75"/>
                </a:lnTo>
                <a:lnTo>
                  <a:pt x="331" y="77"/>
                </a:lnTo>
                <a:lnTo>
                  <a:pt x="327" y="79"/>
                </a:lnTo>
                <a:lnTo>
                  <a:pt x="323" y="81"/>
                </a:lnTo>
                <a:lnTo>
                  <a:pt x="316" y="86"/>
                </a:lnTo>
                <a:lnTo>
                  <a:pt x="311" y="89"/>
                </a:lnTo>
                <a:lnTo>
                  <a:pt x="306" y="91"/>
                </a:lnTo>
                <a:lnTo>
                  <a:pt x="302" y="94"/>
                </a:lnTo>
                <a:lnTo>
                  <a:pt x="297" y="96"/>
                </a:lnTo>
                <a:lnTo>
                  <a:pt x="293" y="98"/>
                </a:lnTo>
                <a:lnTo>
                  <a:pt x="288" y="100"/>
                </a:lnTo>
                <a:lnTo>
                  <a:pt x="284" y="103"/>
                </a:lnTo>
                <a:lnTo>
                  <a:pt x="278" y="105"/>
                </a:lnTo>
                <a:lnTo>
                  <a:pt x="273" y="107"/>
                </a:lnTo>
                <a:lnTo>
                  <a:pt x="268" y="109"/>
                </a:lnTo>
                <a:lnTo>
                  <a:pt x="262" y="110"/>
                </a:lnTo>
                <a:lnTo>
                  <a:pt x="262" y="110"/>
                </a:lnTo>
                <a:lnTo>
                  <a:pt x="257" y="113"/>
                </a:lnTo>
                <a:lnTo>
                  <a:pt x="254" y="114"/>
                </a:lnTo>
                <a:lnTo>
                  <a:pt x="250" y="115"/>
                </a:lnTo>
                <a:lnTo>
                  <a:pt x="245" y="117"/>
                </a:lnTo>
                <a:lnTo>
                  <a:pt x="241" y="118"/>
                </a:lnTo>
                <a:lnTo>
                  <a:pt x="236" y="119"/>
                </a:lnTo>
                <a:lnTo>
                  <a:pt x="231" y="121"/>
                </a:lnTo>
                <a:lnTo>
                  <a:pt x="227" y="122"/>
                </a:lnTo>
                <a:lnTo>
                  <a:pt x="222" y="123"/>
                </a:lnTo>
                <a:lnTo>
                  <a:pt x="217" y="123"/>
                </a:lnTo>
                <a:lnTo>
                  <a:pt x="213" y="124"/>
                </a:lnTo>
                <a:lnTo>
                  <a:pt x="208" y="126"/>
                </a:lnTo>
                <a:lnTo>
                  <a:pt x="203" y="126"/>
                </a:lnTo>
                <a:lnTo>
                  <a:pt x="198" y="127"/>
                </a:lnTo>
                <a:lnTo>
                  <a:pt x="193" y="127"/>
                </a:lnTo>
                <a:lnTo>
                  <a:pt x="188" y="127"/>
                </a:lnTo>
                <a:lnTo>
                  <a:pt x="183" y="127"/>
                </a:lnTo>
                <a:lnTo>
                  <a:pt x="178" y="128"/>
                </a:lnTo>
                <a:lnTo>
                  <a:pt x="173" y="128"/>
                </a:lnTo>
                <a:lnTo>
                  <a:pt x="168" y="128"/>
                </a:lnTo>
                <a:lnTo>
                  <a:pt x="162" y="127"/>
                </a:lnTo>
                <a:lnTo>
                  <a:pt x="156" y="127"/>
                </a:lnTo>
                <a:lnTo>
                  <a:pt x="151" y="127"/>
                </a:lnTo>
                <a:lnTo>
                  <a:pt x="146" y="126"/>
                </a:lnTo>
                <a:lnTo>
                  <a:pt x="140" y="124"/>
                </a:lnTo>
                <a:lnTo>
                  <a:pt x="135" y="124"/>
                </a:lnTo>
                <a:lnTo>
                  <a:pt x="128" y="123"/>
                </a:lnTo>
                <a:lnTo>
                  <a:pt x="122" y="122"/>
                </a:lnTo>
                <a:lnTo>
                  <a:pt x="117" y="121"/>
                </a:lnTo>
                <a:lnTo>
                  <a:pt x="111" y="118"/>
                </a:lnTo>
                <a:lnTo>
                  <a:pt x="104" y="117"/>
                </a:lnTo>
                <a:lnTo>
                  <a:pt x="98" y="114"/>
                </a:lnTo>
                <a:lnTo>
                  <a:pt x="92" y="113"/>
                </a:lnTo>
                <a:lnTo>
                  <a:pt x="85" y="110"/>
                </a:lnTo>
                <a:lnTo>
                  <a:pt x="79" y="108"/>
                </a:lnTo>
                <a:lnTo>
                  <a:pt x="73" y="105"/>
                </a:lnTo>
                <a:lnTo>
                  <a:pt x="66" y="103"/>
                </a:lnTo>
                <a:lnTo>
                  <a:pt x="65" y="102"/>
                </a:lnTo>
                <a:lnTo>
                  <a:pt x="62" y="100"/>
                </a:lnTo>
                <a:lnTo>
                  <a:pt x="61" y="100"/>
                </a:lnTo>
                <a:lnTo>
                  <a:pt x="61" y="100"/>
                </a:lnTo>
                <a:lnTo>
                  <a:pt x="60" y="99"/>
                </a:lnTo>
                <a:lnTo>
                  <a:pt x="57" y="98"/>
                </a:lnTo>
                <a:lnTo>
                  <a:pt x="52" y="96"/>
                </a:lnTo>
                <a:lnTo>
                  <a:pt x="42" y="91"/>
                </a:lnTo>
                <a:lnTo>
                  <a:pt x="30" y="84"/>
                </a:lnTo>
                <a:lnTo>
                  <a:pt x="23" y="80"/>
                </a:lnTo>
                <a:lnTo>
                  <a:pt x="13" y="72"/>
                </a:lnTo>
                <a:lnTo>
                  <a:pt x="0" y="64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70320" y="2914560"/>
            <a:ext cx="554040" cy="203400"/>
          </a:xfrm>
          <a:custGeom>
            <a:avLst/>
            <a:gdLst/>
            <a:ahLst/>
            <a:rect l="l" t="t" r="r" b="b"/>
            <a:pathLst>
              <a:path w="349" h="128">
                <a:moveTo>
                  <a:pt x="0" y="64"/>
                </a:moveTo>
                <a:lnTo>
                  <a:pt x="13" y="56"/>
                </a:lnTo>
                <a:lnTo>
                  <a:pt x="23" y="48"/>
                </a:lnTo>
                <a:lnTo>
                  <a:pt x="30" y="45"/>
                </a:lnTo>
                <a:lnTo>
                  <a:pt x="42" y="37"/>
                </a:lnTo>
                <a:lnTo>
                  <a:pt x="52" y="32"/>
                </a:lnTo>
                <a:lnTo>
                  <a:pt x="57" y="31"/>
                </a:lnTo>
                <a:lnTo>
                  <a:pt x="60" y="29"/>
                </a:lnTo>
                <a:lnTo>
                  <a:pt x="61" y="28"/>
                </a:lnTo>
                <a:lnTo>
                  <a:pt x="61" y="28"/>
                </a:lnTo>
                <a:lnTo>
                  <a:pt x="62" y="28"/>
                </a:lnTo>
                <a:lnTo>
                  <a:pt x="65" y="27"/>
                </a:lnTo>
                <a:lnTo>
                  <a:pt x="66" y="26"/>
                </a:lnTo>
                <a:lnTo>
                  <a:pt x="73" y="23"/>
                </a:lnTo>
                <a:lnTo>
                  <a:pt x="79" y="20"/>
                </a:lnTo>
                <a:lnTo>
                  <a:pt x="85" y="18"/>
                </a:lnTo>
                <a:lnTo>
                  <a:pt x="92" y="15"/>
                </a:lnTo>
                <a:lnTo>
                  <a:pt x="98" y="13"/>
                </a:lnTo>
                <a:lnTo>
                  <a:pt x="104" y="12"/>
                </a:lnTo>
                <a:lnTo>
                  <a:pt x="111" y="10"/>
                </a:lnTo>
                <a:lnTo>
                  <a:pt x="117" y="8"/>
                </a:lnTo>
                <a:lnTo>
                  <a:pt x="122" y="7"/>
                </a:lnTo>
                <a:lnTo>
                  <a:pt x="128" y="5"/>
                </a:lnTo>
                <a:lnTo>
                  <a:pt x="135" y="4"/>
                </a:lnTo>
                <a:lnTo>
                  <a:pt x="140" y="3"/>
                </a:lnTo>
                <a:lnTo>
                  <a:pt x="146" y="3"/>
                </a:lnTo>
                <a:lnTo>
                  <a:pt x="151" y="2"/>
                </a:lnTo>
                <a:lnTo>
                  <a:pt x="156" y="2"/>
                </a:lnTo>
                <a:lnTo>
                  <a:pt x="162" y="2"/>
                </a:lnTo>
                <a:lnTo>
                  <a:pt x="168" y="0"/>
                </a:lnTo>
                <a:lnTo>
                  <a:pt x="173" y="0"/>
                </a:lnTo>
                <a:lnTo>
                  <a:pt x="178" y="0"/>
                </a:lnTo>
                <a:lnTo>
                  <a:pt x="183" y="0"/>
                </a:lnTo>
                <a:lnTo>
                  <a:pt x="188" y="2"/>
                </a:lnTo>
                <a:lnTo>
                  <a:pt x="193" y="2"/>
                </a:lnTo>
                <a:lnTo>
                  <a:pt x="198" y="2"/>
                </a:lnTo>
                <a:lnTo>
                  <a:pt x="203" y="3"/>
                </a:lnTo>
                <a:lnTo>
                  <a:pt x="208" y="3"/>
                </a:lnTo>
                <a:lnTo>
                  <a:pt x="213" y="4"/>
                </a:lnTo>
                <a:lnTo>
                  <a:pt x="217" y="5"/>
                </a:lnTo>
                <a:lnTo>
                  <a:pt x="222" y="5"/>
                </a:lnTo>
                <a:lnTo>
                  <a:pt x="227" y="7"/>
                </a:lnTo>
                <a:lnTo>
                  <a:pt x="231" y="8"/>
                </a:lnTo>
                <a:lnTo>
                  <a:pt x="236" y="9"/>
                </a:lnTo>
                <a:lnTo>
                  <a:pt x="241" y="10"/>
                </a:lnTo>
                <a:lnTo>
                  <a:pt x="245" y="12"/>
                </a:lnTo>
                <a:lnTo>
                  <a:pt x="250" y="13"/>
                </a:lnTo>
                <a:lnTo>
                  <a:pt x="254" y="14"/>
                </a:lnTo>
                <a:lnTo>
                  <a:pt x="257" y="15"/>
                </a:lnTo>
                <a:lnTo>
                  <a:pt x="262" y="18"/>
                </a:lnTo>
                <a:lnTo>
                  <a:pt x="262" y="18"/>
                </a:lnTo>
                <a:lnTo>
                  <a:pt x="268" y="19"/>
                </a:lnTo>
                <a:lnTo>
                  <a:pt x="273" y="22"/>
                </a:lnTo>
                <a:lnTo>
                  <a:pt x="278" y="23"/>
                </a:lnTo>
                <a:lnTo>
                  <a:pt x="284" y="26"/>
                </a:lnTo>
                <a:lnTo>
                  <a:pt x="288" y="28"/>
                </a:lnTo>
                <a:lnTo>
                  <a:pt x="293" y="31"/>
                </a:lnTo>
                <a:lnTo>
                  <a:pt x="297" y="32"/>
                </a:lnTo>
                <a:lnTo>
                  <a:pt x="302" y="34"/>
                </a:lnTo>
                <a:lnTo>
                  <a:pt x="306" y="37"/>
                </a:lnTo>
                <a:lnTo>
                  <a:pt x="311" y="39"/>
                </a:lnTo>
                <a:lnTo>
                  <a:pt x="316" y="42"/>
                </a:lnTo>
                <a:lnTo>
                  <a:pt x="323" y="46"/>
                </a:lnTo>
                <a:lnTo>
                  <a:pt x="327" y="50"/>
                </a:lnTo>
                <a:lnTo>
                  <a:pt x="331" y="51"/>
                </a:lnTo>
                <a:lnTo>
                  <a:pt x="335" y="53"/>
                </a:lnTo>
                <a:lnTo>
                  <a:pt x="338" y="56"/>
                </a:lnTo>
                <a:lnTo>
                  <a:pt x="342" y="58"/>
                </a:lnTo>
                <a:lnTo>
                  <a:pt x="345" y="60"/>
                </a:lnTo>
                <a:lnTo>
                  <a:pt x="349" y="64"/>
                </a:lnTo>
                <a:lnTo>
                  <a:pt x="349" y="65"/>
                </a:lnTo>
                <a:lnTo>
                  <a:pt x="345" y="67"/>
                </a:lnTo>
                <a:lnTo>
                  <a:pt x="342" y="70"/>
                </a:lnTo>
                <a:lnTo>
                  <a:pt x="338" y="72"/>
                </a:lnTo>
                <a:lnTo>
                  <a:pt x="335" y="75"/>
                </a:lnTo>
                <a:lnTo>
                  <a:pt x="331" y="77"/>
                </a:lnTo>
                <a:lnTo>
                  <a:pt x="327" y="79"/>
                </a:lnTo>
                <a:lnTo>
                  <a:pt x="323" y="81"/>
                </a:lnTo>
                <a:lnTo>
                  <a:pt x="316" y="86"/>
                </a:lnTo>
                <a:lnTo>
                  <a:pt x="311" y="89"/>
                </a:lnTo>
                <a:lnTo>
                  <a:pt x="306" y="91"/>
                </a:lnTo>
                <a:lnTo>
                  <a:pt x="302" y="94"/>
                </a:lnTo>
                <a:lnTo>
                  <a:pt x="297" y="96"/>
                </a:lnTo>
                <a:lnTo>
                  <a:pt x="293" y="98"/>
                </a:lnTo>
                <a:lnTo>
                  <a:pt x="288" y="100"/>
                </a:lnTo>
                <a:lnTo>
                  <a:pt x="284" y="103"/>
                </a:lnTo>
                <a:lnTo>
                  <a:pt x="278" y="105"/>
                </a:lnTo>
                <a:lnTo>
                  <a:pt x="273" y="107"/>
                </a:lnTo>
                <a:lnTo>
                  <a:pt x="268" y="109"/>
                </a:lnTo>
                <a:lnTo>
                  <a:pt x="262" y="110"/>
                </a:lnTo>
                <a:lnTo>
                  <a:pt x="262" y="110"/>
                </a:lnTo>
                <a:lnTo>
                  <a:pt x="257" y="113"/>
                </a:lnTo>
                <a:lnTo>
                  <a:pt x="254" y="114"/>
                </a:lnTo>
                <a:lnTo>
                  <a:pt x="250" y="115"/>
                </a:lnTo>
                <a:lnTo>
                  <a:pt x="245" y="117"/>
                </a:lnTo>
                <a:lnTo>
                  <a:pt x="241" y="118"/>
                </a:lnTo>
                <a:lnTo>
                  <a:pt x="236" y="119"/>
                </a:lnTo>
                <a:lnTo>
                  <a:pt x="231" y="121"/>
                </a:lnTo>
                <a:lnTo>
                  <a:pt x="227" y="122"/>
                </a:lnTo>
                <a:lnTo>
                  <a:pt x="222" y="123"/>
                </a:lnTo>
                <a:lnTo>
                  <a:pt x="217" y="123"/>
                </a:lnTo>
                <a:lnTo>
                  <a:pt x="213" y="124"/>
                </a:lnTo>
                <a:lnTo>
                  <a:pt x="208" y="126"/>
                </a:lnTo>
                <a:lnTo>
                  <a:pt x="203" y="126"/>
                </a:lnTo>
                <a:lnTo>
                  <a:pt x="198" y="127"/>
                </a:lnTo>
                <a:lnTo>
                  <a:pt x="193" y="127"/>
                </a:lnTo>
                <a:lnTo>
                  <a:pt x="188" y="127"/>
                </a:lnTo>
                <a:lnTo>
                  <a:pt x="183" y="127"/>
                </a:lnTo>
                <a:lnTo>
                  <a:pt x="178" y="128"/>
                </a:lnTo>
                <a:lnTo>
                  <a:pt x="173" y="128"/>
                </a:lnTo>
                <a:lnTo>
                  <a:pt x="168" y="128"/>
                </a:lnTo>
                <a:lnTo>
                  <a:pt x="162" y="127"/>
                </a:lnTo>
                <a:lnTo>
                  <a:pt x="156" y="127"/>
                </a:lnTo>
                <a:lnTo>
                  <a:pt x="151" y="127"/>
                </a:lnTo>
                <a:lnTo>
                  <a:pt x="146" y="126"/>
                </a:lnTo>
                <a:lnTo>
                  <a:pt x="140" y="124"/>
                </a:lnTo>
                <a:lnTo>
                  <a:pt x="135" y="124"/>
                </a:lnTo>
                <a:lnTo>
                  <a:pt x="128" y="123"/>
                </a:lnTo>
                <a:lnTo>
                  <a:pt x="122" y="122"/>
                </a:lnTo>
                <a:lnTo>
                  <a:pt x="117" y="121"/>
                </a:lnTo>
                <a:lnTo>
                  <a:pt x="111" y="118"/>
                </a:lnTo>
                <a:lnTo>
                  <a:pt x="104" y="117"/>
                </a:lnTo>
                <a:lnTo>
                  <a:pt x="98" y="114"/>
                </a:lnTo>
                <a:lnTo>
                  <a:pt x="92" y="113"/>
                </a:lnTo>
                <a:lnTo>
                  <a:pt x="85" y="110"/>
                </a:lnTo>
                <a:lnTo>
                  <a:pt x="79" y="108"/>
                </a:lnTo>
                <a:lnTo>
                  <a:pt x="73" y="105"/>
                </a:lnTo>
                <a:lnTo>
                  <a:pt x="66" y="103"/>
                </a:lnTo>
                <a:lnTo>
                  <a:pt x="65" y="102"/>
                </a:lnTo>
                <a:lnTo>
                  <a:pt x="62" y="100"/>
                </a:lnTo>
                <a:lnTo>
                  <a:pt x="61" y="100"/>
                </a:lnTo>
                <a:lnTo>
                  <a:pt x="61" y="100"/>
                </a:lnTo>
                <a:lnTo>
                  <a:pt x="60" y="99"/>
                </a:lnTo>
                <a:lnTo>
                  <a:pt x="57" y="98"/>
                </a:lnTo>
                <a:lnTo>
                  <a:pt x="52" y="96"/>
                </a:lnTo>
                <a:lnTo>
                  <a:pt x="42" y="91"/>
                </a:lnTo>
                <a:lnTo>
                  <a:pt x="30" y="84"/>
                </a:lnTo>
                <a:lnTo>
                  <a:pt x="23" y="80"/>
                </a:lnTo>
                <a:lnTo>
                  <a:pt x="13" y="72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170320" y="3016080"/>
            <a:ext cx="1800" cy="180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170320" y="2914560"/>
            <a:ext cx="554040" cy="203400"/>
          </a:xfrm>
          <a:custGeom>
            <a:avLst/>
            <a:gdLst/>
            <a:ahLst/>
            <a:rect l="l" t="t" r="r" b="b"/>
            <a:pathLst>
              <a:path w="349" h="128">
                <a:moveTo>
                  <a:pt x="0" y="64"/>
                </a:moveTo>
                <a:lnTo>
                  <a:pt x="13" y="56"/>
                </a:lnTo>
                <a:lnTo>
                  <a:pt x="23" y="48"/>
                </a:lnTo>
                <a:lnTo>
                  <a:pt x="30" y="45"/>
                </a:lnTo>
                <a:lnTo>
                  <a:pt x="42" y="37"/>
                </a:lnTo>
                <a:lnTo>
                  <a:pt x="52" y="32"/>
                </a:lnTo>
                <a:lnTo>
                  <a:pt x="57" y="31"/>
                </a:lnTo>
                <a:lnTo>
                  <a:pt x="60" y="29"/>
                </a:lnTo>
                <a:lnTo>
                  <a:pt x="61" y="28"/>
                </a:lnTo>
                <a:lnTo>
                  <a:pt x="61" y="28"/>
                </a:lnTo>
                <a:lnTo>
                  <a:pt x="62" y="28"/>
                </a:lnTo>
                <a:lnTo>
                  <a:pt x="65" y="27"/>
                </a:lnTo>
                <a:lnTo>
                  <a:pt x="66" y="26"/>
                </a:lnTo>
                <a:lnTo>
                  <a:pt x="73" y="23"/>
                </a:lnTo>
                <a:lnTo>
                  <a:pt x="79" y="20"/>
                </a:lnTo>
                <a:lnTo>
                  <a:pt x="85" y="18"/>
                </a:lnTo>
                <a:lnTo>
                  <a:pt x="92" y="15"/>
                </a:lnTo>
                <a:lnTo>
                  <a:pt x="98" y="13"/>
                </a:lnTo>
                <a:lnTo>
                  <a:pt x="104" y="12"/>
                </a:lnTo>
                <a:lnTo>
                  <a:pt x="111" y="10"/>
                </a:lnTo>
                <a:lnTo>
                  <a:pt x="117" y="8"/>
                </a:lnTo>
                <a:lnTo>
                  <a:pt x="122" y="7"/>
                </a:lnTo>
                <a:lnTo>
                  <a:pt x="128" y="5"/>
                </a:lnTo>
                <a:lnTo>
                  <a:pt x="135" y="4"/>
                </a:lnTo>
                <a:lnTo>
                  <a:pt x="140" y="3"/>
                </a:lnTo>
                <a:lnTo>
                  <a:pt x="146" y="3"/>
                </a:lnTo>
                <a:lnTo>
                  <a:pt x="151" y="2"/>
                </a:lnTo>
                <a:lnTo>
                  <a:pt x="156" y="2"/>
                </a:lnTo>
                <a:lnTo>
                  <a:pt x="162" y="2"/>
                </a:lnTo>
                <a:lnTo>
                  <a:pt x="168" y="0"/>
                </a:lnTo>
                <a:lnTo>
                  <a:pt x="173" y="0"/>
                </a:lnTo>
                <a:lnTo>
                  <a:pt x="178" y="0"/>
                </a:lnTo>
                <a:lnTo>
                  <a:pt x="183" y="0"/>
                </a:lnTo>
                <a:lnTo>
                  <a:pt x="188" y="2"/>
                </a:lnTo>
                <a:lnTo>
                  <a:pt x="193" y="2"/>
                </a:lnTo>
                <a:lnTo>
                  <a:pt x="198" y="2"/>
                </a:lnTo>
                <a:lnTo>
                  <a:pt x="203" y="3"/>
                </a:lnTo>
                <a:lnTo>
                  <a:pt x="208" y="3"/>
                </a:lnTo>
                <a:lnTo>
                  <a:pt x="213" y="4"/>
                </a:lnTo>
                <a:lnTo>
                  <a:pt x="217" y="5"/>
                </a:lnTo>
                <a:lnTo>
                  <a:pt x="222" y="5"/>
                </a:lnTo>
                <a:lnTo>
                  <a:pt x="227" y="7"/>
                </a:lnTo>
                <a:lnTo>
                  <a:pt x="231" y="8"/>
                </a:lnTo>
                <a:lnTo>
                  <a:pt x="236" y="9"/>
                </a:lnTo>
                <a:lnTo>
                  <a:pt x="241" y="10"/>
                </a:lnTo>
                <a:lnTo>
                  <a:pt x="245" y="12"/>
                </a:lnTo>
                <a:lnTo>
                  <a:pt x="250" y="13"/>
                </a:lnTo>
                <a:lnTo>
                  <a:pt x="254" y="14"/>
                </a:lnTo>
                <a:lnTo>
                  <a:pt x="257" y="15"/>
                </a:lnTo>
                <a:lnTo>
                  <a:pt x="262" y="18"/>
                </a:lnTo>
                <a:lnTo>
                  <a:pt x="262" y="18"/>
                </a:lnTo>
                <a:lnTo>
                  <a:pt x="268" y="19"/>
                </a:lnTo>
                <a:lnTo>
                  <a:pt x="273" y="22"/>
                </a:lnTo>
                <a:lnTo>
                  <a:pt x="278" y="23"/>
                </a:lnTo>
                <a:lnTo>
                  <a:pt x="284" y="26"/>
                </a:lnTo>
                <a:lnTo>
                  <a:pt x="288" y="28"/>
                </a:lnTo>
                <a:lnTo>
                  <a:pt x="293" y="31"/>
                </a:lnTo>
                <a:lnTo>
                  <a:pt x="297" y="32"/>
                </a:lnTo>
                <a:lnTo>
                  <a:pt x="302" y="34"/>
                </a:lnTo>
                <a:lnTo>
                  <a:pt x="306" y="37"/>
                </a:lnTo>
                <a:lnTo>
                  <a:pt x="311" y="39"/>
                </a:lnTo>
                <a:lnTo>
                  <a:pt x="316" y="42"/>
                </a:lnTo>
                <a:lnTo>
                  <a:pt x="323" y="46"/>
                </a:lnTo>
                <a:lnTo>
                  <a:pt x="327" y="50"/>
                </a:lnTo>
                <a:lnTo>
                  <a:pt x="331" y="51"/>
                </a:lnTo>
                <a:lnTo>
                  <a:pt x="335" y="53"/>
                </a:lnTo>
                <a:lnTo>
                  <a:pt x="338" y="56"/>
                </a:lnTo>
                <a:lnTo>
                  <a:pt x="342" y="58"/>
                </a:lnTo>
                <a:lnTo>
                  <a:pt x="345" y="60"/>
                </a:lnTo>
                <a:lnTo>
                  <a:pt x="349" y="64"/>
                </a:lnTo>
                <a:lnTo>
                  <a:pt x="349" y="65"/>
                </a:lnTo>
                <a:lnTo>
                  <a:pt x="345" y="67"/>
                </a:lnTo>
                <a:lnTo>
                  <a:pt x="342" y="70"/>
                </a:lnTo>
                <a:lnTo>
                  <a:pt x="338" y="72"/>
                </a:lnTo>
                <a:lnTo>
                  <a:pt x="335" y="75"/>
                </a:lnTo>
                <a:lnTo>
                  <a:pt x="331" y="77"/>
                </a:lnTo>
                <a:lnTo>
                  <a:pt x="327" y="79"/>
                </a:lnTo>
                <a:lnTo>
                  <a:pt x="323" y="81"/>
                </a:lnTo>
                <a:lnTo>
                  <a:pt x="316" y="86"/>
                </a:lnTo>
                <a:lnTo>
                  <a:pt x="311" y="89"/>
                </a:lnTo>
                <a:lnTo>
                  <a:pt x="306" y="91"/>
                </a:lnTo>
                <a:lnTo>
                  <a:pt x="302" y="94"/>
                </a:lnTo>
                <a:lnTo>
                  <a:pt x="297" y="96"/>
                </a:lnTo>
                <a:lnTo>
                  <a:pt x="293" y="98"/>
                </a:lnTo>
                <a:lnTo>
                  <a:pt x="288" y="100"/>
                </a:lnTo>
                <a:lnTo>
                  <a:pt x="284" y="103"/>
                </a:lnTo>
                <a:lnTo>
                  <a:pt x="278" y="105"/>
                </a:lnTo>
                <a:lnTo>
                  <a:pt x="273" y="107"/>
                </a:lnTo>
                <a:lnTo>
                  <a:pt x="268" y="109"/>
                </a:lnTo>
                <a:lnTo>
                  <a:pt x="262" y="110"/>
                </a:lnTo>
                <a:lnTo>
                  <a:pt x="262" y="110"/>
                </a:lnTo>
                <a:lnTo>
                  <a:pt x="257" y="113"/>
                </a:lnTo>
                <a:lnTo>
                  <a:pt x="254" y="114"/>
                </a:lnTo>
                <a:lnTo>
                  <a:pt x="250" y="115"/>
                </a:lnTo>
                <a:lnTo>
                  <a:pt x="245" y="117"/>
                </a:lnTo>
                <a:lnTo>
                  <a:pt x="241" y="118"/>
                </a:lnTo>
                <a:lnTo>
                  <a:pt x="236" y="119"/>
                </a:lnTo>
                <a:lnTo>
                  <a:pt x="231" y="121"/>
                </a:lnTo>
                <a:lnTo>
                  <a:pt x="227" y="122"/>
                </a:lnTo>
                <a:lnTo>
                  <a:pt x="222" y="123"/>
                </a:lnTo>
                <a:lnTo>
                  <a:pt x="217" y="123"/>
                </a:lnTo>
                <a:lnTo>
                  <a:pt x="213" y="124"/>
                </a:lnTo>
                <a:lnTo>
                  <a:pt x="208" y="126"/>
                </a:lnTo>
                <a:lnTo>
                  <a:pt x="203" y="126"/>
                </a:lnTo>
                <a:lnTo>
                  <a:pt x="198" y="127"/>
                </a:lnTo>
                <a:lnTo>
                  <a:pt x="193" y="127"/>
                </a:lnTo>
                <a:lnTo>
                  <a:pt x="188" y="127"/>
                </a:lnTo>
                <a:lnTo>
                  <a:pt x="183" y="127"/>
                </a:lnTo>
                <a:lnTo>
                  <a:pt x="178" y="128"/>
                </a:lnTo>
                <a:lnTo>
                  <a:pt x="173" y="128"/>
                </a:lnTo>
                <a:lnTo>
                  <a:pt x="168" y="128"/>
                </a:lnTo>
                <a:lnTo>
                  <a:pt x="162" y="127"/>
                </a:lnTo>
                <a:lnTo>
                  <a:pt x="156" y="127"/>
                </a:lnTo>
                <a:lnTo>
                  <a:pt x="151" y="127"/>
                </a:lnTo>
                <a:lnTo>
                  <a:pt x="146" y="126"/>
                </a:lnTo>
                <a:lnTo>
                  <a:pt x="140" y="124"/>
                </a:lnTo>
                <a:lnTo>
                  <a:pt x="135" y="124"/>
                </a:lnTo>
                <a:lnTo>
                  <a:pt x="128" y="123"/>
                </a:lnTo>
                <a:lnTo>
                  <a:pt x="122" y="122"/>
                </a:lnTo>
                <a:lnTo>
                  <a:pt x="117" y="121"/>
                </a:lnTo>
                <a:lnTo>
                  <a:pt x="111" y="118"/>
                </a:lnTo>
                <a:lnTo>
                  <a:pt x="104" y="117"/>
                </a:lnTo>
                <a:lnTo>
                  <a:pt x="98" y="114"/>
                </a:lnTo>
                <a:lnTo>
                  <a:pt x="92" y="113"/>
                </a:lnTo>
                <a:lnTo>
                  <a:pt x="85" y="110"/>
                </a:lnTo>
                <a:lnTo>
                  <a:pt x="79" y="108"/>
                </a:lnTo>
                <a:lnTo>
                  <a:pt x="73" y="105"/>
                </a:lnTo>
                <a:lnTo>
                  <a:pt x="66" y="103"/>
                </a:lnTo>
                <a:lnTo>
                  <a:pt x="65" y="102"/>
                </a:lnTo>
                <a:lnTo>
                  <a:pt x="62" y="100"/>
                </a:lnTo>
                <a:lnTo>
                  <a:pt x="61" y="100"/>
                </a:lnTo>
                <a:lnTo>
                  <a:pt x="61" y="100"/>
                </a:lnTo>
                <a:lnTo>
                  <a:pt x="60" y="99"/>
                </a:lnTo>
                <a:lnTo>
                  <a:pt x="57" y="98"/>
                </a:lnTo>
                <a:lnTo>
                  <a:pt x="52" y="96"/>
                </a:lnTo>
                <a:lnTo>
                  <a:pt x="42" y="91"/>
                </a:lnTo>
                <a:lnTo>
                  <a:pt x="30" y="84"/>
                </a:lnTo>
                <a:lnTo>
                  <a:pt x="23" y="80"/>
                </a:lnTo>
                <a:lnTo>
                  <a:pt x="13" y="72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672160" y="2973240"/>
            <a:ext cx="8424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402160" y="2973240"/>
            <a:ext cx="8424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407200" y="2978280"/>
            <a:ext cx="745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927680" y="3303720"/>
            <a:ext cx="1440" cy="396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927680" y="322272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927680" y="3141720"/>
            <a:ext cx="1440" cy="4104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335480" y="3133800"/>
            <a:ext cx="665280" cy="201600"/>
          </a:xfrm>
          <a:custGeom>
            <a:avLst/>
            <a:gdLst/>
            <a:ahLst/>
            <a:rect l="l" t="t" r="r" b="b"/>
            <a:pathLst>
              <a:path w="419" h="127">
                <a:moveTo>
                  <a:pt x="0" y="64"/>
                </a:moveTo>
                <a:lnTo>
                  <a:pt x="26" y="50"/>
                </a:lnTo>
                <a:lnTo>
                  <a:pt x="52" y="37"/>
                </a:lnTo>
                <a:lnTo>
                  <a:pt x="63" y="32"/>
                </a:lnTo>
                <a:lnTo>
                  <a:pt x="83" y="23"/>
                </a:lnTo>
                <a:lnTo>
                  <a:pt x="102" y="17"/>
                </a:lnTo>
                <a:lnTo>
                  <a:pt x="120" y="12"/>
                </a:lnTo>
                <a:lnTo>
                  <a:pt x="138" y="7"/>
                </a:lnTo>
                <a:lnTo>
                  <a:pt x="154" y="4"/>
                </a:lnTo>
                <a:lnTo>
                  <a:pt x="172" y="1"/>
                </a:lnTo>
                <a:lnTo>
                  <a:pt x="188" y="0"/>
                </a:lnTo>
                <a:lnTo>
                  <a:pt x="205" y="0"/>
                </a:lnTo>
                <a:lnTo>
                  <a:pt x="205" y="0"/>
                </a:lnTo>
                <a:lnTo>
                  <a:pt x="219" y="0"/>
                </a:lnTo>
                <a:lnTo>
                  <a:pt x="233" y="0"/>
                </a:lnTo>
                <a:lnTo>
                  <a:pt x="245" y="1"/>
                </a:lnTo>
                <a:lnTo>
                  <a:pt x="258" y="4"/>
                </a:lnTo>
                <a:lnTo>
                  <a:pt x="269" y="5"/>
                </a:lnTo>
                <a:lnTo>
                  <a:pt x="281" y="8"/>
                </a:lnTo>
                <a:lnTo>
                  <a:pt x="291" y="10"/>
                </a:lnTo>
                <a:lnTo>
                  <a:pt x="301" y="13"/>
                </a:lnTo>
                <a:lnTo>
                  <a:pt x="311" y="15"/>
                </a:lnTo>
                <a:lnTo>
                  <a:pt x="323" y="19"/>
                </a:lnTo>
                <a:lnTo>
                  <a:pt x="334" y="23"/>
                </a:lnTo>
                <a:lnTo>
                  <a:pt x="344" y="27"/>
                </a:lnTo>
                <a:lnTo>
                  <a:pt x="356" y="31"/>
                </a:lnTo>
                <a:lnTo>
                  <a:pt x="366" y="36"/>
                </a:lnTo>
                <a:lnTo>
                  <a:pt x="373" y="39"/>
                </a:lnTo>
                <a:lnTo>
                  <a:pt x="382" y="43"/>
                </a:lnTo>
                <a:lnTo>
                  <a:pt x="391" y="47"/>
                </a:lnTo>
                <a:lnTo>
                  <a:pt x="399" y="52"/>
                </a:lnTo>
                <a:lnTo>
                  <a:pt x="406" y="56"/>
                </a:lnTo>
                <a:lnTo>
                  <a:pt x="414" y="61"/>
                </a:lnTo>
                <a:lnTo>
                  <a:pt x="419" y="64"/>
                </a:lnTo>
                <a:lnTo>
                  <a:pt x="419" y="64"/>
                </a:lnTo>
                <a:lnTo>
                  <a:pt x="414" y="66"/>
                </a:lnTo>
                <a:lnTo>
                  <a:pt x="406" y="70"/>
                </a:lnTo>
                <a:lnTo>
                  <a:pt x="399" y="75"/>
                </a:lnTo>
                <a:lnTo>
                  <a:pt x="391" y="79"/>
                </a:lnTo>
                <a:lnTo>
                  <a:pt x="382" y="83"/>
                </a:lnTo>
                <a:lnTo>
                  <a:pt x="373" y="88"/>
                </a:lnTo>
                <a:lnTo>
                  <a:pt x="366" y="91"/>
                </a:lnTo>
                <a:lnTo>
                  <a:pt x="356" y="95"/>
                </a:lnTo>
                <a:lnTo>
                  <a:pt x="344" y="100"/>
                </a:lnTo>
                <a:lnTo>
                  <a:pt x="334" y="104"/>
                </a:lnTo>
                <a:lnTo>
                  <a:pt x="323" y="108"/>
                </a:lnTo>
                <a:lnTo>
                  <a:pt x="311" y="110"/>
                </a:lnTo>
                <a:lnTo>
                  <a:pt x="301" y="114"/>
                </a:lnTo>
                <a:lnTo>
                  <a:pt x="291" y="117"/>
                </a:lnTo>
                <a:lnTo>
                  <a:pt x="281" y="119"/>
                </a:lnTo>
                <a:lnTo>
                  <a:pt x="269" y="120"/>
                </a:lnTo>
                <a:lnTo>
                  <a:pt x="258" y="123"/>
                </a:lnTo>
                <a:lnTo>
                  <a:pt x="245" y="124"/>
                </a:lnTo>
                <a:lnTo>
                  <a:pt x="233" y="126"/>
                </a:lnTo>
                <a:lnTo>
                  <a:pt x="219" y="127"/>
                </a:lnTo>
                <a:lnTo>
                  <a:pt x="205" y="127"/>
                </a:lnTo>
                <a:lnTo>
                  <a:pt x="205" y="127"/>
                </a:lnTo>
                <a:lnTo>
                  <a:pt x="188" y="126"/>
                </a:lnTo>
                <a:lnTo>
                  <a:pt x="172" y="124"/>
                </a:lnTo>
                <a:lnTo>
                  <a:pt x="154" y="122"/>
                </a:lnTo>
                <a:lnTo>
                  <a:pt x="138" y="119"/>
                </a:lnTo>
                <a:lnTo>
                  <a:pt x="120" y="115"/>
                </a:lnTo>
                <a:lnTo>
                  <a:pt x="102" y="110"/>
                </a:lnTo>
                <a:lnTo>
                  <a:pt x="83" y="104"/>
                </a:lnTo>
                <a:lnTo>
                  <a:pt x="63" y="95"/>
                </a:lnTo>
                <a:lnTo>
                  <a:pt x="52" y="90"/>
                </a:lnTo>
                <a:lnTo>
                  <a:pt x="26" y="77"/>
                </a:lnTo>
                <a:lnTo>
                  <a:pt x="0" y="64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335480" y="3133800"/>
            <a:ext cx="665280" cy="201600"/>
          </a:xfrm>
          <a:custGeom>
            <a:avLst/>
            <a:gdLst/>
            <a:ahLst/>
            <a:rect l="l" t="t" r="r" b="b"/>
            <a:pathLst>
              <a:path w="419" h="127">
                <a:moveTo>
                  <a:pt x="0" y="64"/>
                </a:moveTo>
                <a:lnTo>
                  <a:pt x="26" y="50"/>
                </a:lnTo>
                <a:lnTo>
                  <a:pt x="52" y="37"/>
                </a:lnTo>
                <a:lnTo>
                  <a:pt x="63" y="32"/>
                </a:lnTo>
                <a:lnTo>
                  <a:pt x="83" y="23"/>
                </a:lnTo>
                <a:lnTo>
                  <a:pt x="102" y="17"/>
                </a:lnTo>
                <a:lnTo>
                  <a:pt x="120" y="12"/>
                </a:lnTo>
                <a:lnTo>
                  <a:pt x="138" y="7"/>
                </a:lnTo>
                <a:lnTo>
                  <a:pt x="154" y="4"/>
                </a:lnTo>
                <a:lnTo>
                  <a:pt x="172" y="1"/>
                </a:lnTo>
                <a:lnTo>
                  <a:pt x="188" y="0"/>
                </a:lnTo>
                <a:lnTo>
                  <a:pt x="205" y="0"/>
                </a:lnTo>
                <a:lnTo>
                  <a:pt x="205" y="0"/>
                </a:lnTo>
                <a:lnTo>
                  <a:pt x="219" y="0"/>
                </a:lnTo>
                <a:lnTo>
                  <a:pt x="233" y="0"/>
                </a:lnTo>
                <a:lnTo>
                  <a:pt x="245" y="1"/>
                </a:lnTo>
                <a:lnTo>
                  <a:pt x="258" y="4"/>
                </a:lnTo>
                <a:lnTo>
                  <a:pt x="269" y="5"/>
                </a:lnTo>
                <a:lnTo>
                  <a:pt x="281" y="8"/>
                </a:lnTo>
                <a:lnTo>
                  <a:pt x="291" y="10"/>
                </a:lnTo>
                <a:lnTo>
                  <a:pt x="301" y="13"/>
                </a:lnTo>
                <a:lnTo>
                  <a:pt x="311" y="15"/>
                </a:lnTo>
                <a:lnTo>
                  <a:pt x="323" y="19"/>
                </a:lnTo>
                <a:lnTo>
                  <a:pt x="334" y="23"/>
                </a:lnTo>
                <a:lnTo>
                  <a:pt x="344" y="27"/>
                </a:lnTo>
                <a:lnTo>
                  <a:pt x="356" y="31"/>
                </a:lnTo>
                <a:lnTo>
                  <a:pt x="366" y="36"/>
                </a:lnTo>
                <a:lnTo>
                  <a:pt x="373" y="39"/>
                </a:lnTo>
                <a:lnTo>
                  <a:pt x="382" y="43"/>
                </a:lnTo>
                <a:lnTo>
                  <a:pt x="391" y="47"/>
                </a:lnTo>
                <a:lnTo>
                  <a:pt x="399" y="52"/>
                </a:lnTo>
                <a:lnTo>
                  <a:pt x="406" y="56"/>
                </a:lnTo>
                <a:lnTo>
                  <a:pt x="414" y="61"/>
                </a:lnTo>
                <a:lnTo>
                  <a:pt x="419" y="64"/>
                </a:lnTo>
                <a:lnTo>
                  <a:pt x="419" y="64"/>
                </a:lnTo>
                <a:lnTo>
                  <a:pt x="414" y="66"/>
                </a:lnTo>
                <a:lnTo>
                  <a:pt x="406" y="70"/>
                </a:lnTo>
                <a:lnTo>
                  <a:pt x="399" y="75"/>
                </a:lnTo>
                <a:lnTo>
                  <a:pt x="391" y="79"/>
                </a:lnTo>
                <a:lnTo>
                  <a:pt x="382" y="83"/>
                </a:lnTo>
                <a:lnTo>
                  <a:pt x="373" y="88"/>
                </a:lnTo>
                <a:lnTo>
                  <a:pt x="366" y="91"/>
                </a:lnTo>
                <a:lnTo>
                  <a:pt x="356" y="95"/>
                </a:lnTo>
                <a:lnTo>
                  <a:pt x="344" y="100"/>
                </a:lnTo>
                <a:lnTo>
                  <a:pt x="334" y="104"/>
                </a:lnTo>
                <a:lnTo>
                  <a:pt x="323" y="108"/>
                </a:lnTo>
                <a:lnTo>
                  <a:pt x="311" y="110"/>
                </a:lnTo>
                <a:lnTo>
                  <a:pt x="301" y="114"/>
                </a:lnTo>
                <a:lnTo>
                  <a:pt x="291" y="117"/>
                </a:lnTo>
                <a:lnTo>
                  <a:pt x="281" y="119"/>
                </a:lnTo>
                <a:lnTo>
                  <a:pt x="269" y="120"/>
                </a:lnTo>
                <a:lnTo>
                  <a:pt x="258" y="123"/>
                </a:lnTo>
                <a:lnTo>
                  <a:pt x="245" y="124"/>
                </a:lnTo>
                <a:lnTo>
                  <a:pt x="233" y="126"/>
                </a:lnTo>
                <a:lnTo>
                  <a:pt x="219" y="127"/>
                </a:lnTo>
                <a:lnTo>
                  <a:pt x="205" y="127"/>
                </a:lnTo>
                <a:lnTo>
                  <a:pt x="205" y="127"/>
                </a:lnTo>
                <a:lnTo>
                  <a:pt x="188" y="126"/>
                </a:lnTo>
                <a:lnTo>
                  <a:pt x="172" y="124"/>
                </a:lnTo>
                <a:lnTo>
                  <a:pt x="154" y="122"/>
                </a:lnTo>
                <a:lnTo>
                  <a:pt x="138" y="119"/>
                </a:lnTo>
                <a:lnTo>
                  <a:pt x="120" y="115"/>
                </a:lnTo>
                <a:lnTo>
                  <a:pt x="102" y="110"/>
                </a:lnTo>
                <a:lnTo>
                  <a:pt x="83" y="104"/>
                </a:lnTo>
                <a:lnTo>
                  <a:pt x="63" y="95"/>
                </a:lnTo>
                <a:lnTo>
                  <a:pt x="52" y="90"/>
                </a:lnTo>
                <a:lnTo>
                  <a:pt x="26" y="77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335480" y="3235320"/>
            <a:ext cx="144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335480" y="3133800"/>
            <a:ext cx="665280" cy="201600"/>
          </a:xfrm>
          <a:custGeom>
            <a:avLst/>
            <a:gdLst/>
            <a:ahLst/>
            <a:rect l="l" t="t" r="r" b="b"/>
            <a:pathLst>
              <a:path w="419" h="127">
                <a:moveTo>
                  <a:pt x="0" y="64"/>
                </a:moveTo>
                <a:lnTo>
                  <a:pt x="26" y="50"/>
                </a:lnTo>
                <a:lnTo>
                  <a:pt x="52" y="37"/>
                </a:lnTo>
                <a:lnTo>
                  <a:pt x="63" y="32"/>
                </a:lnTo>
                <a:lnTo>
                  <a:pt x="83" y="23"/>
                </a:lnTo>
                <a:lnTo>
                  <a:pt x="102" y="17"/>
                </a:lnTo>
                <a:lnTo>
                  <a:pt x="120" y="12"/>
                </a:lnTo>
                <a:lnTo>
                  <a:pt x="138" y="7"/>
                </a:lnTo>
                <a:lnTo>
                  <a:pt x="154" y="4"/>
                </a:lnTo>
                <a:lnTo>
                  <a:pt x="172" y="1"/>
                </a:lnTo>
                <a:lnTo>
                  <a:pt x="188" y="0"/>
                </a:lnTo>
                <a:lnTo>
                  <a:pt x="205" y="0"/>
                </a:lnTo>
                <a:lnTo>
                  <a:pt x="205" y="0"/>
                </a:lnTo>
                <a:lnTo>
                  <a:pt x="219" y="0"/>
                </a:lnTo>
                <a:lnTo>
                  <a:pt x="233" y="0"/>
                </a:lnTo>
                <a:lnTo>
                  <a:pt x="245" y="1"/>
                </a:lnTo>
                <a:lnTo>
                  <a:pt x="258" y="4"/>
                </a:lnTo>
                <a:lnTo>
                  <a:pt x="269" y="5"/>
                </a:lnTo>
                <a:lnTo>
                  <a:pt x="281" y="8"/>
                </a:lnTo>
                <a:lnTo>
                  <a:pt x="291" y="10"/>
                </a:lnTo>
                <a:lnTo>
                  <a:pt x="301" y="13"/>
                </a:lnTo>
                <a:lnTo>
                  <a:pt x="311" y="15"/>
                </a:lnTo>
                <a:lnTo>
                  <a:pt x="323" y="19"/>
                </a:lnTo>
                <a:lnTo>
                  <a:pt x="334" y="23"/>
                </a:lnTo>
                <a:lnTo>
                  <a:pt x="344" y="27"/>
                </a:lnTo>
                <a:lnTo>
                  <a:pt x="356" y="31"/>
                </a:lnTo>
                <a:lnTo>
                  <a:pt x="366" y="36"/>
                </a:lnTo>
                <a:lnTo>
                  <a:pt x="373" y="39"/>
                </a:lnTo>
                <a:lnTo>
                  <a:pt x="382" y="43"/>
                </a:lnTo>
                <a:lnTo>
                  <a:pt x="391" y="47"/>
                </a:lnTo>
                <a:lnTo>
                  <a:pt x="399" y="52"/>
                </a:lnTo>
                <a:lnTo>
                  <a:pt x="406" y="56"/>
                </a:lnTo>
                <a:lnTo>
                  <a:pt x="414" y="61"/>
                </a:lnTo>
                <a:lnTo>
                  <a:pt x="419" y="64"/>
                </a:lnTo>
                <a:lnTo>
                  <a:pt x="419" y="64"/>
                </a:lnTo>
                <a:lnTo>
                  <a:pt x="414" y="66"/>
                </a:lnTo>
                <a:lnTo>
                  <a:pt x="406" y="70"/>
                </a:lnTo>
                <a:lnTo>
                  <a:pt x="399" y="75"/>
                </a:lnTo>
                <a:lnTo>
                  <a:pt x="391" y="79"/>
                </a:lnTo>
                <a:lnTo>
                  <a:pt x="382" y="83"/>
                </a:lnTo>
                <a:lnTo>
                  <a:pt x="373" y="88"/>
                </a:lnTo>
                <a:lnTo>
                  <a:pt x="366" y="91"/>
                </a:lnTo>
                <a:lnTo>
                  <a:pt x="356" y="95"/>
                </a:lnTo>
                <a:lnTo>
                  <a:pt x="344" y="100"/>
                </a:lnTo>
                <a:lnTo>
                  <a:pt x="334" y="104"/>
                </a:lnTo>
                <a:lnTo>
                  <a:pt x="323" y="108"/>
                </a:lnTo>
                <a:lnTo>
                  <a:pt x="311" y="110"/>
                </a:lnTo>
                <a:lnTo>
                  <a:pt x="301" y="114"/>
                </a:lnTo>
                <a:lnTo>
                  <a:pt x="291" y="117"/>
                </a:lnTo>
                <a:lnTo>
                  <a:pt x="281" y="119"/>
                </a:lnTo>
                <a:lnTo>
                  <a:pt x="269" y="120"/>
                </a:lnTo>
                <a:lnTo>
                  <a:pt x="258" y="123"/>
                </a:lnTo>
                <a:lnTo>
                  <a:pt x="245" y="124"/>
                </a:lnTo>
                <a:lnTo>
                  <a:pt x="233" y="126"/>
                </a:lnTo>
                <a:lnTo>
                  <a:pt x="219" y="127"/>
                </a:lnTo>
                <a:lnTo>
                  <a:pt x="205" y="127"/>
                </a:lnTo>
                <a:lnTo>
                  <a:pt x="205" y="127"/>
                </a:lnTo>
                <a:lnTo>
                  <a:pt x="188" y="126"/>
                </a:lnTo>
                <a:lnTo>
                  <a:pt x="172" y="124"/>
                </a:lnTo>
                <a:lnTo>
                  <a:pt x="154" y="122"/>
                </a:lnTo>
                <a:lnTo>
                  <a:pt x="138" y="119"/>
                </a:lnTo>
                <a:lnTo>
                  <a:pt x="120" y="115"/>
                </a:lnTo>
                <a:lnTo>
                  <a:pt x="102" y="110"/>
                </a:lnTo>
                <a:lnTo>
                  <a:pt x="83" y="104"/>
                </a:lnTo>
                <a:lnTo>
                  <a:pt x="63" y="95"/>
                </a:lnTo>
                <a:lnTo>
                  <a:pt x="52" y="90"/>
                </a:lnTo>
                <a:lnTo>
                  <a:pt x="26" y="77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91080" y="3192480"/>
            <a:ext cx="8424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618080" y="3192480"/>
            <a:ext cx="8424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622760" y="3197160"/>
            <a:ext cx="745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927680" y="3519000"/>
            <a:ext cx="144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927680" y="344016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927680" y="335916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903840" y="3351240"/>
            <a:ext cx="1334880" cy="201600"/>
          </a:xfrm>
          <a:custGeom>
            <a:avLst/>
            <a:gdLst/>
            <a:ahLst/>
            <a:rect l="l" t="t" r="r" b="b"/>
            <a:pathLst>
              <a:path w="841" h="127">
                <a:moveTo>
                  <a:pt x="0" y="63"/>
                </a:moveTo>
                <a:lnTo>
                  <a:pt x="17" y="58"/>
                </a:lnTo>
                <a:lnTo>
                  <a:pt x="105" y="34"/>
                </a:lnTo>
                <a:lnTo>
                  <a:pt x="150" y="24"/>
                </a:lnTo>
                <a:lnTo>
                  <a:pt x="208" y="14"/>
                </a:lnTo>
                <a:lnTo>
                  <a:pt x="263" y="8"/>
                </a:lnTo>
                <a:lnTo>
                  <a:pt x="312" y="4"/>
                </a:lnTo>
                <a:lnTo>
                  <a:pt x="349" y="1"/>
                </a:lnTo>
                <a:lnTo>
                  <a:pt x="384" y="0"/>
                </a:lnTo>
                <a:lnTo>
                  <a:pt x="416" y="0"/>
                </a:lnTo>
                <a:lnTo>
                  <a:pt x="416" y="0"/>
                </a:lnTo>
                <a:lnTo>
                  <a:pt x="446" y="0"/>
                </a:lnTo>
                <a:lnTo>
                  <a:pt x="476" y="1"/>
                </a:lnTo>
                <a:lnTo>
                  <a:pt x="503" y="2"/>
                </a:lnTo>
                <a:lnTo>
                  <a:pt x="529" y="5"/>
                </a:lnTo>
                <a:lnTo>
                  <a:pt x="554" y="6"/>
                </a:lnTo>
                <a:lnTo>
                  <a:pt x="578" y="9"/>
                </a:lnTo>
                <a:lnTo>
                  <a:pt x="600" y="11"/>
                </a:lnTo>
                <a:lnTo>
                  <a:pt x="621" y="15"/>
                </a:lnTo>
                <a:lnTo>
                  <a:pt x="641" y="18"/>
                </a:lnTo>
                <a:lnTo>
                  <a:pt x="660" y="20"/>
                </a:lnTo>
                <a:lnTo>
                  <a:pt x="677" y="23"/>
                </a:lnTo>
                <a:lnTo>
                  <a:pt x="695" y="27"/>
                </a:lnTo>
                <a:lnTo>
                  <a:pt x="710" y="29"/>
                </a:lnTo>
                <a:lnTo>
                  <a:pt x="726" y="32"/>
                </a:lnTo>
                <a:lnTo>
                  <a:pt x="740" y="35"/>
                </a:lnTo>
                <a:lnTo>
                  <a:pt x="755" y="38"/>
                </a:lnTo>
                <a:lnTo>
                  <a:pt x="768" y="40"/>
                </a:lnTo>
                <a:lnTo>
                  <a:pt x="782" y="44"/>
                </a:lnTo>
                <a:lnTo>
                  <a:pt x="795" y="47"/>
                </a:lnTo>
                <a:lnTo>
                  <a:pt x="806" y="49"/>
                </a:lnTo>
                <a:lnTo>
                  <a:pt x="819" y="52"/>
                </a:lnTo>
                <a:lnTo>
                  <a:pt x="830" y="56"/>
                </a:lnTo>
                <a:lnTo>
                  <a:pt x="841" y="58"/>
                </a:lnTo>
                <a:lnTo>
                  <a:pt x="841" y="68"/>
                </a:lnTo>
                <a:lnTo>
                  <a:pt x="830" y="71"/>
                </a:lnTo>
                <a:lnTo>
                  <a:pt x="819" y="75"/>
                </a:lnTo>
                <a:lnTo>
                  <a:pt x="806" y="77"/>
                </a:lnTo>
                <a:lnTo>
                  <a:pt x="795" y="80"/>
                </a:lnTo>
                <a:lnTo>
                  <a:pt x="782" y="82"/>
                </a:lnTo>
                <a:lnTo>
                  <a:pt x="768" y="86"/>
                </a:lnTo>
                <a:lnTo>
                  <a:pt x="755" y="89"/>
                </a:lnTo>
                <a:lnTo>
                  <a:pt x="740" y="91"/>
                </a:lnTo>
                <a:lnTo>
                  <a:pt x="726" y="95"/>
                </a:lnTo>
                <a:lnTo>
                  <a:pt x="710" y="97"/>
                </a:lnTo>
                <a:lnTo>
                  <a:pt x="695" y="100"/>
                </a:lnTo>
                <a:lnTo>
                  <a:pt x="677" y="104"/>
                </a:lnTo>
                <a:lnTo>
                  <a:pt x="660" y="106"/>
                </a:lnTo>
                <a:lnTo>
                  <a:pt x="641" y="109"/>
                </a:lnTo>
                <a:lnTo>
                  <a:pt x="621" y="111"/>
                </a:lnTo>
                <a:lnTo>
                  <a:pt x="600" y="115"/>
                </a:lnTo>
                <a:lnTo>
                  <a:pt x="578" y="118"/>
                </a:lnTo>
                <a:lnTo>
                  <a:pt x="554" y="120"/>
                </a:lnTo>
                <a:lnTo>
                  <a:pt x="529" y="121"/>
                </a:lnTo>
                <a:lnTo>
                  <a:pt x="503" y="124"/>
                </a:lnTo>
                <a:lnTo>
                  <a:pt x="476" y="125"/>
                </a:lnTo>
                <a:lnTo>
                  <a:pt x="446" y="127"/>
                </a:lnTo>
                <a:lnTo>
                  <a:pt x="416" y="127"/>
                </a:lnTo>
                <a:lnTo>
                  <a:pt x="416" y="127"/>
                </a:lnTo>
                <a:lnTo>
                  <a:pt x="384" y="127"/>
                </a:lnTo>
                <a:lnTo>
                  <a:pt x="349" y="125"/>
                </a:lnTo>
                <a:lnTo>
                  <a:pt x="312" y="123"/>
                </a:lnTo>
                <a:lnTo>
                  <a:pt x="263" y="119"/>
                </a:lnTo>
                <a:lnTo>
                  <a:pt x="208" y="113"/>
                </a:lnTo>
                <a:lnTo>
                  <a:pt x="150" y="102"/>
                </a:lnTo>
                <a:lnTo>
                  <a:pt x="105" y="92"/>
                </a:lnTo>
                <a:lnTo>
                  <a:pt x="17" y="68"/>
                </a:lnTo>
                <a:lnTo>
                  <a:pt x="0" y="63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03840" y="3351240"/>
            <a:ext cx="1334880" cy="201600"/>
          </a:xfrm>
          <a:custGeom>
            <a:avLst/>
            <a:gdLst/>
            <a:ahLst/>
            <a:rect l="l" t="t" r="r" b="b"/>
            <a:pathLst>
              <a:path w="841" h="127">
                <a:moveTo>
                  <a:pt x="0" y="63"/>
                </a:moveTo>
                <a:lnTo>
                  <a:pt x="17" y="58"/>
                </a:lnTo>
                <a:lnTo>
                  <a:pt x="105" y="34"/>
                </a:lnTo>
                <a:lnTo>
                  <a:pt x="150" y="24"/>
                </a:lnTo>
                <a:lnTo>
                  <a:pt x="208" y="14"/>
                </a:lnTo>
                <a:lnTo>
                  <a:pt x="263" y="8"/>
                </a:lnTo>
                <a:lnTo>
                  <a:pt x="312" y="4"/>
                </a:lnTo>
                <a:lnTo>
                  <a:pt x="349" y="1"/>
                </a:lnTo>
                <a:lnTo>
                  <a:pt x="384" y="0"/>
                </a:lnTo>
                <a:lnTo>
                  <a:pt x="416" y="0"/>
                </a:lnTo>
                <a:lnTo>
                  <a:pt x="416" y="0"/>
                </a:lnTo>
                <a:lnTo>
                  <a:pt x="446" y="0"/>
                </a:lnTo>
                <a:lnTo>
                  <a:pt x="476" y="1"/>
                </a:lnTo>
                <a:lnTo>
                  <a:pt x="503" y="2"/>
                </a:lnTo>
                <a:lnTo>
                  <a:pt x="529" y="5"/>
                </a:lnTo>
                <a:lnTo>
                  <a:pt x="554" y="6"/>
                </a:lnTo>
                <a:lnTo>
                  <a:pt x="578" y="9"/>
                </a:lnTo>
                <a:lnTo>
                  <a:pt x="600" y="11"/>
                </a:lnTo>
                <a:lnTo>
                  <a:pt x="621" y="15"/>
                </a:lnTo>
                <a:lnTo>
                  <a:pt x="641" y="18"/>
                </a:lnTo>
                <a:lnTo>
                  <a:pt x="660" y="20"/>
                </a:lnTo>
                <a:lnTo>
                  <a:pt x="677" y="23"/>
                </a:lnTo>
                <a:lnTo>
                  <a:pt x="695" y="27"/>
                </a:lnTo>
                <a:lnTo>
                  <a:pt x="710" y="29"/>
                </a:lnTo>
                <a:lnTo>
                  <a:pt x="726" y="32"/>
                </a:lnTo>
                <a:lnTo>
                  <a:pt x="740" y="35"/>
                </a:lnTo>
                <a:lnTo>
                  <a:pt x="755" y="38"/>
                </a:lnTo>
                <a:lnTo>
                  <a:pt x="768" y="40"/>
                </a:lnTo>
                <a:lnTo>
                  <a:pt x="782" y="44"/>
                </a:lnTo>
                <a:lnTo>
                  <a:pt x="795" y="47"/>
                </a:lnTo>
                <a:lnTo>
                  <a:pt x="806" y="49"/>
                </a:lnTo>
                <a:lnTo>
                  <a:pt x="819" y="52"/>
                </a:lnTo>
                <a:lnTo>
                  <a:pt x="830" y="56"/>
                </a:lnTo>
                <a:lnTo>
                  <a:pt x="841" y="58"/>
                </a:lnTo>
                <a:lnTo>
                  <a:pt x="841" y="68"/>
                </a:lnTo>
                <a:lnTo>
                  <a:pt x="830" y="71"/>
                </a:lnTo>
                <a:lnTo>
                  <a:pt x="819" y="75"/>
                </a:lnTo>
                <a:lnTo>
                  <a:pt x="806" y="77"/>
                </a:lnTo>
                <a:lnTo>
                  <a:pt x="795" y="80"/>
                </a:lnTo>
                <a:lnTo>
                  <a:pt x="782" y="82"/>
                </a:lnTo>
                <a:lnTo>
                  <a:pt x="768" y="86"/>
                </a:lnTo>
                <a:lnTo>
                  <a:pt x="755" y="89"/>
                </a:lnTo>
                <a:lnTo>
                  <a:pt x="740" y="91"/>
                </a:lnTo>
                <a:lnTo>
                  <a:pt x="726" y="95"/>
                </a:lnTo>
                <a:lnTo>
                  <a:pt x="710" y="97"/>
                </a:lnTo>
                <a:lnTo>
                  <a:pt x="695" y="100"/>
                </a:lnTo>
                <a:lnTo>
                  <a:pt x="677" y="104"/>
                </a:lnTo>
                <a:lnTo>
                  <a:pt x="660" y="106"/>
                </a:lnTo>
                <a:lnTo>
                  <a:pt x="641" y="109"/>
                </a:lnTo>
                <a:lnTo>
                  <a:pt x="621" y="111"/>
                </a:lnTo>
                <a:lnTo>
                  <a:pt x="600" y="115"/>
                </a:lnTo>
                <a:lnTo>
                  <a:pt x="578" y="118"/>
                </a:lnTo>
                <a:lnTo>
                  <a:pt x="554" y="120"/>
                </a:lnTo>
                <a:lnTo>
                  <a:pt x="529" y="121"/>
                </a:lnTo>
                <a:lnTo>
                  <a:pt x="503" y="124"/>
                </a:lnTo>
                <a:lnTo>
                  <a:pt x="476" y="125"/>
                </a:lnTo>
                <a:lnTo>
                  <a:pt x="446" y="127"/>
                </a:lnTo>
                <a:lnTo>
                  <a:pt x="416" y="127"/>
                </a:lnTo>
                <a:lnTo>
                  <a:pt x="416" y="127"/>
                </a:lnTo>
                <a:lnTo>
                  <a:pt x="384" y="127"/>
                </a:lnTo>
                <a:lnTo>
                  <a:pt x="349" y="125"/>
                </a:lnTo>
                <a:lnTo>
                  <a:pt x="312" y="123"/>
                </a:lnTo>
                <a:lnTo>
                  <a:pt x="263" y="119"/>
                </a:lnTo>
                <a:lnTo>
                  <a:pt x="208" y="113"/>
                </a:lnTo>
                <a:lnTo>
                  <a:pt x="150" y="102"/>
                </a:lnTo>
                <a:lnTo>
                  <a:pt x="105" y="92"/>
                </a:lnTo>
                <a:lnTo>
                  <a:pt x="17" y="68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903840" y="3451320"/>
            <a:ext cx="144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903840" y="3351240"/>
            <a:ext cx="1334880" cy="201600"/>
          </a:xfrm>
          <a:custGeom>
            <a:avLst/>
            <a:gdLst/>
            <a:ahLst/>
            <a:rect l="l" t="t" r="r" b="b"/>
            <a:pathLst>
              <a:path w="841" h="127">
                <a:moveTo>
                  <a:pt x="0" y="63"/>
                </a:moveTo>
                <a:lnTo>
                  <a:pt x="17" y="58"/>
                </a:lnTo>
                <a:lnTo>
                  <a:pt x="105" y="34"/>
                </a:lnTo>
                <a:lnTo>
                  <a:pt x="150" y="24"/>
                </a:lnTo>
                <a:lnTo>
                  <a:pt x="208" y="14"/>
                </a:lnTo>
                <a:lnTo>
                  <a:pt x="263" y="8"/>
                </a:lnTo>
                <a:lnTo>
                  <a:pt x="312" y="4"/>
                </a:lnTo>
                <a:lnTo>
                  <a:pt x="349" y="1"/>
                </a:lnTo>
                <a:lnTo>
                  <a:pt x="384" y="0"/>
                </a:lnTo>
                <a:lnTo>
                  <a:pt x="416" y="0"/>
                </a:lnTo>
                <a:lnTo>
                  <a:pt x="416" y="0"/>
                </a:lnTo>
                <a:lnTo>
                  <a:pt x="446" y="0"/>
                </a:lnTo>
                <a:lnTo>
                  <a:pt x="476" y="1"/>
                </a:lnTo>
                <a:lnTo>
                  <a:pt x="503" y="2"/>
                </a:lnTo>
                <a:lnTo>
                  <a:pt x="529" y="5"/>
                </a:lnTo>
                <a:lnTo>
                  <a:pt x="554" y="6"/>
                </a:lnTo>
                <a:lnTo>
                  <a:pt x="578" y="9"/>
                </a:lnTo>
                <a:lnTo>
                  <a:pt x="600" y="11"/>
                </a:lnTo>
                <a:lnTo>
                  <a:pt x="621" y="15"/>
                </a:lnTo>
                <a:lnTo>
                  <a:pt x="641" y="18"/>
                </a:lnTo>
                <a:lnTo>
                  <a:pt x="660" y="20"/>
                </a:lnTo>
                <a:lnTo>
                  <a:pt x="677" y="23"/>
                </a:lnTo>
                <a:lnTo>
                  <a:pt x="695" y="27"/>
                </a:lnTo>
                <a:lnTo>
                  <a:pt x="710" y="29"/>
                </a:lnTo>
                <a:lnTo>
                  <a:pt x="726" y="32"/>
                </a:lnTo>
                <a:lnTo>
                  <a:pt x="740" y="35"/>
                </a:lnTo>
                <a:lnTo>
                  <a:pt x="755" y="38"/>
                </a:lnTo>
                <a:lnTo>
                  <a:pt x="768" y="40"/>
                </a:lnTo>
                <a:lnTo>
                  <a:pt x="782" y="44"/>
                </a:lnTo>
                <a:lnTo>
                  <a:pt x="795" y="47"/>
                </a:lnTo>
                <a:lnTo>
                  <a:pt x="806" y="49"/>
                </a:lnTo>
                <a:lnTo>
                  <a:pt x="819" y="52"/>
                </a:lnTo>
                <a:lnTo>
                  <a:pt x="830" y="56"/>
                </a:lnTo>
                <a:lnTo>
                  <a:pt x="841" y="58"/>
                </a:lnTo>
                <a:lnTo>
                  <a:pt x="841" y="68"/>
                </a:lnTo>
                <a:lnTo>
                  <a:pt x="830" y="71"/>
                </a:lnTo>
                <a:lnTo>
                  <a:pt x="819" y="75"/>
                </a:lnTo>
                <a:lnTo>
                  <a:pt x="806" y="77"/>
                </a:lnTo>
                <a:lnTo>
                  <a:pt x="795" y="80"/>
                </a:lnTo>
                <a:lnTo>
                  <a:pt x="782" y="82"/>
                </a:lnTo>
                <a:lnTo>
                  <a:pt x="768" y="86"/>
                </a:lnTo>
                <a:lnTo>
                  <a:pt x="755" y="89"/>
                </a:lnTo>
                <a:lnTo>
                  <a:pt x="740" y="91"/>
                </a:lnTo>
                <a:lnTo>
                  <a:pt x="726" y="95"/>
                </a:lnTo>
                <a:lnTo>
                  <a:pt x="710" y="97"/>
                </a:lnTo>
                <a:lnTo>
                  <a:pt x="695" y="100"/>
                </a:lnTo>
                <a:lnTo>
                  <a:pt x="677" y="104"/>
                </a:lnTo>
                <a:lnTo>
                  <a:pt x="660" y="106"/>
                </a:lnTo>
                <a:lnTo>
                  <a:pt x="641" y="109"/>
                </a:lnTo>
                <a:lnTo>
                  <a:pt x="621" y="111"/>
                </a:lnTo>
                <a:lnTo>
                  <a:pt x="600" y="115"/>
                </a:lnTo>
                <a:lnTo>
                  <a:pt x="578" y="118"/>
                </a:lnTo>
                <a:lnTo>
                  <a:pt x="554" y="120"/>
                </a:lnTo>
                <a:lnTo>
                  <a:pt x="529" y="121"/>
                </a:lnTo>
                <a:lnTo>
                  <a:pt x="503" y="124"/>
                </a:lnTo>
                <a:lnTo>
                  <a:pt x="476" y="125"/>
                </a:lnTo>
                <a:lnTo>
                  <a:pt x="446" y="127"/>
                </a:lnTo>
                <a:lnTo>
                  <a:pt x="416" y="127"/>
                </a:lnTo>
                <a:lnTo>
                  <a:pt x="416" y="127"/>
                </a:lnTo>
                <a:lnTo>
                  <a:pt x="384" y="127"/>
                </a:lnTo>
                <a:lnTo>
                  <a:pt x="349" y="125"/>
                </a:lnTo>
                <a:lnTo>
                  <a:pt x="312" y="123"/>
                </a:lnTo>
                <a:lnTo>
                  <a:pt x="263" y="119"/>
                </a:lnTo>
                <a:lnTo>
                  <a:pt x="208" y="113"/>
                </a:lnTo>
                <a:lnTo>
                  <a:pt x="150" y="102"/>
                </a:lnTo>
                <a:lnTo>
                  <a:pt x="105" y="92"/>
                </a:lnTo>
                <a:lnTo>
                  <a:pt x="17" y="68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64080" y="3409920"/>
            <a:ext cx="8424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22680" y="3409920"/>
            <a:ext cx="8424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27720" y="3414600"/>
            <a:ext cx="7452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4927680" y="3736440"/>
            <a:ext cx="144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4927680" y="3656160"/>
            <a:ext cx="144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4927680" y="357660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278160" y="3568680"/>
            <a:ext cx="4222800" cy="200160"/>
          </a:xfrm>
          <a:custGeom>
            <a:avLst/>
            <a:gdLst/>
            <a:ahLst/>
            <a:rect l="l" t="t" r="r" b="b"/>
            <a:pathLst>
              <a:path w="2660" h="126">
                <a:moveTo>
                  <a:pt x="0" y="63"/>
                </a:moveTo>
                <a:lnTo>
                  <a:pt x="266" y="31"/>
                </a:lnTo>
                <a:lnTo>
                  <a:pt x="532" y="11"/>
                </a:lnTo>
                <a:lnTo>
                  <a:pt x="797" y="2"/>
                </a:lnTo>
                <a:lnTo>
                  <a:pt x="1063" y="0"/>
                </a:lnTo>
                <a:lnTo>
                  <a:pt x="1063" y="0"/>
                </a:lnTo>
                <a:lnTo>
                  <a:pt x="1476" y="6"/>
                </a:lnTo>
                <a:lnTo>
                  <a:pt x="1661" y="11"/>
                </a:lnTo>
                <a:lnTo>
                  <a:pt x="1790" y="16"/>
                </a:lnTo>
                <a:lnTo>
                  <a:pt x="1889" y="20"/>
                </a:lnTo>
                <a:lnTo>
                  <a:pt x="1915" y="21"/>
                </a:lnTo>
                <a:lnTo>
                  <a:pt x="1980" y="24"/>
                </a:lnTo>
                <a:lnTo>
                  <a:pt x="2036" y="26"/>
                </a:lnTo>
                <a:lnTo>
                  <a:pt x="2085" y="29"/>
                </a:lnTo>
                <a:lnTo>
                  <a:pt x="2129" y="31"/>
                </a:lnTo>
                <a:lnTo>
                  <a:pt x="2170" y="33"/>
                </a:lnTo>
                <a:lnTo>
                  <a:pt x="2207" y="35"/>
                </a:lnTo>
                <a:lnTo>
                  <a:pt x="2241" y="36"/>
                </a:lnTo>
                <a:lnTo>
                  <a:pt x="2271" y="39"/>
                </a:lnTo>
                <a:lnTo>
                  <a:pt x="2300" y="40"/>
                </a:lnTo>
                <a:lnTo>
                  <a:pt x="2341" y="43"/>
                </a:lnTo>
                <a:lnTo>
                  <a:pt x="2365" y="44"/>
                </a:lnTo>
                <a:lnTo>
                  <a:pt x="2388" y="45"/>
                </a:lnTo>
                <a:lnTo>
                  <a:pt x="2410" y="46"/>
                </a:lnTo>
                <a:lnTo>
                  <a:pt x="2431" y="48"/>
                </a:lnTo>
                <a:lnTo>
                  <a:pt x="2451" y="49"/>
                </a:lnTo>
                <a:lnTo>
                  <a:pt x="2470" y="49"/>
                </a:lnTo>
                <a:lnTo>
                  <a:pt x="2488" y="50"/>
                </a:lnTo>
                <a:lnTo>
                  <a:pt x="2505" y="52"/>
                </a:lnTo>
                <a:lnTo>
                  <a:pt x="2522" y="53"/>
                </a:lnTo>
                <a:lnTo>
                  <a:pt x="2538" y="54"/>
                </a:lnTo>
                <a:lnTo>
                  <a:pt x="2553" y="54"/>
                </a:lnTo>
                <a:lnTo>
                  <a:pt x="2570" y="55"/>
                </a:lnTo>
                <a:lnTo>
                  <a:pt x="2586" y="57"/>
                </a:lnTo>
                <a:lnTo>
                  <a:pt x="2603" y="58"/>
                </a:lnTo>
                <a:lnTo>
                  <a:pt x="2618" y="59"/>
                </a:lnTo>
                <a:lnTo>
                  <a:pt x="2632" y="59"/>
                </a:lnTo>
                <a:lnTo>
                  <a:pt x="2646" y="60"/>
                </a:lnTo>
                <a:lnTo>
                  <a:pt x="2660" y="62"/>
                </a:lnTo>
                <a:lnTo>
                  <a:pt x="2660" y="65"/>
                </a:lnTo>
                <a:lnTo>
                  <a:pt x="2646" y="67"/>
                </a:lnTo>
                <a:lnTo>
                  <a:pt x="2632" y="67"/>
                </a:lnTo>
                <a:lnTo>
                  <a:pt x="2618" y="68"/>
                </a:lnTo>
                <a:lnTo>
                  <a:pt x="2603" y="69"/>
                </a:lnTo>
                <a:lnTo>
                  <a:pt x="2586" y="69"/>
                </a:lnTo>
                <a:lnTo>
                  <a:pt x="2570" y="71"/>
                </a:lnTo>
                <a:lnTo>
                  <a:pt x="2553" y="72"/>
                </a:lnTo>
                <a:lnTo>
                  <a:pt x="2538" y="73"/>
                </a:lnTo>
                <a:lnTo>
                  <a:pt x="2522" y="74"/>
                </a:lnTo>
                <a:lnTo>
                  <a:pt x="2505" y="74"/>
                </a:lnTo>
                <a:lnTo>
                  <a:pt x="2488" y="76"/>
                </a:lnTo>
                <a:lnTo>
                  <a:pt x="2470" y="77"/>
                </a:lnTo>
                <a:lnTo>
                  <a:pt x="2451" y="78"/>
                </a:lnTo>
                <a:lnTo>
                  <a:pt x="2431" y="79"/>
                </a:lnTo>
                <a:lnTo>
                  <a:pt x="2410" y="81"/>
                </a:lnTo>
                <a:lnTo>
                  <a:pt x="2388" y="82"/>
                </a:lnTo>
                <a:lnTo>
                  <a:pt x="2365" y="83"/>
                </a:lnTo>
                <a:lnTo>
                  <a:pt x="2341" y="84"/>
                </a:lnTo>
                <a:lnTo>
                  <a:pt x="2300" y="87"/>
                </a:lnTo>
                <a:lnTo>
                  <a:pt x="2271" y="88"/>
                </a:lnTo>
                <a:lnTo>
                  <a:pt x="2241" y="90"/>
                </a:lnTo>
                <a:lnTo>
                  <a:pt x="2207" y="92"/>
                </a:lnTo>
                <a:lnTo>
                  <a:pt x="2170" y="93"/>
                </a:lnTo>
                <a:lnTo>
                  <a:pt x="2129" y="96"/>
                </a:lnTo>
                <a:lnTo>
                  <a:pt x="2085" y="98"/>
                </a:lnTo>
                <a:lnTo>
                  <a:pt x="2036" y="100"/>
                </a:lnTo>
                <a:lnTo>
                  <a:pt x="1980" y="102"/>
                </a:lnTo>
                <a:lnTo>
                  <a:pt x="1915" y="106"/>
                </a:lnTo>
                <a:lnTo>
                  <a:pt x="1889" y="107"/>
                </a:lnTo>
                <a:lnTo>
                  <a:pt x="1790" y="111"/>
                </a:lnTo>
                <a:lnTo>
                  <a:pt x="1661" y="116"/>
                </a:lnTo>
                <a:lnTo>
                  <a:pt x="1476" y="121"/>
                </a:lnTo>
                <a:lnTo>
                  <a:pt x="1063" y="126"/>
                </a:lnTo>
                <a:lnTo>
                  <a:pt x="1063" y="126"/>
                </a:lnTo>
                <a:lnTo>
                  <a:pt x="797" y="125"/>
                </a:lnTo>
                <a:lnTo>
                  <a:pt x="532" y="115"/>
                </a:lnTo>
                <a:lnTo>
                  <a:pt x="266" y="96"/>
                </a:lnTo>
                <a:lnTo>
                  <a:pt x="0" y="63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278160" y="3568680"/>
            <a:ext cx="4222800" cy="200160"/>
          </a:xfrm>
          <a:custGeom>
            <a:avLst/>
            <a:gdLst/>
            <a:ahLst/>
            <a:rect l="l" t="t" r="r" b="b"/>
            <a:pathLst>
              <a:path w="2660" h="126">
                <a:moveTo>
                  <a:pt x="0" y="63"/>
                </a:moveTo>
                <a:lnTo>
                  <a:pt x="266" y="31"/>
                </a:lnTo>
                <a:lnTo>
                  <a:pt x="532" y="11"/>
                </a:lnTo>
                <a:lnTo>
                  <a:pt x="797" y="2"/>
                </a:lnTo>
                <a:lnTo>
                  <a:pt x="1063" y="0"/>
                </a:lnTo>
                <a:lnTo>
                  <a:pt x="1063" y="0"/>
                </a:lnTo>
                <a:lnTo>
                  <a:pt x="1476" y="6"/>
                </a:lnTo>
                <a:lnTo>
                  <a:pt x="1661" y="11"/>
                </a:lnTo>
                <a:lnTo>
                  <a:pt x="1790" y="16"/>
                </a:lnTo>
                <a:lnTo>
                  <a:pt x="1889" y="20"/>
                </a:lnTo>
                <a:lnTo>
                  <a:pt x="1915" y="21"/>
                </a:lnTo>
                <a:lnTo>
                  <a:pt x="1980" y="24"/>
                </a:lnTo>
                <a:lnTo>
                  <a:pt x="2036" y="26"/>
                </a:lnTo>
                <a:lnTo>
                  <a:pt x="2085" y="29"/>
                </a:lnTo>
                <a:lnTo>
                  <a:pt x="2129" y="31"/>
                </a:lnTo>
                <a:lnTo>
                  <a:pt x="2170" y="33"/>
                </a:lnTo>
                <a:lnTo>
                  <a:pt x="2207" y="35"/>
                </a:lnTo>
                <a:lnTo>
                  <a:pt x="2241" y="36"/>
                </a:lnTo>
                <a:lnTo>
                  <a:pt x="2271" y="39"/>
                </a:lnTo>
                <a:lnTo>
                  <a:pt x="2300" y="40"/>
                </a:lnTo>
                <a:lnTo>
                  <a:pt x="2341" y="43"/>
                </a:lnTo>
                <a:lnTo>
                  <a:pt x="2365" y="44"/>
                </a:lnTo>
                <a:lnTo>
                  <a:pt x="2388" y="45"/>
                </a:lnTo>
                <a:lnTo>
                  <a:pt x="2410" y="46"/>
                </a:lnTo>
                <a:lnTo>
                  <a:pt x="2431" y="48"/>
                </a:lnTo>
                <a:lnTo>
                  <a:pt x="2451" y="49"/>
                </a:lnTo>
                <a:lnTo>
                  <a:pt x="2470" y="49"/>
                </a:lnTo>
                <a:lnTo>
                  <a:pt x="2488" y="50"/>
                </a:lnTo>
                <a:lnTo>
                  <a:pt x="2505" y="52"/>
                </a:lnTo>
                <a:lnTo>
                  <a:pt x="2522" y="53"/>
                </a:lnTo>
                <a:lnTo>
                  <a:pt x="2538" y="54"/>
                </a:lnTo>
                <a:lnTo>
                  <a:pt x="2553" y="54"/>
                </a:lnTo>
                <a:lnTo>
                  <a:pt x="2570" y="55"/>
                </a:lnTo>
                <a:lnTo>
                  <a:pt x="2586" y="57"/>
                </a:lnTo>
                <a:lnTo>
                  <a:pt x="2603" y="58"/>
                </a:lnTo>
                <a:lnTo>
                  <a:pt x="2618" y="59"/>
                </a:lnTo>
                <a:lnTo>
                  <a:pt x="2632" y="59"/>
                </a:lnTo>
                <a:lnTo>
                  <a:pt x="2646" y="60"/>
                </a:lnTo>
                <a:lnTo>
                  <a:pt x="2660" y="62"/>
                </a:lnTo>
                <a:lnTo>
                  <a:pt x="2660" y="65"/>
                </a:lnTo>
                <a:lnTo>
                  <a:pt x="2646" y="67"/>
                </a:lnTo>
                <a:lnTo>
                  <a:pt x="2632" y="67"/>
                </a:lnTo>
                <a:lnTo>
                  <a:pt x="2618" y="68"/>
                </a:lnTo>
                <a:lnTo>
                  <a:pt x="2603" y="69"/>
                </a:lnTo>
                <a:lnTo>
                  <a:pt x="2586" y="69"/>
                </a:lnTo>
                <a:lnTo>
                  <a:pt x="2570" y="71"/>
                </a:lnTo>
                <a:lnTo>
                  <a:pt x="2553" y="72"/>
                </a:lnTo>
                <a:lnTo>
                  <a:pt x="2538" y="73"/>
                </a:lnTo>
                <a:lnTo>
                  <a:pt x="2522" y="74"/>
                </a:lnTo>
                <a:lnTo>
                  <a:pt x="2505" y="74"/>
                </a:lnTo>
                <a:lnTo>
                  <a:pt x="2488" y="76"/>
                </a:lnTo>
                <a:lnTo>
                  <a:pt x="2470" y="77"/>
                </a:lnTo>
                <a:lnTo>
                  <a:pt x="2451" y="78"/>
                </a:lnTo>
                <a:lnTo>
                  <a:pt x="2431" y="79"/>
                </a:lnTo>
                <a:lnTo>
                  <a:pt x="2410" y="81"/>
                </a:lnTo>
                <a:lnTo>
                  <a:pt x="2388" y="82"/>
                </a:lnTo>
                <a:lnTo>
                  <a:pt x="2365" y="83"/>
                </a:lnTo>
                <a:lnTo>
                  <a:pt x="2341" y="84"/>
                </a:lnTo>
                <a:lnTo>
                  <a:pt x="2300" y="87"/>
                </a:lnTo>
                <a:lnTo>
                  <a:pt x="2271" y="88"/>
                </a:lnTo>
                <a:lnTo>
                  <a:pt x="2241" y="90"/>
                </a:lnTo>
                <a:lnTo>
                  <a:pt x="2207" y="92"/>
                </a:lnTo>
                <a:lnTo>
                  <a:pt x="2170" y="93"/>
                </a:lnTo>
                <a:lnTo>
                  <a:pt x="2129" y="96"/>
                </a:lnTo>
                <a:lnTo>
                  <a:pt x="2085" y="98"/>
                </a:lnTo>
                <a:lnTo>
                  <a:pt x="2036" y="100"/>
                </a:lnTo>
                <a:lnTo>
                  <a:pt x="1980" y="102"/>
                </a:lnTo>
                <a:lnTo>
                  <a:pt x="1915" y="106"/>
                </a:lnTo>
                <a:lnTo>
                  <a:pt x="1889" y="107"/>
                </a:lnTo>
                <a:lnTo>
                  <a:pt x="1790" y="111"/>
                </a:lnTo>
                <a:lnTo>
                  <a:pt x="1661" y="116"/>
                </a:lnTo>
                <a:lnTo>
                  <a:pt x="1476" y="121"/>
                </a:lnTo>
                <a:lnTo>
                  <a:pt x="1063" y="126"/>
                </a:lnTo>
                <a:lnTo>
                  <a:pt x="1063" y="126"/>
                </a:lnTo>
                <a:lnTo>
                  <a:pt x="797" y="125"/>
                </a:lnTo>
                <a:lnTo>
                  <a:pt x="532" y="115"/>
                </a:lnTo>
                <a:lnTo>
                  <a:pt x="266" y="96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278160" y="3668760"/>
            <a:ext cx="144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278160" y="3568680"/>
            <a:ext cx="4222800" cy="200160"/>
          </a:xfrm>
          <a:custGeom>
            <a:avLst/>
            <a:gdLst/>
            <a:ahLst/>
            <a:rect l="l" t="t" r="r" b="b"/>
            <a:pathLst>
              <a:path w="2660" h="126">
                <a:moveTo>
                  <a:pt x="0" y="63"/>
                </a:moveTo>
                <a:lnTo>
                  <a:pt x="266" y="31"/>
                </a:lnTo>
                <a:lnTo>
                  <a:pt x="532" y="11"/>
                </a:lnTo>
                <a:lnTo>
                  <a:pt x="797" y="2"/>
                </a:lnTo>
                <a:lnTo>
                  <a:pt x="1063" y="0"/>
                </a:lnTo>
                <a:lnTo>
                  <a:pt x="1063" y="0"/>
                </a:lnTo>
                <a:lnTo>
                  <a:pt x="1476" y="6"/>
                </a:lnTo>
                <a:lnTo>
                  <a:pt x="1661" y="11"/>
                </a:lnTo>
                <a:lnTo>
                  <a:pt x="1790" y="16"/>
                </a:lnTo>
                <a:lnTo>
                  <a:pt x="1889" y="20"/>
                </a:lnTo>
                <a:lnTo>
                  <a:pt x="1915" y="21"/>
                </a:lnTo>
                <a:lnTo>
                  <a:pt x="1980" y="24"/>
                </a:lnTo>
                <a:lnTo>
                  <a:pt x="2036" y="26"/>
                </a:lnTo>
                <a:lnTo>
                  <a:pt x="2085" y="29"/>
                </a:lnTo>
                <a:lnTo>
                  <a:pt x="2129" y="31"/>
                </a:lnTo>
                <a:lnTo>
                  <a:pt x="2170" y="33"/>
                </a:lnTo>
                <a:lnTo>
                  <a:pt x="2207" y="35"/>
                </a:lnTo>
                <a:lnTo>
                  <a:pt x="2241" y="36"/>
                </a:lnTo>
                <a:lnTo>
                  <a:pt x="2271" y="39"/>
                </a:lnTo>
                <a:lnTo>
                  <a:pt x="2300" y="40"/>
                </a:lnTo>
                <a:lnTo>
                  <a:pt x="2341" y="43"/>
                </a:lnTo>
                <a:lnTo>
                  <a:pt x="2365" y="44"/>
                </a:lnTo>
                <a:lnTo>
                  <a:pt x="2388" y="45"/>
                </a:lnTo>
                <a:lnTo>
                  <a:pt x="2410" y="46"/>
                </a:lnTo>
                <a:lnTo>
                  <a:pt x="2431" y="48"/>
                </a:lnTo>
                <a:lnTo>
                  <a:pt x="2451" y="49"/>
                </a:lnTo>
                <a:lnTo>
                  <a:pt x="2470" y="49"/>
                </a:lnTo>
                <a:lnTo>
                  <a:pt x="2488" y="50"/>
                </a:lnTo>
                <a:lnTo>
                  <a:pt x="2505" y="52"/>
                </a:lnTo>
                <a:lnTo>
                  <a:pt x="2522" y="53"/>
                </a:lnTo>
                <a:lnTo>
                  <a:pt x="2538" y="54"/>
                </a:lnTo>
                <a:lnTo>
                  <a:pt x="2553" y="54"/>
                </a:lnTo>
                <a:lnTo>
                  <a:pt x="2570" y="55"/>
                </a:lnTo>
                <a:lnTo>
                  <a:pt x="2586" y="57"/>
                </a:lnTo>
                <a:lnTo>
                  <a:pt x="2603" y="58"/>
                </a:lnTo>
                <a:lnTo>
                  <a:pt x="2618" y="59"/>
                </a:lnTo>
                <a:lnTo>
                  <a:pt x="2632" y="59"/>
                </a:lnTo>
                <a:lnTo>
                  <a:pt x="2646" y="60"/>
                </a:lnTo>
                <a:lnTo>
                  <a:pt x="2660" y="62"/>
                </a:lnTo>
                <a:lnTo>
                  <a:pt x="2660" y="65"/>
                </a:lnTo>
                <a:lnTo>
                  <a:pt x="2646" y="67"/>
                </a:lnTo>
                <a:lnTo>
                  <a:pt x="2632" y="67"/>
                </a:lnTo>
                <a:lnTo>
                  <a:pt x="2618" y="68"/>
                </a:lnTo>
                <a:lnTo>
                  <a:pt x="2603" y="69"/>
                </a:lnTo>
                <a:lnTo>
                  <a:pt x="2586" y="69"/>
                </a:lnTo>
                <a:lnTo>
                  <a:pt x="2570" y="71"/>
                </a:lnTo>
                <a:lnTo>
                  <a:pt x="2553" y="72"/>
                </a:lnTo>
                <a:lnTo>
                  <a:pt x="2538" y="73"/>
                </a:lnTo>
                <a:lnTo>
                  <a:pt x="2522" y="74"/>
                </a:lnTo>
                <a:lnTo>
                  <a:pt x="2505" y="74"/>
                </a:lnTo>
                <a:lnTo>
                  <a:pt x="2488" y="76"/>
                </a:lnTo>
                <a:lnTo>
                  <a:pt x="2470" y="77"/>
                </a:lnTo>
                <a:lnTo>
                  <a:pt x="2451" y="78"/>
                </a:lnTo>
                <a:lnTo>
                  <a:pt x="2431" y="79"/>
                </a:lnTo>
                <a:lnTo>
                  <a:pt x="2410" y="81"/>
                </a:lnTo>
                <a:lnTo>
                  <a:pt x="2388" y="82"/>
                </a:lnTo>
                <a:lnTo>
                  <a:pt x="2365" y="83"/>
                </a:lnTo>
                <a:lnTo>
                  <a:pt x="2341" y="84"/>
                </a:lnTo>
                <a:lnTo>
                  <a:pt x="2300" y="87"/>
                </a:lnTo>
                <a:lnTo>
                  <a:pt x="2271" y="88"/>
                </a:lnTo>
                <a:lnTo>
                  <a:pt x="2241" y="90"/>
                </a:lnTo>
                <a:lnTo>
                  <a:pt x="2207" y="92"/>
                </a:lnTo>
                <a:lnTo>
                  <a:pt x="2170" y="93"/>
                </a:lnTo>
                <a:lnTo>
                  <a:pt x="2129" y="96"/>
                </a:lnTo>
                <a:lnTo>
                  <a:pt x="2085" y="98"/>
                </a:lnTo>
                <a:lnTo>
                  <a:pt x="2036" y="100"/>
                </a:lnTo>
                <a:lnTo>
                  <a:pt x="1980" y="102"/>
                </a:lnTo>
                <a:lnTo>
                  <a:pt x="1915" y="106"/>
                </a:lnTo>
                <a:lnTo>
                  <a:pt x="1889" y="107"/>
                </a:lnTo>
                <a:lnTo>
                  <a:pt x="1790" y="111"/>
                </a:lnTo>
                <a:lnTo>
                  <a:pt x="1661" y="116"/>
                </a:lnTo>
                <a:lnTo>
                  <a:pt x="1476" y="121"/>
                </a:lnTo>
                <a:lnTo>
                  <a:pt x="1063" y="126"/>
                </a:lnTo>
                <a:lnTo>
                  <a:pt x="1063" y="126"/>
                </a:lnTo>
                <a:lnTo>
                  <a:pt x="797" y="125"/>
                </a:lnTo>
                <a:lnTo>
                  <a:pt x="532" y="115"/>
                </a:lnTo>
                <a:lnTo>
                  <a:pt x="266" y="96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297400" y="3625920"/>
            <a:ext cx="84240" cy="856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24440" y="3625920"/>
            <a:ext cx="84240" cy="856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929120" y="3630600"/>
            <a:ext cx="745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927680" y="3956040"/>
            <a:ext cx="1440" cy="396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4927680" y="3874680"/>
            <a:ext cx="1440" cy="414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4927680" y="3795840"/>
            <a:ext cx="1440" cy="396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158920" y="3784680"/>
            <a:ext cx="1852560" cy="203040"/>
          </a:xfrm>
          <a:custGeom>
            <a:avLst/>
            <a:gdLst/>
            <a:ahLst/>
            <a:rect l="l" t="t" r="r" b="b"/>
            <a:pathLst>
              <a:path w="1167" h="128">
                <a:moveTo>
                  <a:pt x="0" y="65"/>
                </a:moveTo>
                <a:lnTo>
                  <a:pt x="28" y="62"/>
                </a:lnTo>
                <a:lnTo>
                  <a:pt x="40" y="61"/>
                </a:lnTo>
                <a:lnTo>
                  <a:pt x="53" y="60"/>
                </a:lnTo>
                <a:lnTo>
                  <a:pt x="67" y="59"/>
                </a:lnTo>
                <a:lnTo>
                  <a:pt x="67" y="59"/>
                </a:lnTo>
                <a:lnTo>
                  <a:pt x="248" y="43"/>
                </a:lnTo>
                <a:lnTo>
                  <a:pt x="376" y="29"/>
                </a:lnTo>
                <a:lnTo>
                  <a:pt x="473" y="19"/>
                </a:lnTo>
                <a:lnTo>
                  <a:pt x="552" y="12"/>
                </a:lnTo>
                <a:lnTo>
                  <a:pt x="619" y="5"/>
                </a:lnTo>
                <a:lnTo>
                  <a:pt x="677" y="3"/>
                </a:lnTo>
                <a:lnTo>
                  <a:pt x="728" y="0"/>
                </a:lnTo>
                <a:lnTo>
                  <a:pt x="773" y="0"/>
                </a:lnTo>
                <a:lnTo>
                  <a:pt x="814" y="3"/>
                </a:lnTo>
                <a:lnTo>
                  <a:pt x="852" y="5"/>
                </a:lnTo>
                <a:lnTo>
                  <a:pt x="886" y="9"/>
                </a:lnTo>
                <a:lnTo>
                  <a:pt x="918" y="14"/>
                </a:lnTo>
                <a:lnTo>
                  <a:pt x="948" y="19"/>
                </a:lnTo>
                <a:lnTo>
                  <a:pt x="976" y="26"/>
                </a:lnTo>
                <a:lnTo>
                  <a:pt x="1001" y="31"/>
                </a:lnTo>
                <a:lnTo>
                  <a:pt x="1025" y="37"/>
                </a:lnTo>
                <a:lnTo>
                  <a:pt x="1049" y="43"/>
                </a:lnTo>
                <a:lnTo>
                  <a:pt x="1071" y="48"/>
                </a:lnTo>
                <a:lnTo>
                  <a:pt x="1092" y="54"/>
                </a:lnTo>
                <a:lnTo>
                  <a:pt x="1111" y="57"/>
                </a:lnTo>
                <a:lnTo>
                  <a:pt x="1130" y="60"/>
                </a:lnTo>
                <a:lnTo>
                  <a:pt x="1157" y="64"/>
                </a:lnTo>
                <a:lnTo>
                  <a:pt x="1167" y="65"/>
                </a:lnTo>
                <a:lnTo>
                  <a:pt x="1167" y="65"/>
                </a:lnTo>
                <a:lnTo>
                  <a:pt x="1157" y="66"/>
                </a:lnTo>
                <a:lnTo>
                  <a:pt x="1130" y="69"/>
                </a:lnTo>
                <a:lnTo>
                  <a:pt x="1111" y="71"/>
                </a:lnTo>
                <a:lnTo>
                  <a:pt x="1092" y="75"/>
                </a:lnTo>
                <a:lnTo>
                  <a:pt x="1071" y="80"/>
                </a:lnTo>
                <a:lnTo>
                  <a:pt x="1049" y="85"/>
                </a:lnTo>
                <a:lnTo>
                  <a:pt x="1025" y="92"/>
                </a:lnTo>
                <a:lnTo>
                  <a:pt x="1001" y="98"/>
                </a:lnTo>
                <a:lnTo>
                  <a:pt x="976" y="104"/>
                </a:lnTo>
                <a:lnTo>
                  <a:pt x="948" y="109"/>
                </a:lnTo>
                <a:lnTo>
                  <a:pt x="918" y="114"/>
                </a:lnTo>
                <a:lnTo>
                  <a:pt x="886" y="119"/>
                </a:lnTo>
                <a:lnTo>
                  <a:pt x="852" y="123"/>
                </a:lnTo>
                <a:lnTo>
                  <a:pt x="814" y="126"/>
                </a:lnTo>
                <a:lnTo>
                  <a:pt x="773" y="128"/>
                </a:lnTo>
                <a:lnTo>
                  <a:pt x="728" y="128"/>
                </a:lnTo>
                <a:lnTo>
                  <a:pt x="677" y="126"/>
                </a:lnTo>
                <a:lnTo>
                  <a:pt x="619" y="123"/>
                </a:lnTo>
                <a:lnTo>
                  <a:pt x="552" y="117"/>
                </a:lnTo>
                <a:lnTo>
                  <a:pt x="473" y="109"/>
                </a:lnTo>
                <a:lnTo>
                  <a:pt x="376" y="99"/>
                </a:lnTo>
                <a:lnTo>
                  <a:pt x="248" y="85"/>
                </a:lnTo>
                <a:lnTo>
                  <a:pt x="67" y="70"/>
                </a:lnTo>
                <a:lnTo>
                  <a:pt x="67" y="70"/>
                </a:lnTo>
                <a:lnTo>
                  <a:pt x="53" y="69"/>
                </a:lnTo>
                <a:lnTo>
                  <a:pt x="40" y="67"/>
                </a:lnTo>
                <a:lnTo>
                  <a:pt x="28" y="66"/>
                </a:lnTo>
                <a:lnTo>
                  <a:pt x="0" y="65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158920" y="3784680"/>
            <a:ext cx="1852560" cy="203040"/>
          </a:xfrm>
          <a:custGeom>
            <a:avLst/>
            <a:gdLst/>
            <a:ahLst/>
            <a:rect l="l" t="t" r="r" b="b"/>
            <a:pathLst>
              <a:path w="1167" h="128">
                <a:moveTo>
                  <a:pt x="0" y="65"/>
                </a:moveTo>
                <a:lnTo>
                  <a:pt x="28" y="62"/>
                </a:lnTo>
                <a:lnTo>
                  <a:pt x="40" y="61"/>
                </a:lnTo>
                <a:lnTo>
                  <a:pt x="53" y="60"/>
                </a:lnTo>
                <a:lnTo>
                  <a:pt x="67" y="59"/>
                </a:lnTo>
                <a:lnTo>
                  <a:pt x="67" y="59"/>
                </a:lnTo>
                <a:lnTo>
                  <a:pt x="248" y="43"/>
                </a:lnTo>
                <a:lnTo>
                  <a:pt x="376" y="29"/>
                </a:lnTo>
                <a:lnTo>
                  <a:pt x="473" y="19"/>
                </a:lnTo>
                <a:lnTo>
                  <a:pt x="552" y="12"/>
                </a:lnTo>
                <a:lnTo>
                  <a:pt x="619" y="5"/>
                </a:lnTo>
                <a:lnTo>
                  <a:pt x="677" y="3"/>
                </a:lnTo>
                <a:lnTo>
                  <a:pt x="728" y="0"/>
                </a:lnTo>
                <a:lnTo>
                  <a:pt x="773" y="0"/>
                </a:lnTo>
                <a:lnTo>
                  <a:pt x="814" y="3"/>
                </a:lnTo>
                <a:lnTo>
                  <a:pt x="852" y="5"/>
                </a:lnTo>
                <a:lnTo>
                  <a:pt x="886" y="9"/>
                </a:lnTo>
                <a:lnTo>
                  <a:pt x="918" y="14"/>
                </a:lnTo>
                <a:lnTo>
                  <a:pt x="948" y="19"/>
                </a:lnTo>
                <a:lnTo>
                  <a:pt x="976" y="26"/>
                </a:lnTo>
                <a:lnTo>
                  <a:pt x="1001" y="31"/>
                </a:lnTo>
                <a:lnTo>
                  <a:pt x="1025" y="37"/>
                </a:lnTo>
                <a:lnTo>
                  <a:pt x="1049" y="43"/>
                </a:lnTo>
                <a:lnTo>
                  <a:pt x="1071" y="48"/>
                </a:lnTo>
                <a:lnTo>
                  <a:pt x="1092" y="54"/>
                </a:lnTo>
                <a:lnTo>
                  <a:pt x="1111" y="57"/>
                </a:lnTo>
                <a:lnTo>
                  <a:pt x="1130" y="60"/>
                </a:lnTo>
                <a:lnTo>
                  <a:pt x="1157" y="64"/>
                </a:lnTo>
                <a:lnTo>
                  <a:pt x="1167" y="65"/>
                </a:lnTo>
                <a:lnTo>
                  <a:pt x="1167" y="65"/>
                </a:lnTo>
                <a:lnTo>
                  <a:pt x="1157" y="66"/>
                </a:lnTo>
                <a:lnTo>
                  <a:pt x="1130" y="69"/>
                </a:lnTo>
                <a:lnTo>
                  <a:pt x="1111" y="71"/>
                </a:lnTo>
                <a:lnTo>
                  <a:pt x="1092" y="75"/>
                </a:lnTo>
                <a:lnTo>
                  <a:pt x="1071" y="80"/>
                </a:lnTo>
                <a:lnTo>
                  <a:pt x="1049" y="85"/>
                </a:lnTo>
                <a:lnTo>
                  <a:pt x="1025" y="92"/>
                </a:lnTo>
                <a:lnTo>
                  <a:pt x="1001" y="98"/>
                </a:lnTo>
                <a:lnTo>
                  <a:pt x="976" y="104"/>
                </a:lnTo>
                <a:lnTo>
                  <a:pt x="948" y="109"/>
                </a:lnTo>
                <a:lnTo>
                  <a:pt x="918" y="114"/>
                </a:lnTo>
                <a:lnTo>
                  <a:pt x="886" y="119"/>
                </a:lnTo>
                <a:lnTo>
                  <a:pt x="852" y="123"/>
                </a:lnTo>
                <a:lnTo>
                  <a:pt x="814" y="126"/>
                </a:lnTo>
                <a:lnTo>
                  <a:pt x="773" y="128"/>
                </a:lnTo>
                <a:lnTo>
                  <a:pt x="728" y="128"/>
                </a:lnTo>
                <a:lnTo>
                  <a:pt x="677" y="126"/>
                </a:lnTo>
                <a:lnTo>
                  <a:pt x="619" y="123"/>
                </a:lnTo>
                <a:lnTo>
                  <a:pt x="552" y="117"/>
                </a:lnTo>
                <a:lnTo>
                  <a:pt x="473" y="109"/>
                </a:lnTo>
                <a:lnTo>
                  <a:pt x="376" y="99"/>
                </a:lnTo>
                <a:lnTo>
                  <a:pt x="248" y="85"/>
                </a:lnTo>
                <a:lnTo>
                  <a:pt x="67" y="70"/>
                </a:lnTo>
                <a:lnTo>
                  <a:pt x="67" y="70"/>
                </a:lnTo>
                <a:lnTo>
                  <a:pt x="53" y="69"/>
                </a:lnTo>
                <a:lnTo>
                  <a:pt x="40" y="67"/>
                </a:lnTo>
                <a:lnTo>
                  <a:pt x="28" y="66"/>
                </a:lnTo>
                <a:lnTo>
                  <a:pt x="0" y="65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58920" y="3887640"/>
            <a:ext cx="1800" cy="180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158920" y="3784680"/>
            <a:ext cx="1852560" cy="203040"/>
          </a:xfrm>
          <a:custGeom>
            <a:avLst/>
            <a:gdLst/>
            <a:ahLst/>
            <a:rect l="l" t="t" r="r" b="b"/>
            <a:pathLst>
              <a:path w="1167" h="128">
                <a:moveTo>
                  <a:pt x="0" y="65"/>
                </a:moveTo>
                <a:lnTo>
                  <a:pt x="28" y="62"/>
                </a:lnTo>
                <a:lnTo>
                  <a:pt x="40" y="61"/>
                </a:lnTo>
                <a:lnTo>
                  <a:pt x="53" y="60"/>
                </a:lnTo>
                <a:lnTo>
                  <a:pt x="67" y="59"/>
                </a:lnTo>
                <a:lnTo>
                  <a:pt x="67" y="59"/>
                </a:lnTo>
                <a:lnTo>
                  <a:pt x="248" y="43"/>
                </a:lnTo>
                <a:lnTo>
                  <a:pt x="376" y="29"/>
                </a:lnTo>
                <a:lnTo>
                  <a:pt x="473" y="19"/>
                </a:lnTo>
                <a:lnTo>
                  <a:pt x="552" y="12"/>
                </a:lnTo>
                <a:lnTo>
                  <a:pt x="619" y="5"/>
                </a:lnTo>
                <a:lnTo>
                  <a:pt x="677" y="3"/>
                </a:lnTo>
                <a:lnTo>
                  <a:pt x="728" y="0"/>
                </a:lnTo>
                <a:lnTo>
                  <a:pt x="773" y="0"/>
                </a:lnTo>
                <a:lnTo>
                  <a:pt x="814" y="3"/>
                </a:lnTo>
                <a:lnTo>
                  <a:pt x="852" y="5"/>
                </a:lnTo>
                <a:lnTo>
                  <a:pt x="886" y="9"/>
                </a:lnTo>
                <a:lnTo>
                  <a:pt x="918" y="14"/>
                </a:lnTo>
                <a:lnTo>
                  <a:pt x="948" y="19"/>
                </a:lnTo>
                <a:lnTo>
                  <a:pt x="976" y="26"/>
                </a:lnTo>
                <a:lnTo>
                  <a:pt x="1001" y="31"/>
                </a:lnTo>
                <a:lnTo>
                  <a:pt x="1025" y="37"/>
                </a:lnTo>
                <a:lnTo>
                  <a:pt x="1049" y="43"/>
                </a:lnTo>
                <a:lnTo>
                  <a:pt x="1071" y="48"/>
                </a:lnTo>
                <a:lnTo>
                  <a:pt x="1092" y="54"/>
                </a:lnTo>
                <a:lnTo>
                  <a:pt x="1111" y="57"/>
                </a:lnTo>
                <a:lnTo>
                  <a:pt x="1130" y="60"/>
                </a:lnTo>
                <a:lnTo>
                  <a:pt x="1157" y="64"/>
                </a:lnTo>
                <a:lnTo>
                  <a:pt x="1167" y="65"/>
                </a:lnTo>
                <a:lnTo>
                  <a:pt x="1167" y="65"/>
                </a:lnTo>
                <a:lnTo>
                  <a:pt x="1157" y="66"/>
                </a:lnTo>
                <a:lnTo>
                  <a:pt x="1130" y="69"/>
                </a:lnTo>
                <a:lnTo>
                  <a:pt x="1111" y="71"/>
                </a:lnTo>
                <a:lnTo>
                  <a:pt x="1092" y="75"/>
                </a:lnTo>
                <a:lnTo>
                  <a:pt x="1071" y="80"/>
                </a:lnTo>
                <a:lnTo>
                  <a:pt x="1049" y="85"/>
                </a:lnTo>
                <a:lnTo>
                  <a:pt x="1025" y="92"/>
                </a:lnTo>
                <a:lnTo>
                  <a:pt x="1001" y="98"/>
                </a:lnTo>
                <a:lnTo>
                  <a:pt x="976" y="104"/>
                </a:lnTo>
                <a:lnTo>
                  <a:pt x="948" y="109"/>
                </a:lnTo>
                <a:lnTo>
                  <a:pt x="918" y="114"/>
                </a:lnTo>
                <a:lnTo>
                  <a:pt x="886" y="119"/>
                </a:lnTo>
                <a:lnTo>
                  <a:pt x="852" y="123"/>
                </a:lnTo>
                <a:lnTo>
                  <a:pt x="814" y="126"/>
                </a:lnTo>
                <a:lnTo>
                  <a:pt x="773" y="128"/>
                </a:lnTo>
                <a:lnTo>
                  <a:pt x="728" y="128"/>
                </a:lnTo>
                <a:lnTo>
                  <a:pt x="677" y="126"/>
                </a:lnTo>
                <a:lnTo>
                  <a:pt x="619" y="123"/>
                </a:lnTo>
                <a:lnTo>
                  <a:pt x="552" y="117"/>
                </a:lnTo>
                <a:lnTo>
                  <a:pt x="473" y="109"/>
                </a:lnTo>
                <a:lnTo>
                  <a:pt x="376" y="99"/>
                </a:lnTo>
                <a:lnTo>
                  <a:pt x="248" y="85"/>
                </a:lnTo>
                <a:lnTo>
                  <a:pt x="67" y="70"/>
                </a:lnTo>
                <a:lnTo>
                  <a:pt x="67" y="70"/>
                </a:lnTo>
                <a:lnTo>
                  <a:pt x="53" y="69"/>
                </a:lnTo>
                <a:lnTo>
                  <a:pt x="40" y="67"/>
                </a:lnTo>
                <a:lnTo>
                  <a:pt x="28" y="66"/>
                </a:lnTo>
                <a:lnTo>
                  <a:pt x="0" y="65"/>
                </a:lnTo>
                <a:lnTo>
                  <a:pt x="0" y="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27560" y="3844800"/>
            <a:ext cx="83880" cy="856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271680" y="3844800"/>
            <a:ext cx="84240" cy="856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6720" y="3849840"/>
            <a:ext cx="745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927680" y="417348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4927680" y="4092120"/>
            <a:ext cx="1440" cy="3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4927680" y="4011120"/>
            <a:ext cx="144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689360" y="4003560"/>
            <a:ext cx="846360" cy="201600"/>
          </a:xfrm>
          <a:custGeom>
            <a:avLst/>
            <a:gdLst/>
            <a:ahLst/>
            <a:rect l="l" t="t" r="r" b="b"/>
            <a:pathLst>
              <a:path w="533" h="127">
                <a:moveTo>
                  <a:pt x="0" y="64"/>
                </a:moveTo>
                <a:lnTo>
                  <a:pt x="6" y="59"/>
                </a:lnTo>
                <a:lnTo>
                  <a:pt x="14" y="56"/>
                </a:lnTo>
                <a:lnTo>
                  <a:pt x="21" y="54"/>
                </a:lnTo>
                <a:lnTo>
                  <a:pt x="27" y="51"/>
                </a:lnTo>
                <a:lnTo>
                  <a:pt x="27" y="51"/>
                </a:lnTo>
                <a:lnTo>
                  <a:pt x="73" y="37"/>
                </a:lnTo>
                <a:lnTo>
                  <a:pt x="114" y="26"/>
                </a:lnTo>
                <a:lnTo>
                  <a:pt x="152" y="17"/>
                </a:lnTo>
                <a:lnTo>
                  <a:pt x="186" y="9"/>
                </a:lnTo>
                <a:lnTo>
                  <a:pt x="217" y="4"/>
                </a:lnTo>
                <a:lnTo>
                  <a:pt x="246" y="2"/>
                </a:lnTo>
                <a:lnTo>
                  <a:pt x="274" y="0"/>
                </a:lnTo>
                <a:lnTo>
                  <a:pt x="300" y="0"/>
                </a:lnTo>
                <a:lnTo>
                  <a:pt x="325" y="2"/>
                </a:lnTo>
                <a:lnTo>
                  <a:pt x="348" y="4"/>
                </a:lnTo>
                <a:lnTo>
                  <a:pt x="369" y="8"/>
                </a:lnTo>
                <a:lnTo>
                  <a:pt x="390" y="12"/>
                </a:lnTo>
                <a:lnTo>
                  <a:pt x="410" y="18"/>
                </a:lnTo>
                <a:lnTo>
                  <a:pt x="429" y="23"/>
                </a:lnTo>
                <a:lnTo>
                  <a:pt x="448" y="29"/>
                </a:lnTo>
                <a:lnTo>
                  <a:pt x="464" y="36"/>
                </a:lnTo>
                <a:lnTo>
                  <a:pt x="481" y="42"/>
                </a:lnTo>
                <a:lnTo>
                  <a:pt x="497" y="48"/>
                </a:lnTo>
                <a:lnTo>
                  <a:pt x="512" y="55"/>
                </a:lnTo>
                <a:lnTo>
                  <a:pt x="533" y="64"/>
                </a:lnTo>
                <a:lnTo>
                  <a:pt x="533" y="64"/>
                </a:lnTo>
                <a:lnTo>
                  <a:pt x="512" y="71"/>
                </a:lnTo>
                <a:lnTo>
                  <a:pt x="497" y="78"/>
                </a:lnTo>
                <a:lnTo>
                  <a:pt x="481" y="84"/>
                </a:lnTo>
                <a:lnTo>
                  <a:pt x="464" y="90"/>
                </a:lnTo>
                <a:lnTo>
                  <a:pt x="448" y="98"/>
                </a:lnTo>
                <a:lnTo>
                  <a:pt x="429" y="103"/>
                </a:lnTo>
                <a:lnTo>
                  <a:pt x="410" y="109"/>
                </a:lnTo>
                <a:lnTo>
                  <a:pt x="390" y="114"/>
                </a:lnTo>
                <a:lnTo>
                  <a:pt x="369" y="119"/>
                </a:lnTo>
                <a:lnTo>
                  <a:pt x="348" y="123"/>
                </a:lnTo>
                <a:lnTo>
                  <a:pt x="325" y="126"/>
                </a:lnTo>
                <a:lnTo>
                  <a:pt x="300" y="127"/>
                </a:lnTo>
                <a:lnTo>
                  <a:pt x="274" y="127"/>
                </a:lnTo>
                <a:lnTo>
                  <a:pt x="246" y="126"/>
                </a:lnTo>
                <a:lnTo>
                  <a:pt x="217" y="122"/>
                </a:lnTo>
                <a:lnTo>
                  <a:pt x="186" y="117"/>
                </a:lnTo>
                <a:lnTo>
                  <a:pt x="152" y="110"/>
                </a:lnTo>
                <a:lnTo>
                  <a:pt x="114" y="102"/>
                </a:lnTo>
                <a:lnTo>
                  <a:pt x="73" y="90"/>
                </a:lnTo>
                <a:lnTo>
                  <a:pt x="27" y="76"/>
                </a:lnTo>
                <a:lnTo>
                  <a:pt x="27" y="76"/>
                </a:lnTo>
                <a:lnTo>
                  <a:pt x="21" y="74"/>
                </a:lnTo>
                <a:lnTo>
                  <a:pt x="14" y="71"/>
                </a:lnTo>
                <a:lnTo>
                  <a:pt x="6" y="69"/>
                </a:lnTo>
                <a:lnTo>
                  <a:pt x="0" y="64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689360" y="4003560"/>
            <a:ext cx="846360" cy="201600"/>
          </a:xfrm>
          <a:custGeom>
            <a:avLst/>
            <a:gdLst/>
            <a:ahLst/>
            <a:rect l="l" t="t" r="r" b="b"/>
            <a:pathLst>
              <a:path w="533" h="127">
                <a:moveTo>
                  <a:pt x="0" y="64"/>
                </a:moveTo>
                <a:lnTo>
                  <a:pt x="6" y="59"/>
                </a:lnTo>
                <a:lnTo>
                  <a:pt x="14" y="56"/>
                </a:lnTo>
                <a:lnTo>
                  <a:pt x="21" y="54"/>
                </a:lnTo>
                <a:lnTo>
                  <a:pt x="27" y="51"/>
                </a:lnTo>
                <a:lnTo>
                  <a:pt x="27" y="51"/>
                </a:lnTo>
                <a:lnTo>
                  <a:pt x="73" y="37"/>
                </a:lnTo>
                <a:lnTo>
                  <a:pt x="114" y="26"/>
                </a:lnTo>
                <a:lnTo>
                  <a:pt x="152" y="17"/>
                </a:lnTo>
                <a:lnTo>
                  <a:pt x="186" y="9"/>
                </a:lnTo>
                <a:lnTo>
                  <a:pt x="217" y="4"/>
                </a:lnTo>
                <a:lnTo>
                  <a:pt x="246" y="2"/>
                </a:lnTo>
                <a:lnTo>
                  <a:pt x="274" y="0"/>
                </a:lnTo>
                <a:lnTo>
                  <a:pt x="300" y="0"/>
                </a:lnTo>
                <a:lnTo>
                  <a:pt x="325" y="2"/>
                </a:lnTo>
                <a:lnTo>
                  <a:pt x="348" y="4"/>
                </a:lnTo>
                <a:lnTo>
                  <a:pt x="369" y="8"/>
                </a:lnTo>
                <a:lnTo>
                  <a:pt x="390" y="12"/>
                </a:lnTo>
                <a:lnTo>
                  <a:pt x="410" y="18"/>
                </a:lnTo>
                <a:lnTo>
                  <a:pt x="429" y="23"/>
                </a:lnTo>
                <a:lnTo>
                  <a:pt x="448" y="29"/>
                </a:lnTo>
                <a:lnTo>
                  <a:pt x="464" y="36"/>
                </a:lnTo>
                <a:lnTo>
                  <a:pt x="481" y="42"/>
                </a:lnTo>
                <a:lnTo>
                  <a:pt x="497" y="48"/>
                </a:lnTo>
                <a:lnTo>
                  <a:pt x="512" y="55"/>
                </a:lnTo>
                <a:lnTo>
                  <a:pt x="533" y="64"/>
                </a:lnTo>
                <a:lnTo>
                  <a:pt x="533" y="64"/>
                </a:lnTo>
                <a:lnTo>
                  <a:pt x="512" y="71"/>
                </a:lnTo>
                <a:lnTo>
                  <a:pt x="497" y="78"/>
                </a:lnTo>
                <a:lnTo>
                  <a:pt x="481" y="84"/>
                </a:lnTo>
                <a:lnTo>
                  <a:pt x="464" y="90"/>
                </a:lnTo>
                <a:lnTo>
                  <a:pt x="448" y="98"/>
                </a:lnTo>
                <a:lnTo>
                  <a:pt x="429" y="103"/>
                </a:lnTo>
                <a:lnTo>
                  <a:pt x="410" y="109"/>
                </a:lnTo>
                <a:lnTo>
                  <a:pt x="390" y="114"/>
                </a:lnTo>
                <a:lnTo>
                  <a:pt x="369" y="119"/>
                </a:lnTo>
                <a:lnTo>
                  <a:pt x="348" y="123"/>
                </a:lnTo>
                <a:lnTo>
                  <a:pt x="325" y="126"/>
                </a:lnTo>
                <a:lnTo>
                  <a:pt x="300" y="127"/>
                </a:lnTo>
                <a:lnTo>
                  <a:pt x="274" y="127"/>
                </a:lnTo>
                <a:lnTo>
                  <a:pt x="246" y="126"/>
                </a:lnTo>
                <a:lnTo>
                  <a:pt x="217" y="122"/>
                </a:lnTo>
                <a:lnTo>
                  <a:pt x="186" y="117"/>
                </a:lnTo>
                <a:lnTo>
                  <a:pt x="152" y="110"/>
                </a:lnTo>
                <a:lnTo>
                  <a:pt x="114" y="102"/>
                </a:lnTo>
                <a:lnTo>
                  <a:pt x="73" y="90"/>
                </a:lnTo>
                <a:lnTo>
                  <a:pt x="27" y="76"/>
                </a:lnTo>
                <a:lnTo>
                  <a:pt x="27" y="76"/>
                </a:lnTo>
                <a:lnTo>
                  <a:pt x="21" y="74"/>
                </a:lnTo>
                <a:lnTo>
                  <a:pt x="14" y="71"/>
                </a:lnTo>
                <a:lnTo>
                  <a:pt x="6" y="69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89360" y="4105440"/>
            <a:ext cx="180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689360" y="4003560"/>
            <a:ext cx="846360" cy="201600"/>
          </a:xfrm>
          <a:custGeom>
            <a:avLst/>
            <a:gdLst/>
            <a:ahLst/>
            <a:rect l="l" t="t" r="r" b="b"/>
            <a:pathLst>
              <a:path w="533" h="127">
                <a:moveTo>
                  <a:pt x="0" y="64"/>
                </a:moveTo>
                <a:lnTo>
                  <a:pt x="6" y="59"/>
                </a:lnTo>
                <a:lnTo>
                  <a:pt x="14" y="56"/>
                </a:lnTo>
                <a:lnTo>
                  <a:pt x="21" y="54"/>
                </a:lnTo>
                <a:lnTo>
                  <a:pt x="27" y="51"/>
                </a:lnTo>
                <a:lnTo>
                  <a:pt x="27" y="51"/>
                </a:lnTo>
                <a:lnTo>
                  <a:pt x="73" y="37"/>
                </a:lnTo>
                <a:lnTo>
                  <a:pt x="114" y="26"/>
                </a:lnTo>
                <a:lnTo>
                  <a:pt x="152" y="17"/>
                </a:lnTo>
                <a:lnTo>
                  <a:pt x="186" y="9"/>
                </a:lnTo>
                <a:lnTo>
                  <a:pt x="217" y="4"/>
                </a:lnTo>
                <a:lnTo>
                  <a:pt x="246" y="2"/>
                </a:lnTo>
                <a:lnTo>
                  <a:pt x="274" y="0"/>
                </a:lnTo>
                <a:lnTo>
                  <a:pt x="300" y="0"/>
                </a:lnTo>
                <a:lnTo>
                  <a:pt x="325" y="2"/>
                </a:lnTo>
                <a:lnTo>
                  <a:pt x="348" y="4"/>
                </a:lnTo>
                <a:lnTo>
                  <a:pt x="369" y="8"/>
                </a:lnTo>
                <a:lnTo>
                  <a:pt x="390" y="12"/>
                </a:lnTo>
                <a:lnTo>
                  <a:pt x="410" y="18"/>
                </a:lnTo>
                <a:lnTo>
                  <a:pt x="429" y="23"/>
                </a:lnTo>
                <a:lnTo>
                  <a:pt x="448" y="29"/>
                </a:lnTo>
                <a:lnTo>
                  <a:pt x="464" y="36"/>
                </a:lnTo>
                <a:lnTo>
                  <a:pt x="481" y="42"/>
                </a:lnTo>
                <a:lnTo>
                  <a:pt x="497" y="48"/>
                </a:lnTo>
                <a:lnTo>
                  <a:pt x="512" y="55"/>
                </a:lnTo>
                <a:lnTo>
                  <a:pt x="533" y="64"/>
                </a:lnTo>
                <a:lnTo>
                  <a:pt x="533" y="64"/>
                </a:lnTo>
                <a:lnTo>
                  <a:pt x="512" y="71"/>
                </a:lnTo>
                <a:lnTo>
                  <a:pt x="497" y="78"/>
                </a:lnTo>
                <a:lnTo>
                  <a:pt x="481" y="84"/>
                </a:lnTo>
                <a:lnTo>
                  <a:pt x="464" y="90"/>
                </a:lnTo>
                <a:lnTo>
                  <a:pt x="448" y="98"/>
                </a:lnTo>
                <a:lnTo>
                  <a:pt x="429" y="103"/>
                </a:lnTo>
                <a:lnTo>
                  <a:pt x="410" y="109"/>
                </a:lnTo>
                <a:lnTo>
                  <a:pt x="390" y="114"/>
                </a:lnTo>
                <a:lnTo>
                  <a:pt x="369" y="119"/>
                </a:lnTo>
                <a:lnTo>
                  <a:pt x="348" y="123"/>
                </a:lnTo>
                <a:lnTo>
                  <a:pt x="325" y="126"/>
                </a:lnTo>
                <a:lnTo>
                  <a:pt x="300" y="127"/>
                </a:lnTo>
                <a:lnTo>
                  <a:pt x="274" y="127"/>
                </a:lnTo>
                <a:lnTo>
                  <a:pt x="246" y="126"/>
                </a:lnTo>
                <a:lnTo>
                  <a:pt x="217" y="122"/>
                </a:lnTo>
                <a:lnTo>
                  <a:pt x="186" y="117"/>
                </a:lnTo>
                <a:lnTo>
                  <a:pt x="152" y="110"/>
                </a:lnTo>
                <a:lnTo>
                  <a:pt x="114" y="102"/>
                </a:lnTo>
                <a:lnTo>
                  <a:pt x="73" y="90"/>
                </a:lnTo>
                <a:lnTo>
                  <a:pt x="27" y="76"/>
                </a:lnTo>
                <a:lnTo>
                  <a:pt x="27" y="76"/>
                </a:lnTo>
                <a:lnTo>
                  <a:pt x="21" y="74"/>
                </a:lnTo>
                <a:lnTo>
                  <a:pt x="14" y="71"/>
                </a:lnTo>
                <a:lnTo>
                  <a:pt x="6" y="69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570560" y="4062240"/>
            <a:ext cx="83880" cy="8424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083200" y="4062240"/>
            <a:ext cx="8424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087880" y="4067280"/>
            <a:ext cx="745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-1417680" y="4221000"/>
            <a:ext cx="5843520" cy="201600"/>
          </a:xfrm>
          <a:custGeom>
            <a:avLst/>
            <a:gdLst/>
            <a:ahLst/>
            <a:rect l="l" t="t" r="r" b="b"/>
            <a:pathLst>
              <a:path w="3681" h="127">
                <a:moveTo>
                  <a:pt x="0" y="63"/>
                </a:moveTo>
                <a:lnTo>
                  <a:pt x="133" y="53"/>
                </a:lnTo>
                <a:lnTo>
                  <a:pt x="399" y="39"/>
                </a:lnTo>
                <a:lnTo>
                  <a:pt x="499" y="36"/>
                </a:lnTo>
                <a:lnTo>
                  <a:pt x="931" y="18"/>
                </a:lnTo>
                <a:lnTo>
                  <a:pt x="998" y="15"/>
                </a:lnTo>
                <a:lnTo>
                  <a:pt x="1497" y="4"/>
                </a:lnTo>
                <a:lnTo>
                  <a:pt x="1996" y="0"/>
                </a:lnTo>
                <a:lnTo>
                  <a:pt x="1996" y="0"/>
                </a:lnTo>
                <a:lnTo>
                  <a:pt x="2417" y="4"/>
                </a:lnTo>
                <a:lnTo>
                  <a:pt x="2607" y="9"/>
                </a:lnTo>
                <a:lnTo>
                  <a:pt x="2738" y="13"/>
                </a:lnTo>
                <a:lnTo>
                  <a:pt x="2838" y="15"/>
                </a:lnTo>
                <a:lnTo>
                  <a:pt x="2911" y="17"/>
                </a:lnTo>
                <a:lnTo>
                  <a:pt x="2974" y="19"/>
                </a:lnTo>
                <a:lnTo>
                  <a:pt x="3029" y="22"/>
                </a:lnTo>
                <a:lnTo>
                  <a:pt x="3077" y="23"/>
                </a:lnTo>
                <a:lnTo>
                  <a:pt x="3120" y="25"/>
                </a:lnTo>
                <a:lnTo>
                  <a:pt x="3159" y="28"/>
                </a:lnTo>
                <a:lnTo>
                  <a:pt x="3196" y="29"/>
                </a:lnTo>
                <a:lnTo>
                  <a:pt x="3229" y="32"/>
                </a:lnTo>
                <a:lnTo>
                  <a:pt x="3259" y="34"/>
                </a:lnTo>
                <a:lnTo>
                  <a:pt x="3290" y="36"/>
                </a:lnTo>
                <a:lnTo>
                  <a:pt x="3317" y="37"/>
                </a:lnTo>
                <a:lnTo>
                  <a:pt x="3344" y="39"/>
                </a:lnTo>
                <a:lnTo>
                  <a:pt x="3369" y="41"/>
                </a:lnTo>
                <a:lnTo>
                  <a:pt x="3392" y="42"/>
                </a:lnTo>
                <a:lnTo>
                  <a:pt x="3415" y="43"/>
                </a:lnTo>
                <a:lnTo>
                  <a:pt x="3435" y="44"/>
                </a:lnTo>
                <a:lnTo>
                  <a:pt x="3454" y="46"/>
                </a:lnTo>
                <a:lnTo>
                  <a:pt x="3472" y="47"/>
                </a:lnTo>
                <a:lnTo>
                  <a:pt x="3490" y="48"/>
                </a:lnTo>
                <a:lnTo>
                  <a:pt x="3506" y="49"/>
                </a:lnTo>
                <a:lnTo>
                  <a:pt x="3522" y="51"/>
                </a:lnTo>
                <a:lnTo>
                  <a:pt x="3538" y="51"/>
                </a:lnTo>
                <a:lnTo>
                  <a:pt x="3553" y="52"/>
                </a:lnTo>
                <a:lnTo>
                  <a:pt x="3568" y="53"/>
                </a:lnTo>
                <a:lnTo>
                  <a:pt x="3582" y="54"/>
                </a:lnTo>
                <a:lnTo>
                  <a:pt x="3596" y="56"/>
                </a:lnTo>
                <a:lnTo>
                  <a:pt x="3609" y="57"/>
                </a:lnTo>
                <a:lnTo>
                  <a:pt x="3621" y="58"/>
                </a:lnTo>
                <a:lnTo>
                  <a:pt x="3634" y="60"/>
                </a:lnTo>
                <a:lnTo>
                  <a:pt x="3647" y="60"/>
                </a:lnTo>
                <a:lnTo>
                  <a:pt x="3658" y="61"/>
                </a:lnTo>
                <a:lnTo>
                  <a:pt x="3669" y="62"/>
                </a:lnTo>
                <a:lnTo>
                  <a:pt x="3681" y="63"/>
                </a:lnTo>
                <a:lnTo>
                  <a:pt x="3681" y="63"/>
                </a:lnTo>
                <a:lnTo>
                  <a:pt x="3669" y="65"/>
                </a:lnTo>
                <a:lnTo>
                  <a:pt x="3658" y="66"/>
                </a:lnTo>
                <a:lnTo>
                  <a:pt x="3647" y="67"/>
                </a:lnTo>
                <a:lnTo>
                  <a:pt x="3634" y="67"/>
                </a:lnTo>
                <a:lnTo>
                  <a:pt x="3621" y="68"/>
                </a:lnTo>
                <a:lnTo>
                  <a:pt x="3609" y="70"/>
                </a:lnTo>
                <a:lnTo>
                  <a:pt x="3596" y="71"/>
                </a:lnTo>
                <a:lnTo>
                  <a:pt x="3582" y="72"/>
                </a:lnTo>
                <a:lnTo>
                  <a:pt x="3568" y="73"/>
                </a:lnTo>
                <a:lnTo>
                  <a:pt x="3553" y="75"/>
                </a:lnTo>
                <a:lnTo>
                  <a:pt x="3538" y="76"/>
                </a:lnTo>
                <a:lnTo>
                  <a:pt x="3522" y="77"/>
                </a:lnTo>
                <a:lnTo>
                  <a:pt x="3506" y="79"/>
                </a:lnTo>
                <a:lnTo>
                  <a:pt x="3490" y="79"/>
                </a:lnTo>
                <a:lnTo>
                  <a:pt x="3472" y="80"/>
                </a:lnTo>
                <a:lnTo>
                  <a:pt x="3454" y="81"/>
                </a:lnTo>
                <a:lnTo>
                  <a:pt x="3435" y="82"/>
                </a:lnTo>
                <a:lnTo>
                  <a:pt x="3415" y="84"/>
                </a:lnTo>
                <a:lnTo>
                  <a:pt x="3392" y="85"/>
                </a:lnTo>
                <a:lnTo>
                  <a:pt x="3369" y="86"/>
                </a:lnTo>
                <a:lnTo>
                  <a:pt x="3344" y="89"/>
                </a:lnTo>
                <a:lnTo>
                  <a:pt x="3317" y="90"/>
                </a:lnTo>
                <a:lnTo>
                  <a:pt x="3290" y="91"/>
                </a:lnTo>
                <a:lnTo>
                  <a:pt x="3259" y="94"/>
                </a:lnTo>
                <a:lnTo>
                  <a:pt x="3229" y="95"/>
                </a:lnTo>
                <a:lnTo>
                  <a:pt x="3196" y="98"/>
                </a:lnTo>
                <a:lnTo>
                  <a:pt x="3159" y="99"/>
                </a:lnTo>
                <a:lnTo>
                  <a:pt x="3120" y="101"/>
                </a:lnTo>
                <a:lnTo>
                  <a:pt x="3077" y="104"/>
                </a:lnTo>
                <a:lnTo>
                  <a:pt x="3029" y="105"/>
                </a:lnTo>
                <a:lnTo>
                  <a:pt x="2974" y="108"/>
                </a:lnTo>
                <a:lnTo>
                  <a:pt x="2911" y="110"/>
                </a:lnTo>
                <a:lnTo>
                  <a:pt x="2838" y="113"/>
                </a:lnTo>
                <a:lnTo>
                  <a:pt x="2738" y="114"/>
                </a:lnTo>
                <a:lnTo>
                  <a:pt x="2607" y="118"/>
                </a:lnTo>
                <a:lnTo>
                  <a:pt x="2417" y="123"/>
                </a:lnTo>
                <a:lnTo>
                  <a:pt x="1996" y="127"/>
                </a:lnTo>
                <a:lnTo>
                  <a:pt x="1996" y="127"/>
                </a:lnTo>
                <a:lnTo>
                  <a:pt x="1497" y="123"/>
                </a:lnTo>
                <a:lnTo>
                  <a:pt x="998" y="111"/>
                </a:lnTo>
                <a:lnTo>
                  <a:pt x="931" y="109"/>
                </a:lnTo>
                <a:lnTo>
                  <a:pt x="499" y="92"/>
                </a:lnTo>
                <a:lnTo>
                  <a:pt x="399" y="87"/>
                </a:lnTo>
                <a:lnTo>
                  <a:pt x="133" y="73"/>
                </a:lnTo>
                <a:lnTo>
                  <a:pt x="0" y="63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504800" y="4221000"/>
            <a:ext cx="2921040" cy="201600"/>
          </a:xfrm>
          <a:custGeom>
            <a:avLst/>
            <a:gdLst/>
            <a:ahLst/>
            <a:rect l="l" t="t" r="r" b="b"/>
            <a:pathLst>
              <a:path w="1840" h="127">
                <a:moveTo>
                  <a:pt x="0" y="1"/>
                </a:moveTo>
                <a:lnTo>
                  <a:pt x="155" y="0"/>
                </a:lnTo>
                <a:lnTo>
                  <a:pt x="155" y="0"/>
                </a:lnTo>
                <a:lnTo>
                  <a:pt x="576" y="4"/>
                </a:lnTo>
                <a:lnTo>
                  <a:pt x="766" y="9"/>
                </a:lnTo>
                <a:lnTo>
                  <a:pt x="897" y="13"/>
                </a:lnTo>
                <a:lnTo>
                  <a:pt x="997" y="15"/>
                </a:lnTo>
                <a:lnTo>
                  <a:pt x="1070" y="17"/>
                </a:lnTo>
                <a:lnTo>
                  <a:pt x="1133" y="19"/>
                </a:lnTo>
                <a:lnTo>
                  <a:pt x="1188" y="22"/>
                </a:lnTo>
                <a:lnTo>
                  <a:pt x="1236" y="23"/>
                </a:lnTo>
                <a:lnTo>
                  <a:pt x="1279" y="25"/>
                </a:lnTo>
                <a:lnTo>
                  <a:pt x="1318" y="28"/>
                </a:lnTo>
                <a:lnTo>
                  <a:pt x="1355" y="29"/>
                </a:lnTo>
                <a:lnTo>
                  <a:pt x="1388" y="32"/>
                </a:lnTo>
                <a:lnTo>
                  <a:pt x="1418" y="34"/>
                </a:lnTo>
                <a:lnTo>
                  <a:pt x="1449" y="36"/>
                </a:lnTo>
                <a:lnTo>
                  <a:pt x="1476" y="37"/>
                </a:lnTo>
                <a:lnTo>
                  <a:pt x="1503" y="39"/>
                </a:lnTo>
                <a:lnTo>
                  <a:pt x="1528" y="41"/>
                </a:lnTo>
                <a:lnTo>
                  <a:pt x="1551" y="42"/>
                </a:lnTo>
                <a:lnTo>
                  <a:pt x="1574" y="43"/>
                </a:lnTo>
                <a:lnTo>
                  <a:pt x="1594" y="44"/>
                </a:lnTo>
                <a:lnTo>
                  <a:pt x="1613" y="46"/>
                </a:lnTo>
                <a:lnTo>
                  <a:pt x="1631" y="47"/>
                </a:lnTo>
                <a:lnTo>
                  <a:pt x="1649" y="48"/>
                </a:lnTo>
                <a:lnTo>
                  <a:pt x="1665" y="49"/>
                </a:lnTo>
                <a:lnTo>
                  <a:pt x="1681" y="51"/>
                </a:lnTo>
                <a:lnTo>
                  <a:pt x="1697" y="51"/>
                </a:lnTo>
                <a:lnTo>
                  <a:pt x="1712" y="52"/>
                </a:lnTo>
                <a:lnTo>
                  <a:pt x="1727" y="53"/>
                </a:lnTo>
                <a:lnTo>
                  <a:pt x="1741" y="54"/>
                </a:lnTo>
                <a:lnTo>
                  <a:pt x="1755" y="56"/>
                </a:lnTo>
                <a:lnTo>
                  <a:pt x="1768" y="57"/>
                </a:lnTo>
                <a:lnTo>
                  <a:pt x="1780" y="58"/>
                </a:lnTo>
                <a:lnTo>
                  <a:pt x="1793" y="60"/>
                </a:lnTo>
                <a:lnTo>
                  <a:pt x="1806" y="60"/>
                </a:lnTo>
                <a:lnTo>
                  <a:pt x="1817" y="61"/>
                </a:lnTo>
                <a:lnTo>
                  <a:pt x="1828" y="62"/>
                </a:lnTo>
                <a:lnTo>
                  <a:pt x="1840" y="63"/>
                </a:lnTo>
                <a:lnTo>
                  <a:pt x="1840" y="63"/>
                </a:lnTo>
                <a:lnTo>
                  <a:pt x="1828" y="65"/>
                </a:lnTo>
                <a:lnTo>
                  <a:pt x="1817" y="66"/>
                </a:lnTo>
                <a:lnTo>
                  <a:pt x="1806" y="67"/>
                </a:lnTo>
                <a:lnTo>
                  <a:pt x="1793" y="67"/>
                </a:lnTo>
                <a:lnTo>
                  <a:pt x="1780" y="68"/>
                </a:lnTo>
                <a:lnTo>
                  <a:pt x="1768" y="70"/>
                </a:lnTo>
                <a:lnTo>
                  <a:pt x="1755" y="71"/>
                </a:lnTo>
                <a:lnTo>
                  <a:pt x="1741" y="72"/>
                </a:lnTo>
                <a:lnTo>
                  <a:pt x="1727" y="73"/>
                </a:lnTo>
                <a:lnTo>
                  <a:pt x="1712" y="75"/>
                </a:lnTo>
                <a:lnTo>
                  <a:pt x="1697" y="76"/>
                </a:lnTo>
                <a:lnTo>
                  <a:pt x="1681" y="77"/>
                </a:lnTo>
                <a:lnTo>
                  <a:pt x="1665" y="79"/>
                </a:lnTo>
                <a:lnTo>
                  <a:pt x="1649" y="79"/>
                </a:lnTo>
                <a:lnTo>
                  <a:pt x="1631" y="80"/>
                </a:lnTo>
                <a:lnTo>
                  <a:pt x="1613" y="81"/>
                </a:lnTo>
                <a:lnTo>
                  <a:pt x="1594" y="82"/>
                </a:lnTo>
                <a:lnTo>
                  <a:pt x="1574" y="84"/>
                </a:lnTo>
                <a:lnTo>
                  <a:pt x="1551" y="85"/>
                </a:lnTo>
                <a:lnTo>
                  <a:pt x="1528" y="86"/>
                </a:lnTo>
                <a:lnTo>
                  <a:pt x="1503" y="89"/>
                </a:lnTo>
                <a:lnTo>
                  <a:pt x="1476" y="90"/>
                </a:lnTo>
                <a:lnTo>
                  <a:pt x="1449" y="91"/>
                </a:lnTo>
                <a:lnTo>
                  <a:pt x="1418" y="94"/>
                </a:lnTo>
                <a:lnTo>
                  <a:pt x="1388" y="95"/>
                </a:lnTo>
                <a:lnTo>
                  <a:pt x="1355" y="98"/>
                </a:lnTo>
                <a:lnTo>
                  <a:pt x="1318" y="99"/>
                </a:lnTo>
                <a:lnTo>
                  <a:pt x="1279" y="101"/>
                </a:lnTo>
                <a:lnTo>
                  <a:pt x="1236" y="104"/>
                </a:lnTo>
                <a:lnTo>
                  <a:pt x="1188" y="105"/>
                </a:lnTo>
                <a:lnTo>
                  <a:pt x="1133" y="108"/>
                </a:lnTo>
                <a:lnTo>
                  <a:pt x="1070" y="110"/>
                </a:lnTo>
                <a:lnTo>
                  <a:pt x="997" y="113"/>
                </a:lnTo>
                <a:lnTo>
                  <a:pt x="897" y="114"/>
                </a:lnTo>
                <a:lnTo>
                  <a:pt x="766" y="118"/>
                </a:lnTo>
                <a:lnTo>
                  <a:pt x="576" y="123"/>
                </a:lnTo>
                <a:lnTo>
                  <a:pt x="155" y="127"/>
                </a:lnTo>
                <a:lnTo>
                  <a:pt x="155" y="127"/>
                </a:lnTo>
                <a:lnTo>
                  <a:pt x="0" y="125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504800" y="4221000"/>
            <a:ext cx="2921040" cy="201600"/>
          </a:xfrm>
          <a:custGeom>
            <a:avLst/>
            <a:gdLst/>
            <a:ahLst/>
            <a:rect l="l" t="t" r="r" b="b"/>
            <a:pathLst>
              <a:path w="1840" h="127">
                <a:moveTo>
                  <a:pt x="0" y="1"/>
                </a:moveTo>
                <a:lnTo>
                  <a:pt x="155" y="0"/>
                </a:lnTo>
                <a:lnTo>
                  <a:pt x="155" y="0"/>
                </a:lnTo>
                <a:lnTo>
                  <a:pt x="576" y="4"/>
                </a:lnTo>
                <a:lnTo>
                  <a:pt x="766" y="9"/>
                </a:lnTo>
                <a:lnTo>
                  <a:pt x="897" y="13"/>
                </a:lnTo>
                <a:lnTo>
                  <a:pt x="997" y="15"/>
                </a:lnTo>
                <a:lnTo>
                  <a:pt x="1070" y="17"/>
                </a:lnTo>
                <a:lnTo>
                  <a:pt x="1133" y="19"/>
                </a:lnTo>
                <a:lnTo>
                  <a:pt x="1188" y="22"/>
                </a:lnTo>
                <a:lnTo>
                  <a:pt x="1236" y="23"/>
                </a:lnTo>
                <a:lnTo>
                  <a:pt x="1279" y="25"/>
                </a:lnTo>
                <a:lnTo>
                  <a:pt x="1318" y="28"/>
                </a:lnTo>
                <a:lnTo>
                  <a:pt x="1355" y="29"/>
                </a:lnTo>
                <a:lnTo>
                  <a:pt x="1388" y="32"/>
                </a:lnTo>
                <a:lnTo>
                  <a:pt x="1418" y="34"/>
                </a:lnTo>
                <a:lnTo>
                  <a:pt x="1449" y="36"/>
                </a:lnTo>
                <a:lnTo>
                  <a:pt x="1476" y="37"/>
                </a:lnTo>
                <a:lnTo>
                  <a:pt x="1503" y="39"/>
                </a:lnTo>
                <a:lnTo>
                  <a:pt x="1528" y="41"/>
                </a:lnTo>
                <a:lnTo>
                  <a:pt x="1551" y="42"/>
                </a:lnTo>
                <a:lnTo>
                  <a:pt x="1574" y="43"/>
                </a:lnTo>
                <a:lnTo>
                  <a:pt x="1594" y="44"/>
                </a:lnTo>
                <a:lnTo>
                  <a:pt x="1613" y="46"/>
                </a:lnTo>
                <a:lnTo>
                  <a:pt x="1631" y="47"/>
                </a:lnTo>
                <a:lnTo>
                  <a:pt x="1649" y="48"/>
                </a:lnTo>
                <a:lnTo>
                  <a:pt x="1665" y="49"/>
                </a:lnTo>
                <a:lnTo>
                  <a:pt x="1681" y="51"/>
                </a:lnTo>
                <a:lnTo>
                  <a:pt x="1697" y="51"/>
                </a:lnTo>
                <a:lnTo>
                  <a:pt x="1712" y="52"/>
                </a:lnTo>
                <a:lnTo>
                  <a:pt x="1727" y="53"/>
                </a:lnTo>
                <a:lnTo>
                  <a:pt x="1741" y="54"/>
                </a:lnTo>
                <a:lnTo>
                  <a:pt x="1755" y="56"/>
                </a:lnTo>
                <a:lnTo>
                  <a:pt x="1768" y="57"/>
                </a:lnTo>
                <a:lnTo>
                  <a:pt x="1780" y="58"/>
                </a:lnTo>
                <a:lnTo>
                  <a:pt x="1793" y="60"/>
                </a:lnTo>
                <a:lnTo>
                  <a:pt x="1806" y="60"/>
                </a:lnTo>
                <a:lnTo>
                  <a:pt x="1817" y="61"/>
                </a:lnTo>
                <a:lnTo>
                  <a:pt x="1828" y="62"/>
                </a:lnTo>
                <a:lnTo>
                  <a:pt x="1840" y="63"/>
                </a:lnTo>
                <a:lnTo>
                  <a:pt x="1840" y="63"/>
                </a:lnTo>
                <a:lnTo>
                  <a:pt x="1828" y="65"/>
                </a:lnTo>
                <a:lnTo>
                  <a:pt x="1817" y="66"/>
                </a:lnTo>
                <a:lnTo>
                  <a:pt x="1806" y="67"/>
                </a:lnTo>
                <a:lnTo>
                  <a:pt x="1793" y="67"/>
                </a:lnTo>
                <a:lnTo>
                  <a:pt x="1780" y="68"/>
                </a:lnTo>
                <a:lnTo>
                  <a:pt x="1768" y="70"/>
                </a:lnTo>
                <a:lnTo>
                  <a:pt x="1755" y="71"/>
                </a:lnTo>
                <a:lnTo>
                  <a:pt x="1741" y="72"/>
                </a:lnTo>
                <a:lnTo>
                  <a:pt x="1727" y="73"/>
                </a:lnTo>
                <a:lnTo>
                  <a:pt x="1712" y="75"/>
                </a:lnTo>
                <a:lnTo>
                  <a:pt x="1697" y="76"/>
                </a:lnTo>
                <a:lnTo>
                  <a:pt x="1681" y="77"/>
                </a:lnTo>
                <a:lnTo>
                  <a:pt x="1665" y="79"/>
                </a:lnTo>
                <a:lnTo>
                  <a:pt x="1649" y="79"/>
                </a:lnTo>
                <a:lnTo>
                  <a:pt x="1631" y="80"/>
                </a:lnTo>
                <a:lnTo>
                  <a:pt x="1613" y="81"/>
                </a:lnTo>
                <a:lnTo>
                  <a:pt x="1594" y="82"/>
                </a:lnTo>
                <a:lnTo>
                  <a:pt x="1574" y="84"/>
                </a:lnTo>
                <a:lnTo>
                  <a:pt x="1551" y="85"/>
                </a:lnTo>
                <a:lnTo>
                  <a:pt x="1528" y="86"/>
                </a:lnTo>
                <a:lnTo>
                  <a:pt x="1503" y="89"/>
                </a:lnTo>
                <a:lnTo>
                  <a:pt x="1476" y="90"/>
                </a:lnTo>
                <a:lnTo>
                  <a:pt x="1449" y="91"/>
                </a:lnTo>
                <a:lnTo>
                  <a:pt x="1418" y="94"/>
                </a:lnTo>
                <a:lnTo>
                  <a:pt x="1388" y="95"/>
                </a:lnTo>
                <a:lnTo>
                  <a:pt x="1355" y="98"/>
                </a:lnTo>
                <a:lnTo>
                  <a:pt x="1318" y="99"/>
                </a:lnTo>
                <a:lnTo>
                  <a:pt x="1279" y="101"/>
                </a:lnTo>
                <a:lnTo>
                  <a:pt x="1236" y="104"/>
                </a:lnTo>
                <a:lnTo>
                  <a:pt x="1188" y="105"/>
                </a:lnTo>
                <a:lnTo>
                  <a:pt x="1133" y="108"/>
                </a:lnTo>
                <a:lnTo>
                  <a:pt x="1070" y="110"/>
                </a:lnTo>
                <a:lnTo>
                  <a:pt x="997" y="113"/>
                </a:lnTo>
                <a:lnTo>
                  <a:pt x="897" y="114"/>
                </a:lnTo>
                <a:lnTo>
                  <a:pt x="766" y="118"/>
                </a:lnTo>
                <a:lnTo>
                  <a:pt x="576" y="123"/>
                </a:lnTo>
                <a:lnTo>
                  <a:pt x="155" y="127"/>
                </a:lnTo>
                <a:lnTo>
                  <a:pt x="155" y="127"/>
                </a:lnTo>
                <a:lnTo>
                  <a:pt x="0" y="1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643120" y="4280040"/>
            <a:ext cx="84240" cy="838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708200" y="4280040"/>
            <a:ext cx="84240" cy="838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12880" y="4284720"/>
            <a:ext cx="74520" cy="74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4927680" y="4606920"/>
            <a:ext cx="1440" cy="396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4927680" y="4525560"/>
            <a:ext cx="1440" cy="414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4927680" y="4446720"/>
            <a:ext cx="1440" cy="396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809800" y="4438800"/>
            <a:ext cx="2032200" cy="199800"/>
          </a:xfrm>
          <a:custGeom>
            <a:avLst/>
            <a:gdLst/>
            <a:ahLst/>
            <a:rect l="l" t="t" r="r" b="b"/>
            <a:pathLst>
              <a:path w="1280" h="126">
                <a:moveTo>
                  <a:pt x="0" y="63"/>
                </a:moveTo>
                <a:lnTo>
                  <a:pt x="18" y="58"/>
                </a:lnTo>
                <a:lnTo>
                  <a:pt x="51" y="52"/>
                </a:lnTo>
                <a:lnTo>
                  <a:pt x="145" y="35"/>
                </a:lnTo>
                <a:lnTo>
                  <a:pt x="291" y="16"/>
                </a:lnTo>
                <a:lnTo>
                  <a:pt x="437" y="5"/>
                </a:lnTo>
                <a:lnTo>
                  <a:pt x="516" y="1"/>
                </a:lnTo>
                <a:lnTo>
                  <a:pt x="582" y="0"/>
                </a:lnTo>
                <a:lnTo>
                  <a:pt x="582" y="0"/>
                </a:lnTo>
                <a:lnTo>
                  <a:pt x="633" y="0"/>
                </a:lnTo>
                <a:lnTo>
                  <a:pt x="678" y="1"/>
                </a:lnTo>
                <a:lnTo>
                  <a:pt x="719" y="2"/>
                </a:lnTo>
                <a:lnTo>
                  <a:pt x="757" y="4"/>
                </a:lnTo>
                <a:lnTo>
                  <a:pt x="791" y="6"/>
                </a:lnTo>
                <a:lnTo>
                  <a:pt x="823" y="7"/>
                </a:lnTo>
                <a:lnTo>
                  <a:pt x="853" y="10"/>
                </a:lnTo>
                <a:lnTo>
                  <a:pt x="881" y="12"/>
                </a:lnTo>
                <a:lnTo>
                  <a:pt x="906" y="14"/>
                </a:lnTo>
                <a:lnTo>
                  <a:pt x="932" y="16"/>
                </a:lnTo>
                <a:lnTo>
                  <a:pt x="967" y="20"/>
                </a:lnTo>
                <a:lnTo>
                  <a:pt x="987" y="23"/>
                </a:lnTo>
                <a:lnTo>
                  <a:pt x="1006" y="24"/>
                </a:lnTo>
                <a:lnTo>
                  <a:pt x="1024" y="26"/>
                </a:lnTo>
                <a:lnTo>
                  <a:pt x="1042" y="29"/>
                </a:lnTo>
                <a:lnTo>
                  <a:pt x="1058" y="30"/>
                </a:lnTo>
                <a:lnTo>
                  <a:pt x="1075" y="33"/>
                </a:lnTo>
                <a:lnTo>
                  <a:pt x="1090" y="35"/>
                </a:lnTo>
                <a:lnTo>
                  <a:pt x="1105" y="36"/>
                </a:lnTo>
                <a:lnTo>
                  <a:pt x="1124" y="39"/>
                </a:lnTo>
                <a:lnTo>
                  <a:pt x="1142" y="43"/>
                </a:lnTo>
                <a:lnTo>
                  <a:pt x="1160" y="45"/>
                </a:lnTo>
                <a:lnTo>
                  <a:pt x="1172" y="47"/>
                </a:lnTo>
                <a:lnTo>
                  <a:pt x="1186" y="49"/>
                </a:lnTo>
                <a:lnTo>
                  <a:pt x="1198" y="52"/>
                </a:lnTo>
                <a:lnTo>
                  <a:pt x="1210" y="53"/>
                </a:lnTo>
                <a:lnTo>
                  <a:pt x="1222" y="55"/>
                </a:lnTo>
                <a:lnTo>
                  <a:pt x="1233" y="57"/>
                </a:lnTo>
                <a:lnTo>
                  <a:pt x="1244" y="59"/>
                </a:lnTo>
                <a:lnTo>
                  <a:pt x="1256" y="61"/>
                </a:lnTo>
                <a:lnTo>
                  <a:pt x="1268" y="62"/>
                </a:lnTo>
                <a:lnTo>
                  <a:pt x="1280" y="63"/>
                </a:lnTo>
                <a:lnTo>
                  <a:pt x="1280" y="63"/>
                </a:lnTo>
                <a:lnTo>
                  <a:pt x="1268" y="66"/>
                </a:lnTo>
                <a:lnTo>
                  <a:pt x="1256" y="67"/>
                </a:lnTo>
                <a:lnTo>
                  <a:pt x="1244" y="68"/>
                </a:lnTo>
                <a:lnTo>
                  <a:pt x="1233" y="69"/>
                </a:lnTo>
                <a:lnTo>
                  <a:pt x="1222" y="72"/>
                </a:lnTo>
                <a:lnTo>
                  <a:pt x="1210" y="73"/>
                </a:lnTo>
                <a:lnTo>
                  <a:pt x="1198" y="76"/>
                </a:lnTo>
                <a:lnTo>
                  <a:pt x="1186" y="78"/>
                </a:lnTo>
                <a:lnTo>
                  <a:pt x="1172" y="80"/>
                </a:lnTo>
                <a:lnTo>
                  <a:pt x="1160" y="82"/>
                </a:lnTo>
                <a:lnTo>
                  <a:pt x="1142" y="85"/>
                </a:lnTo>
                <a:lnTo>
                  <a:pt x="1124" y="87"/>
                </a:lnTo>
                <a:lnTo>
                  <a:pt x="1105" y="90"/>
                </a:lnTo>
                <a:lnTo>
                  <a:pt x="1090" y="92"/>
                </a:lnTo>
                <a:lnTo>
                  <a:pt x="1075" y="93"/>
                </a:lnTo>
                <a:lnTo>
                  <a:pt x="1058" y="96"/>
                </a:lnTo>
                <a:lnTo>
                  <a:pt x="1042" y="99"/>
                </a:lnTo>
                <a:lnTo>
                  <a:pt x="1024" y="101"/>
                </a:lnTo>
                <a:lnTo>
                  <a:pt x="1006" y="102"/>
                </a:lnTo>
                <a:lnTo>
                  <a:pt x="987" y="105"/>
                </a:lnTo>
                <a:lnTo>
                  <a:pt x="967" y="107"/>
                </a:lnTo>
                <a:lnTo>
                  <a:pt x="932" y="110"/>
                </a:lnTo>
                <a:lnTo>
                  <a:pt x="906" y="112"/>
                </a:lnTo>
                <a:lnTo>
                  <a:pt x="881" y="115"/>
                </a:lnTo>
                <a:lnTo>
                  <a:pt x="853" y="117"/>
                </a:lnTo>
                <a:lnTo>
                  <a:pt x="823" y="119"/>
                </a:lnTo>
                <a:lnTo>
                  <a:pt x="791" y="121"/>
                </a:lnTo>
                <a:lnTo>
                  <a:pt x="757" y="123"/>
                </a:lnTo>
                <a:lnTo>
                  <a:pt x="719" y="125"/>
                </a:lnTo>
                <a:lnTo>
                  <a:pt x="678" y="126"/>
                </a:lnTo>
                <a:lnTo>
                  <a:pt x="633" y="126"/>
                </a:lnTo>
                <a:lnTo>
                  <a:pt x="582" y="126"/>
                </a:lnTo>
                <a:lnTo>
                  <a:pt x="582" y="126"/>
                </a:lnTo>
                <a:lnTo>
                  <a:pt x="516" y="126"/>
                </a:lnTo>
                <a:lnTo>
                  <a:pt x="437" y="123"/>
                </a:lnTo>
                <a:lnTo>
                  <a:pt x="291" y="111"/>
                </a:lnTo>
                <a:lnTo>
                  <a:pt x="145" y="92"/>
                </a:lnTo>
                <a:lnTo>
                  <a:pt x="51" y="76"/>
                </a:lnTo>
                <a:lnTo>
                  <a:pt x="18" y="68"/>
                </a:lnTo>
                <a:lnTo>
                  <a:pt x="0" y="63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809800" y="4438800"/>
            <a:ext cx="2032200" cy="199800"/>
          </a:xfrm>
          <a:custGeom>
            <a:avLst/>
            <a:gdLst/>
            <a:ahLst/>
            <a:rect l="l" t="t" r="r" b="b"/>
            <a:pathLst>
              <a:path w="1280" h="126">
                <a:moveTo>
                  <a:pt x="0" y="63"/>
                </a:moveTo>
                <a:lnTo>
                  <a:pt x="18" y="58"/>
                </a:lnTo>
                <a:lnTo>
                  <a:pt x="51" y="52"/>
                </a:lnTo>
                <a:lnTo>
                  <a:pt x="145" y="35"/>
                </a:lnTo>
                <a:lnTo>
                  <a:pt x="291" y="16"/>
                </a:lnTo>
                <a:lnTo>
                  <a:pt x="437" y="5"/>
                </a:lnTo>
                <a:lnTo>
                  <a:pt x="516" y="1"/>
                </a:lnTo>
                <a:lnTo>
                  <a:pt x="582" y="0"/>
                </a:lnTo>
                <a:lnTo>
                  <a:pt x="582" y="0"/>
                </a:lnTo>
                <a:lnTo>
                  <a:pt x="633" y="0"/>
                </a:lnTo>
                <a:lnTo>
                  <a:pt x="678" y="1"/>
                </a:lnTo>
                <a:lnTo>
                  <a:pt x="719" y="2"/>
                </a:lnTo>
                <a:lnTo>
                  <a:pt x="757" y="4"/>
                </a:lnTo>
                <a:lnTo>
                  <a:pt x="791" y="6"/>
                </a:lnTo>
                <a:lnTo>
                  <a:pt x="823" y="7"/>
                </a:lnTo>
                <a:lnTo>
                  <a:pt x="853" y="10"/>
                </a:lnTo>
                <a:lnTo>
                  <a:pt x="881" y="12"/>
                </a:lnTo>
                <a:lnTo>
                  <a:pt x="906" y="14"/>
                </a:lnTo>
                <a:lnTo>
                  <a:pt x="932" y="16"/>
                </a:lnTo>
                <a:lnTo>
                  <a:pt x="967" y="20"/>
                </a:lnTo>
                <a:lnTo>
                  <a:pt x="987" y="23"/>
                </a:lnTo>
                <a:lnTo>
                  <a:pt x="1006" y="24"/>
                </a:lnTo>
                <a:lnTo>
                  <a:pt x="1024" y="26"/>
                </a:lnTo>
                <a:lnTo>
                  <a:pt x="1042" y="29"/>
                </a:lnTo>
                <a:lnTo>
                  <a:pt x="1058" y="30"/>
                </a:lnTo>
                <a:lnTo>
                  <a:pt x="1075" y="33"/>
                </a:lnTo>
                <a:lnTo>
                  <a:pt x="1090" y="35"/>
                </a:lnTo>
                <a:lnTo>
                  <a:pt x="1105" y="36"/>
                </a:lnTo>
                <a:lnTo>
                  <a:pt x="1124" y="39"/>
                </a:lnTo>
                <a:lnTo>
                  <a:pt x="1142" y="43"/>
                </a:lnTo>
                <a:lnTo>
                  <a:pt x="1160" y="45"/>
                </a:lnTo>
                <a:lnTo>
                  <a:pt x="1172" y="47"/>
                </a:lnTo>
                <a:lnTo>
                  <a:pt x="1186" y="49"/>
                </a:lnTo>
                <a:lnTo>
                  <a:pt x="1198" y="52"/>
                </a:lnTo>
                <a:lnTo>
                  <a:pt x="1210" y="53"/>
                </a:lnTo>
                <a:lnTo>
                  <a:pt x="1222" y="55"/>
                </a:lnTo>
                <a:lnTo>
                  <a:pt x="1233" y="57"/>
                </a:lnTo>
                <a:lnTo>
                  <a:pt x="1244" y="59"/>
                </a:lnTo>
                <a:lnTo>
                  <a:pt x="1256" y="61"/>
                </a:lnTo>
                <a:lnTo>
                  <a:pt x="1268" y="62"/>
                </a:lnTo>
                <a:lnTo>
                  <a:pt x="1280" y="63"/>
                </a:lnTo>
                <a:lnTo>
                  <a:pt x="1280" y="63"/>
                </a:lnTo>
                <a:lnTo>
                  <a:pt x="1268" y="66"/>
                </a:lnTo>
                <a:lnTo>
                  <a:pt x="1256" y="67"/>
                </a:lnTo>
                <a:lnTo>
                  <a:pt x="1244" y="68"/>
                </a:lnTo>
                <a:lnTo>
                  <a:pt x="1233" y="69"/>
                </a:lnTo>
                <a:lnTo>
                  <a:pt x="1222" y="72"/>
                </a:lnTo>
                <a:lnTo>
                  <a:pt x="1210" y="73"/>
                </a:lnTo>
                <a:lnTo>
                  <a:pt x="1198" y="76"/>
                </a:lnTo>
                <a:lnTo>
                  <a:pt x="1186" y="78"/>
                </a:lnTo>
                <a:lnTo>
                  <a:pt x="1172" y="80"/>
                </a:lnTo>
                <a:lnTo>
                  <a:pt x="1160" y="82"/>
                </a:lnTo>
                <a:lnTo>
                  <a:pt x="1142" y="85"/>
                </a:lnTo>
                <a:lnTo>
                  <a:pt x="1124" y="87"/>
                </a:lnTo>
                <a:lnTo>
                  <a:pt x="1105" y="90"/>
                </a:lnTo>
                <a:lnTo>
                  <a:pt x="1090" y="92"/>
                </a:lnTo>
                <a:lnTo>
                  <a:pt x="1075" y="93"/>
                </a:lnTo>
                <a:lnTo>
                  <a:pt x="1058" y="96"/>
                </a:lnTo>
                <a:lnTo>
                  <a:pt x="1042" y="99"/>
                </a:lnTo>
                <a:lnTo>
                  <a:pt x="1024" y="101"/>
                </a:lnTo>
                <a:lnTo>
                  <a:pt x="1006" y="102"/>
                </a:lnTo>
                <a:lnTo>
                  <a:pt x="987" y="105"/>
                </a:lnTo>
                <a:lnTo>
                  <a:pt x="967" y="107"/>
                </a:lnTo>
                <a:lnTo>
                  <a:pt x="932" y="110"/>
                </a:lnTo>
                <a:lnTo>
                  <a:pt x="906" y="112"/>
                </a:lnTo>
                <a:lnTo>
                  <a:pt x="881" y="115"/>
                </a:lnTo>
                <a:lnTo>
                  <a:pt x="853" y="117"/>
                </a:lnTo>
                <a:lnTo>
                  <a:pt x="823" y="119"/>
                </a:lnTo>
                <a:lnTo>
                  <a:pt x="791" y="121"/>
                </a:lnTo>
                <a:lnTo>
                  <a:pt x="757" y="123"/>
                </a:lnTo>
                <a:lnTo>
                  <a:pt x="719" y="125"/>
                </a:lnTo>
                <a:lnTo>
                  <a:pt x="678" y="126"/>
                </a:lnTo>
                <a:lnTo>
                  <a:pt x="633" y="126"/>
                </a:lnTo>
                <a:lnTo>
                  <a:pt x="582" y="126"/>
                </a:lnTo>
                <a:lnTo>
                  <a:pt x="582" y="126"/>
                </a:lnTo>
                <a:lnTo>
                  <a:pt x="516" y="126"/>
                </a:lnTo>
                <a:lnTo>
                  <a:pt x="437" y="123"/>
                </a:lnTo>
                <a:lnTo>
                  <a:pt x="291" y="111"/>
                </a:lnTo>
                <a:lnTo>
                  <a:pt x="145" y="92"/>
                </a:lnTo>
                <a:lnTo>
                  <a:pt x="51" y="76"/>
                </a:lnTo>
                <a:lnTo>
                  <a:pt x="18" y="68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809800" y="4538520"/>
            <a:ext cx="1800" cy="180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809800" y="4438800"/>
            <a:ext cx="2032200" cy="199800"/>
          </a:xfrm>
          <a:custGeom>
            <a:avLst/>
            <a:gdLst/>
            <a:ahLst/>
            <a:rect l="l" t="t" r="r" b="b"/>
            <a:pathLst>
              <a:path w="1280" h="126">
                <a:moveTo>
                  <a:pt x="0" y="63"/>
                </a:moveTo>
                <a:lnTo>
                  <a:pt x="18" y="58"/>
                </a:lnTo>
                <a:lnTo>
                  <a:pt x="51" y="52"/>
                </a:lnTo>
                <a:lnTo>
                  <a:pt x="145" y="35"/>
                </a:lnTo>
                <a:lnTo>
                  <a:pt x="291" y="16"/>
                </a:lnTo>
                <a:lnTo>
                  <a:pt x="437" y="5"/>
                </a:lnTo>
                <a:lnTo>
                  <a:pt x="516" y="1"/>
                </a:lnTo>
                <a:lnTo>
                  <a:pt x="582" y="0"/>
                </a:lnTo>
                <a:lnTo>
                  <a:pt x="582" y="0"/>
                </a:lnTo>
                <a:lnTo>
                  <a:pt x="633" y="0"/>
                </a:lnTo>
                <a:lnTo>
                  <a:pt x="678" y="1"/>
                </a:lnTo>
                <a:lnTo>
                  <a:pt x="719" y="2"/>
                </a:lnTo>
                <a:lnTo>
                  <a:pt x="757" y="4"/>
                </a:lnTo>
                <a:lnTo>
                  <a:pt x="791" y="6"/>
                </a:lnTo>
                <a:lnTo>
                  <a:pt x="823" y="7"/>
                </a:lnTo>
                <a:lnTo>
                  <a:pt x="853" y="10"/>
                </a:lnTo>
                <a:lnTo>
                  <a:pt x="881" y="12"/>
                </a:lnTo>
                <a:lnTo>
                  <a:pt x="906" y="14"/>
                </a:lnTo>
                <a:lnTo>
                  <a:pt x="932" y="16"/>
                </a:lnTo>
                <a:lnTo>
                  <a:pt x="967" y="20"/>
                </a:lnTo>
                <a:lnTo>
                  <a:pt x="987" y="23"/>
                </a:lnTo>
                <a:lnTo>
                  <a:pt x="1006" y="24"/>
                </a:lnTo>
                <a:lnTo>
                  <a:pt x="1024" y="26"/>
                </a:lnTo>
                <a:lnTo>
                  <a:pt x="1042" y="29"/>
                </a:lnTo>
                <a:lnTo>
                  <a:pt x="1058" y="30"/>
                </a:lnTo>
                <a:lnTo>
                  <a:pt x="1075" y="33"/>
                </a:lnTo>
                <a:lnTo>
                  <a:pt x="1090" y="35"/>
                </a:lnTo>
                <a:lnTo>
                  <a:pt x="1105" y="36"/>
                </a:lnTo>
                <a:lnTo>
                  <a:pt x="1124" y="39"/>
                </a:lnTo>
                <a:lnTo>
                  <a:pt x="1142" y="43"/>
                </a:lnTo>
                <a:lnTo>
                  <a:pt x="1160" y="45"/>
                </a:lnTo>
                <a:lnTo>
                  <a:pt x="1172" y="47"/>
                </a:lnTo>
                <a:lnTo>
                  <a:pt x="1186" y="49"/>
                </a:lnTo>
                <a:lnTo>
                  <a:pt x="1198" y="52"/>
                </a:lnTo>
                <a:lnTo>
                  <a:pt x="1210" y="53"/>
                </a:lnTo>
                <a:lnTo>
                  <a:pt x="1222" y="55"/>
                </a:lnTo>
                <a:lnTo>
                  <a:pt x="1233" y="57"/>
                </a:lnTo>
                <a:lnTo>
                  <a:pt x="1244" y="59"/>
                </a:lnTo>
                <a:lnTo>
                  <a:pt x="1256" y="61"/>
                </a:lnTo>
                <a:lnTo>
                  <a:pt x="1268" y="62"/>
                </a:lnTo>
                <a:lnTo>
                  <a:pt x="1280" y="63"/>
                </a:lnTo>
                <a:lnTo>
                  <a:pt x="1280" y="63"/>
                </a:lnTo>
                <a:lnTo>
                  <a:pt x="1268" y="66"/>
                </a:lnTo>
                <a:lnTo>
                  <a:pt x="1256" y="67"/>
                </a:lnTo>
                <a:lnTo>
                  <a:pt x="1244" y="68"/>
                </a:lnTo>
                <a:lnTo>
                  <a:pt x="1233" y="69"/>
                </a:lnTo>
                <a:lnTo>
                  <a:pt x="1222" y="72"/>
                </a:lnTo>
                <a:lnTo>
                  <a:pt x="1210" y="73"/>
                </a:lnTo>
                <a:lnTo>
                  <a:pt x="1198" y="76"/>
                </a:lnTo>
                <a:lnTo>
                  <a:pt x="1186" y="78"/>
                </a:lnTo>
                <a:lnTo>
                  <a:pt x="1172" y="80"/>
                </a:lnTo>
                <a:lnTo>
                  <a:pt x="1160" y="82"/>
                </a:lnTo>
                <a:lnTo>
                  <a:pt x="1142" y="85"/>
                </a:lnTo>
                <a:lnTo>
                  <a:pt x="1124" y="87"/>
                </a:lnTo>
                <a:lnTo>
                  <a:pt x="1105" y="90"/>
                </a:lnTo>
                <a:lnTo>
                  <a:pt x="1090" y="92"/>
                </a:lnTo>
                <a:lnTo>
                  <a:pt x="1075" y="93"/>
                </a:lnTo>
                <a:lnTo>
                  <a:pt x="1058" y="96"/>
                </a:lnTo>
                <a:lnTo>
                  <a:pt x="1042" y="99"/>
                </a:lnTo>
                <a:lnTo>
                  <a:pt x="1024" y="101"/>
                </a:lnTo>
                <a:lnTo>
                  <a:pt x="1006" y="102"/>
                </a:lnTo>
                <a:lnTo>
                  <a:pt x="987" y="105"/>
                </a:lnTo>
                <a:lnTo>
                  <a:pt x="967" y="107"/>
                </a:lnTo>
                <a:lnTo>
                  <a:pt x="932" y="110"/>
                </a:lnTo>
                <a:lnTo>
                  <a:pt x="906" y="112"/>
                </a:lnTo>
                <a:lnTo>
                  <a:pt x="881" y="115"/>
                </a:lnTo>
                <a:lnTo>
                  <a:pt x="853" y="117"/>
                </a:lnTo>
                <a:lnTo>
                  <a:pt x="823" y="119"/>
                </a:lnTo>
                <a:lnTo>
                  <a:pt x="791" y="121"/>
                </a:lnTo>
                <a:lnTo>
                  <a:pt x="757" y="123"/>
                </a:lnTo>
                <a:lnTo>
                  <a:pt x="719" y="125"/>
                </a:lnTo>
                <a:lnTo>
                  <a:pt x="678" y="126"/>
                </a:lnTo>
                <a:lnTo>
                  <a:pt x="633" y="126"/>
                </a:lnTo>
                <a:lnTo>
                  <a:pt x="582" y="126"/>
                </a:lnTo>
                <a:lnTo>
                  <a:pt x="582" y="126"/>
                </a:lnTo>
                <a:lnTo>
                  <a:pt x="516" y="126"/>
                </a:lnTo>
                <a:lnTo>
                  <a:pt x="437" y="123"/>
                </a:lnTo>
                <a:lnTo>
                  <a:pt x="291" y="111"/>
                </a:lnTo>
                <a:lnTo>
                  <a:pt x="145" y="92"/>
                </a:lnTo>
                <a:lnTo>
                  <a:pt x="51" y="76"/>
                </a:lnTo>
                <a:lnTo>
                  <a:pt x="18" y="68"/>
                </a:lnTo>
                <a:lnTo>
                  <a:pt x="0" y="63"/>
                </a:lnTo>
                <a:lnTo>
                  <a:pt x="0" y="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133880" y="4495680"/>
            <a:ext cx="84240" cy="856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92520" y="4495680"/>
            <a:ext cx="84240" cy="856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697200" y="4500720"/>
            <a:ext cx="7488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4927680" y="482616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4927680" y="4745160"/>
            <a:ext cx="1440" cy="4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4927680" y="466560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745080" y="4654440"/>
            <a:ext cx="1989000" cy="203400"/>
          </a:xfrm>
          <a:custGeom>
            <a:avLst/>
            <a:gdLst/>
            <a:ahLst/>
            <a:rect l="l" t="t" r="r" b="b"/>
            <a:pathLst>
              <a:path w="1253" h="128">
                <a:moveTo>
                  <a:pt x="0" y="65"/>
                </a:moveTo>
                <a:lnTo>
                  <a:pt x="16" y="61"/>
                </a:lnTo>
                <a:lnTo>
                  <a:pt x="82" y="51"/>
                </a:lnTo>
                <a:lnTo>
                  <a:pt x="86" y="51"/>
                </a:lnTo>
                <a:lnTo>
                  <a:pt x="173" y="40"/>
                </a:lnTo>
                <a:lnTo>
                  <a:pt x="260" y="31"/>
                </a:lnTo>
                <a:lnTo>
                  <a:pt x="348" y="23"/>
                </a:lnTo>
                <a:lnTo>
                  <a:pt x="348" y="23"/>
                </a:lnTo>
                <a:lnTo>
                  <a:pt x="453" y="16"/>
                </a:lnTo>
                <a:lnTo>
                  <a:pt x="536" y="9"/>
                </a:lnTo>
                <a:lnTo>
                  <a:pt x="606" y="6"/>
                </a:lnTo>
                <a:lnTo>
                  <a:pt x="665" y="2"/>
                </a:lnTo>
                <a:lnTo>
                  <a:pt x="719" y="0"/>
                </a:lnTo>
                <a:lnTo>
                  <a:pt x="766" y="0"/>
                </a:lnTo>
                <a:lnTo>
                  <a:pt x="807" y="2"/>
                </a:lnTo>
                <a:lnTo>
                  <a:pt x="845" y="4"/>
                </a:lnTo>
                <a:lnTo>
                  <a:pt x="881" y="7"/>
                </a:lnTo>
                <a:lnTo>
                  <a:pt x="914" y="11"/>
                </a:lnTo>
                <a:lnTo>
                  <a:pt x="944" y="13"/>
                </a:lnTo>
                <a:lnTo>
                  <a:pt x="972" y="17"/>
                </a:lnTo>
                <a:lnTo>
                  <a:pt x="998" y="22"/>
                </a:lnTo>
                <a:lnTo>
                  <a:pt x="1023" y="26"/>
                </a:lnTo>
                <a:lnTo>
                  <a:pt x="1047" y="30"/>
                </a:lnTo>
                <a:lnTo>
                  <a:pt x="1069" y="32"/>
                </a:lnTo>
                <a:lnTo>
                  <a:pt x="1091" y="35"/>
                </a:lnTo>
                <a:lnTo>
                  <a:pt x="1111" y="37"/>
                </a:lnTo>
                <a:lnTo>
                  <a:pt x="1130" y="40"/>
                </a:lnTo>
                <a:lnTo>
                  <a:pt x="1148" y="42"/>
                </a:lnTo>
                <a:lnTo>
                  <a:pt x="1166" y="45"/>
                </a:lnTo>
                <a:lnTo>
                  <a:pt x="1183" y="47"/>
                </a:lnTo>
                <a:lnTo>
                  <a:pt x="1200" y="50"/>
                </a:lnTo>
                <a:lnTo>
                  <a:pt x="1217" y="52"/>
                </a:lnTo>
                <a:lnTo>
                  <a:pt x="1235" y="56"/>
                </a:lnTo>
                <a:lnTo>
                  <a:pt x="1253" y="60"/>
                </a:lnTo>
                <a:lnTo>
                  <a:pt x="1253" y="70"/>
                </a:lnTo>
                <a:lnTo>
                  <a:pt x="1235" y="73"/>
                </a:lnTo>
                <a:lnTo>
                  <a:pt x="1217" y="76"/>
                </a:lnTo>
                <a:lnTo>
                  <a:pt x="1200" y="79"/>
                </a:lnTo>
                <a:lnTo>
                  <a:pt x="1183" y="81"/>
                </a:lnTo>
                <a:lnTo>
                  <a:pt x="1166" y="84"/>
                </a:lnTo>
                <a:lnTo>
                  <a:pt x="1148" y="87"/>
                </a:lnTo>
                <a:lnTo>
                  <a:pt x="1130" y="89"/>
                </a:lnTo>
                <a:lnTo>
                  <a:pt x="1111" y="92"/>
                </a:lnTo>
                <a:lnTo>
                  <a:pt x="1091" y="94"/>
                </a:lnTo>
                <a:lnTo>
                  <a:pt x="1069" y="97"/>
                </a:lnTo>
                <a:lnTo>
                  <a:pt x="1047" y="100"/>
                </a:lnTo>
                <a:lnTo>
                  <a:pt x="1023" y="103"/>
                </a:lnTo>
                <a:lnTo>
                  <a:pt x="998" y="108"/>
                </a:lnTo>
                <a:lnTo>
                  <a:pt x="972" y="112"/>
                </a:lnTo>
                <a:lnTo>
                  <a:pt x="944" y="116"/>
                </a:lnTo>
                <a:lnTo>
                  <a:pt x="914" y="119"/>
                </a:lnTo>
                <a:lnTo>
                  <a:pt x="881" y="122"/>
                </a:lnTo>
                <a:lnTo>
                  <a:pt x="845" y="125"/>
                </a:lnTo>
                <a:lnTo>
                  <a:pt x="807" y="127"/>
                </a:lnTo>
                <a:lnTo>
                  <a:pt x="766" y="128"/>
                </a:lnTo>
                <a:lnTo>
                  <a:pt x="719" y="128"/>
                </a:lnTo>
                <a:lnTo>
                  <a:pt x="665" y="127"/>
                </a:lnTo>
                <a:lnTo>
                  <a:pt x="606" y="125"/>
                </a:lnTo>
                <a:lnTo>
                  <a:pt x="536" y="119"/>
                </a:lnTo>
                <a:lnTo>
                  <a:pt x="453" y="113"/>
                </a:lnTo>
                <a:lnTo>
                  <a:pt x="348" y="106"/>
                </a:lnTo>
                <a:lnTo>
                  <a:pt x="348" y="106"/>
                </a:lnTo>
                <a:lnTo>
                  <a:pt x="260" y="99"/>
                </a:lnTo>
                <a:lnTo>
                  <a:pt x="173" y="89"/>
                </a:lnTo>
                <a:lnTo>
                  <a:pt x="86" y="79"/>
                </a:lnTo>
                <a:lnTo>
                  <a:pt x="82" y="78"/>
                </a:lnTo>
                <a:lnTo>
                  <a:pt x="16" y="68"/>
                </a:lnTo>
                <a:lnTo>
                  <a:pt x="0" y="65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745080" y="4654440"/>
            <a:ext cx="1989000" cy="203400"/>
          </a:xfrm>
          <a:custGeom>
            <a:avLst/>
            <a:gdLst/>
            <a:ahLst/>
            <a:rect l="l" t="t" r="r" b="b"/>
            <a:pathLst>
              <a:path w="1253" h="128">
                <a:moveTo>
                  <a:pt x="0" y="65"/>
                </a:moveTo>
                <a:lnTo>
                  <a:pt x="16" y="61"/>
                </a:lnTo>
                <a:lnTo>
                  <a:pt x="82" y="51"/>
                </a:lnTo>
                <a:lnTo>
                  <a:pt x="86" y="51"/>
                </a:lnTo>
                <a:lnTo>
                  <a:pt x="173" y="40"/>
                </a:lnTo>
                <a:lnTo>
                  <a:pt x="260" y="31"/>
                </a:lnTo>
                <a:lnTo>
                  <a:pt x="348" y="23"/>
                </a:lnTo>
                <a:lnTo>
                  <a:pt x="348" y="23"/>
                </a:lnTo>
                <a:lnTo>
                  <a:pt x="453" y="16"/>
                </a:lnTo>
                <a:lnTo>
                  <a:pt x="536" y="9"/>
                </a:lnTo>
                <a:lnTo>
                  <a:pt x="606" y="6"/>
                </a:lnTo>
                <a:lnTo>
                  <a:pt x="665" y="2"/>
                </a:lnTo>
                <a:lnTo>
                  <a:pt x="719" y="0"/>
                </a:lnTo>
                <a:lnTo>
                  <a:pt x="766" y="0"/>
                </a:lnTo>
                <a:lnTo>
                  <a:pt x="807" y="2"/>
                </a:lnTo>
                <a:lnTo>
                  <a:pt x="845" y="4"/>
                </a:lnTo>
                <a:lnTo>
                  <a:pt x="881" y="7"/>
                </a:lnTo>
                <a:lnTo>
                  <a:pt x="914" y="11"/>
                </a:lnTo>
                <a:lnTo>
                  <a:pt x="944" y="13"/>
                </a:lnTo>
                <a:lnTo>
                  <a:pt x="972" y="17"/>
                </a:lnTo>
                <a:lnTo>
                  <a:pt x="998" y="22"/>
                </a:lnTo>
                <a:lnTo>
                  <a:pt x="1023" y="26"/>
                </a:lnTo>
                <a:lnTo>
                  <a:pt x="1047" y="30"/>
                </a:lnTo>
                <a:lnTo>
                  <a:pt x="1069" y="32"/>
                </a:lnTo>
                <a:lnTo>
                  <a:pt x="1091" y="35"/>
                </a:lnTo>
                <a:lnTo>
                  <a:pt x="1111" y="37"/>
                </a:lnTo>
                <a:lnTo>
                  <a:pt x="1130" y="40"/>
                </a:lnTo>
                <a:lnTo>
                  <a:pt x="1148" y="42"/>
                </a:lnTo>
                <a:lnTo>
                  <a:pt x="1166" y="45"/>
                </a:lnTo>
                <a:lnTo>
                  <a:pt x="1183" y="47"/>
                </a:lnTo>
                <a:lnTo>
                  <a:pt x="1200" y="50"/>
                </a:lnTo>
                <a:lnTo>
                  <a:pt x="1217" y="52"/>
                </a:lnTo>
                <a:lnTo>
                  <a:pt x="1235" y="56"/>
                </a:lnTo>
                <a:lnTo>
                  <a:pt x="1253" y="60"/>
                </a:lnTo>
                <a:lnTo>
                  <a:pt x="1253" y="70"/>
                </a:lnTo>
                <a:lnTo>
                  <a:pt x="1235" y="73"/>
                </a:lnTo>
                <a:lnTo>
                  <a:pt x="1217" y="76"/>
                </a:lnTo>
                <a:lnTo>
                  <a:pt x="1200" y="79"/>
                </a:lnTo>
                <a:lnTo>
                  <a:pt x="1183" y="81"/>
                </a:lnTo>
                <a:lnTo>
                  <a:pt x="1166" y="84"/>
                </a:lnTo>
                <a:lnTo>
                  <a:pt x="1148" y="87"/>
                </a:lnTo>
                <a:lnTo>
                  <a:pt x="1130" y="89"/>
                </a:lnTo>
                <a:lnTo>
                  <a:pt x="1111" y="92"/>
                </a:lnTo>
                <a:lnTo>
                  <a:pt x="1091" y="94"/>
                </a:lnTo>
                <a:lnTo>
                  <a:pt x="1069" y="97"/>
                </a:lnTo>
                <a:lnTo>
                  <a:pt x="1047" y="100"/>
                </a:lnTo>
                <a:lnTo>
                  <a:pt x="1023" y="103"/>
                </a:lnTo>
                <a:lnTo>
                  <a:pt x="998" y="108"/>
                </a:lnTo>
                <a:lnTo>
                  <a:pt x="972" y="112"/>
                </a:lnTo>
                <a:lnTo>
                  <a:pt x="944" y="116"/>
                </a:lnTo>
                <a:lnTo>
                  <a:pt x="914" y="119"/>
                </a:lnTo>
                <a:lnTo>
                  <a:pt x="881" y="122"/>
                </a:lnTo>
                <a:lnTo>
                  <a:pt x="845" y="125"/>
                </a:lnTo>
                <a:lnTo>
                  <a:pt x="807" y="127"/>
                </a:lnTo>
                <a:lnTo>
                  <a:pt x="766" y="128"/>
                </a:lnTo>
                <a:lnTo>
                  <a:pt x="719" y="128"/>
                </a:lnTo>
                <a:lnTo>
                  <a:pt x="665" y="127"/>
                </a:lnTo>
                <a:lnTo>
                  <a:pt x="606" y="125"/>
                </a:lnTo>
                <a:lnTo>
                  <a:pt x="536" y="119"/>
                </a:lnTo>
                <a:lnTo>
                  <a:pt x="453" y="113"/>
                </a:lnTo>
                <a:lnTo>
                  <a:pt x="348" y="106"/>
                </a:lnTo>
                <a:lnTo>
                  <a:pt x="348" y="106"/>
                </a:lnTo>
                <a:lnTo>
                  <a:pt x="260" y="99"/>
                </a:lnTo>
                <a:lnTo>
                  <a:pt x="173" y="89"/>
                </a:lnTo>
                <a:lnTo>
                  <a:pt x="86" y="79"/>
                </a:lnTo>
                <a:lnTo>
                  <a:pt x="82" y="78"/>
                </a:lnTo>
                <a:lnTo>
                  <a:pt x="16" y="68"/>
                </a:lnTo>
                <a:lnTo>
                  <a:pt x="0" y="65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745080" y="4757760"/>
            <a:ext cx="144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745080" y="4654440"/>
            <a:ext cx="1989000" cy="203400"/>
          </a:xfrm>
          <a:custGeom>
            <a:avLst/>
            <a:gdLst/>
            <a:ahLst/>
            <a:rect l="l" t="t" r="r" b="b"/>
            <a:pathLst>
              <a:path w="1253" h="128">
                <a:moveTo>
                  <a:pt x="0" y="65"/>
                </a:moveTo>
                <a:lnTo>
                  <a:pt x="16" y="61"/>
                </a:lnTo>
                <a:lnTo>
                  <a:pt x="82" y="51"/>
                </a:lnTo>
                <a:lnTo>
                  <a:pt x="86" y="51"/>
                </a:lnTo>
                <a:lnTo>
                  <a:pt x="173" y="40"/>
                </a:lnTo>
                <a:lnTo>
                  <a:pt x="260" y="31"/>
                </a:lnTo>
                <a:lnTo>
                  <a:pt x="348" y="23"/>
                </a:lnTo>
                <a:lnTo>
                  <a:pt x="348" y="23"/>
                </a:lnTo>
                <a:lnTo>
                  <a:pt x="453" y="16"/>
                </a:lnTo>
                <a:lnTo>
                  <a:pt x="536" y="9"/>
                </a:lnTo>
                <a:lnTo>
                  <a:pt x="606" y="6"/>
                </a:lnTo>
                <a:lnTo>
                  <a:pt x="665" y="2"/>
                </a:lnTo>
                <a:lnTo>
                  <a:pt x="719" y="0"/>
                </a:lnTo>
                <a:lnTo>
                  <a:pt x="766" y="0"/>
                </a:lnTo>
                <a:lnTo>
                  <a:pt x="807" y="2"/>
                </a:lnTo>
                <a:lnTo>
                  <a:pt x="845" y="4"/>
                </a:lnTo>
                <a:lnTo>
                  <a:pt x="881" y="7"/>
                </a:lnTo>
                <a:lnTo>
                  <a:pt x="914" y="11"/>
                </a:lnTo>
                <a:lnTo>
                  <a:pt x="944" y="13"/>
                </a:lnTo>
                <a:lnTo>
                  <a:pt x="972" y="17"/>
                </a:lnTo>
                <a:lnTo>
                  <a:pt x="998" y="22"/>
                </a:lnTo>
                <a:lnTo>
                  <a:pt x="1023" y="26"/>
                </a:lnTo>
                <a:lnTo>
                  <a:pt x="1047" y="30"/>
                </a:lnTo>
                <a:lnTo>
                  <a:pt x="1069" y="32"/>
                </a:lnTo>
                <a:lnTo>
                  <a:pt x="1091" y="35"/>
                </a:lnTo>
                <a:lnTo>
                  <a:pt x="1111" y="37"/>
                </a:lnTo>
                <a:lnTo>
                  <a:pt x="1130" y="40"/>
                </a:lnTo>
                <a:lnTo>
                  <a:pt x="1148" y="42"/>
                </a:lnTo>
                <a:lnTo>
                  <a:pt x="1166" y="45"/>
                </a:lnTo>
                <a:lnTo>
                  <a:pt x="1183" y="47"/>
                </a:lnTo>
                <a:lnTo>
                  <a:pt x="1200" y="50"/>
                </a:lnTo>
                <a:lnTo>
                  <a:pt x="1217" y="52"/>
                </a:lnTo>
                <a:lnTo>
                  <a:pt x="1235" y="56"/>
                </a:lnTo>
                <a:lnTo>
                  <a:pt x="1253" y="60"/>
                </a:lnTo>
                <a:lnTo>
                  <a:pt x="1253" y="70"/>
                </a:lnTo>
                <a:lnTo>
                  <a:pt x="1235" y="73"/>
                </a:lnTo>
                <a:lnTo>
                  <a:pt x="1217" y="76"/>
                </a:lnTo>
                <a:lnTo>
                  <a:pt x="1200" y="79"/>
                </a:lnTo>
                <a:lnTo>
                  <a:pt x="1183" y="81"/>
                </a:lnTo>
                <a:lnTo>
                  <a:pt x="1166" y="84"/>
                </a:lnTo>
                <a:lnTo>
                  <a:pt x="1148" y="87"/>
                </a:lnTo>
                <a:lnTo>
                  <a:pt x="1130" y="89"/>
                </a:lnTo>
                <a:lnTo>
                  <a:pt x="1111" y="92"/>
                </a:lnTo>
                <a:lnTo>
                  <a:pt x="1091" y="94"/>
                </a:lnTo>
                <a:lnTo>
                  <a:pt x="1069" y="97"/>
                </a:lnTo>
                <a:lnTo>
                  <a:pt x="1047" y="100"/>
                </a:lnTo>
                <a:lnTo>
                  <a:pt x="1023" y="103"/>
                </a:lnTo>
                <a:lnTo>
                  <a:pt x="998" y="108"/>
                </a:lnTo>
                <a:lnTo>
                  <a:pt x="972" y="112"/>
                </a:lnTo>
                <a:lnTo>
                  <a:pt x="944" y="116"/>
                </a:lnTo>
                <a:lnTo>
                  <a:pt x="914" y="119"/>
                </a:lnTo>
                <a:lnTo>
                  <a:pt x="881" y="122"/>
                </a:lnTo>
                <a:lnTo>
                  <a:pt x="845" y="125"/>
                </a:lnTo>
                <a:lnTo>
                  <a:pt x="807" y="127"/>
                </a:lnTo>
                <a:lnTo>
                  <a:pt x="766" y="128"/>
                </a:lnTo>
                <a:lnTo>
                  <a:pt x="719" y="128"/>
                </a:lnTo>
                <a:lnTo>
                  <a:pt x="665" y="127"/>
                </a:lnTo>
                <a:lnTo>
                  <a:pt x="606" y="125"/>
                </a:lnTo>
                <a:lnTo>
                  <a:pt x="536" y="119"/>
                </a:lnTo>
                <a:lnTo>
                  <a:pt x="453" y="113"/>
                </a:lnTo>
                <a:lnTo>
                  <a:pt x="348" y="106"/>
                </a:lnTo>
                <a:lnTo>
                  <a:pt x="348" y="106"/>
                </a:lnTo>
                <a:lnTo>
                  <a:pt x="260" y="99"/>
                </a:lnTo>
                <a:lnTo>
                  <a:pt x="173" y="89"/>
                </a:lnTo>
                <a:lnTo>
                  <a:pt x="86" y="79"/>
                </a:lnTo>
                <a:lnTo>
                  <a:pt x="82" y="78"/>
                </a:lnTo>
                <a:lnTo>
                  <a:pt x="16" y="68"/>
                </a:lnTo>
                <a:lnTo>
                  <a:pt x="0" y="65"/>
                </a:lnTo>
                <a:lnTo>
                  <a:pt x="0" y="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068800" y="4714920"/>
            <a:ext cx="84240" cy="856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917960" y="4714920"/>
            <a:ext cx="84240" cy="8568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923000" y="4719600"/>
            <a:ext cx="745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914400" y="685800"/>
            <a:ext cx="5532840" cy="3749040"/>
            <a:chOff x="914400" y="685800"/>
            <a:chExt cx="5532840" cy="3749040"/>
          </a:xfrm>
        </p:grpSpPr>
        <p:sp>
          <p:nvSpPr>
            <p:cNvPr id="1134" name=""/>
            <p:cNvSpPr/>
            <p:nvPr/>
          </p:nvSpPr>
          <p:spPr>
            <a:xfrm>
              <a:off x="4487760" y="4191120"/>
              <a:ext cx="110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Black marli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340280" y="1981080"/>
              <a:ext cx="80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Albacor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208960" y="350532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Swordfish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56640" y="685800"/>
              <a:ext cx="81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Yellowfi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610000" y="914400"/>
              <a:ext cx="62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Bigeye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522080" y="1143000"/>
              <a:ext cx="98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Silky shark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675440" y="1371600"/>
              <a:ext cx="960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Blue shark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218240" y="1600200"/>
              <a:ext cx="149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Oceanic whitetip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319480" y="1812960"/>
              <a:ext cx="101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Blue marli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914400" y="2209680"/>
              <a:ext cx="115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Mako shark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33360" y="2438280"/>
              <a:ext cx="1253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Striped marlin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980600" y="2666880"/>
              <a:ext cx="146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Thresher shark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521360" y="3733920"/>
              <a:ext cx="65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Sailfish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1676520" y="2895480"/>
            <a:ext cx="4933440" cy="1980720"/>
            <a:chOff x="1676520" y="2895480"/>
            <a:chExt cx="4933440" cy="1980720"/>
          </a:xfrm>
        </p:grpSpPr>
        <p:sp>
          <p:nvSpPr>
            <p:cNvPr id="1148" name=""/>
            <p:cNvSpPr/>
            <p:nvPr/>
          </p:nvSpPr>
          <p:spPr>
            <a:xfrm>
              <a:off x="5850360" y="2895480"/>
              <a:ext cx="75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Skipjack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047040" y="3048120"/>
              <a:ext cx="114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Lancetfishe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0040" y="327672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Wahoo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598360" y="396252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Mahi mahi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676520" y="4419720"/>
              <a:ext cx="103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Barracuda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31320" y="4632480"/>
              <a:ext cx="85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S</a:t>
              </a: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pearfish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5551560" y="4873680"/>
            <a:ext cx="56196000" cy="2584440"/>
          </a:xfrm>
          <a:custGeom>
            <a:avLst/>
            <a:gdLst/>
            <a:ahLst/>
            <a:rect l="l" t="t" r="r" b="b"/>
            <a:pathLst>
              <a:path w="35399" h="1628">
                <a:moveTo>
                  <a:pt x="0" y="64"/>
                </a:moveTo>
                <a:lnTo>
                  <a:pt x="167" y="45"/>
                </a:lnTo>
                <a:lnTo>
                  <a:pt x="504" y="23"/>
                </a:lnTo>
                <a:lnTo>
                  <a:pt x="797" y="13"/>
                </a:lnTo>
                <a:lnTo>
                  <a:pt x="1595" y="2"/>
                </a:lnTo>
                <a:lnTo>
                  <a:pt x="2392" y="0"/>
                </a:lnTo>
                <a:lnTo>
                  <a:pt x="3190" y="0"/>
                </a:lnTo>
                <a:lnTo>
                  <a:pt x="3190" y="0"/>
                </a:lnTo>
                <a:lnTo>
                  <a:pt x="-31491" y="1628"/>
                </a:lnTo>
                <a:lnTo>
                  <a:pt x="-31196" y="1628"/>
                </a:lnTo>
                <a:lnTo>
                  <a:pt x="-31022" y="1628"/>
                </a:lnTo>
                <a:lnTo>
                  <a:pt x="-30901" y="1628"/>
                </a:lnTo>
                <a:lnTo>
                  <a:pt x="-30806" y="1628"/>
                </a:lnTo>
                <a:lnTo>
                  <a:pt x="-30727" y="1628"/>
                </a:lnTo>
                <a:lnTo>
                  <a:pt x="-30663" y="1628"/>
                </a:lnTo>
                <a:lnTo>
                  <a:pt x="-30606" y="1628"/>
                </a:lnTo>
                <a:lnTo>
                  <a:pt x="-30555" y="1628"/>
                </a:lnTo>
                <a:lnTo>
                  <a:pt x="-30511" y="1628"/>
                </a:lnTo>
                <a:lnTo>
                  <a:pt x="-30470" y="1628"/>
                </a:lnTo>
                <a:lnTo>
                  <a:pt x="-30432" y="1628"/>
                </a:lnTo>
                <a:lnTo>
                  <a:pt x="-30398" y="1628"/>
                </a:lnTo>
                <a:lnTo>
                  <a:pt x="-30367" y="1628"/>
                </a:lnTo>
                <a:lnTo>
                  <a:pt x="-30338" y="1628"/>
                </a:lnTo>
                <a:lnTo>
                  <a:pt x="-30311" y="1628"/>
                </a:lnTo>
                <a:lnTo>
                  <a:pt x="-30284" y="1628"/>
                </a:lnTo>
                <a:lnTo>
                  <a:pt x="-30260" y="1628"/>
                </a:lnTo>
                <a:lnTo>
                  <a:pt x="-30238" y="1628"/>
                </a:lnTo>
                <a:lnTo>
                  <a:pt x="-30216" y="1628"/>
                </a:lnTo>
                <a:lnTo>
                  <a:pt x="-30194" y="1628"/>
                </a:lnTo>
                <a:lnTo>
                  <a:pt x="-30174" y="1628"/>
                </a:lnTo>
                <a:lnTo>
                  <a:pt x="-30156" y="1628"/>
                </a:lnTo>
                <a:lnTo>
                  <a:pt x="-30137" y="64"/>
                </a:lnTo>
                <a:lnTo>
                  <a:pt x="-30137" y="64"/>
                </a:lnTo>
                <a:lnTo>
                  <a:pt x="-30156" y="1628"/>
                </a:lnTo>
                <a:lnTo>
                  <a:pt x="-30174" y="1628"/>
                </a:lnTo>
                <a:lnTo>
                  <a:pt x="-30194" y="1628"/>
                </a:lnTo>
                <a:lnTo>
                  <a:pt x="-30216" y="1628"/>
                </a:lnTo>
                <a:lnTo>
                  <a:pt x="-30238" y="1628"/>
                </a:lnTo>
                <a:lnTo>
                  <a:pt x="-30260" y="1628"/>
                </a:lnTo>
                <a:lnTo>
                  <a:pt x="-30284" y="1628"/>
                </a:lnTo>
                <a:lnTo>
                  <a:pt x="-30311" y="1628"/>
                </a:lnTo>
                <a:lnTo>
                  <a:pt x="-30338" y="1628"/>
                </a:lnTo>
                <a:lnTo>
                  <a:pt x="-30367" y="1628"/>
                </a:lnTo>
                <a:lnTo>
                  <a:pt x="-30398" y="1628"/>
                </a:lnTo>
                <a:lnTo>
                  <a:pt x="-30432" y="1628"/>
                </a:lnTo>
                <a:lnTo>
                  <a:pt x="-30470" y="1628"/>
                </a:lnTo>
                <a:lnTo>
                  <a:pt x="-30511" y="1628"/>
                </a:lnTo>
                <a:lnTo>
                  <a:pt x="-30555" y="1628"/>
                </a:lnTo>
                <a:lnTo>
                  <a:pt x="-30606" y="1628"/>
                </a:lnTo>
                <a:lnTo>
                  <a:pt x="-30663" y="1628"/>
                </a:lnTo>
                <a:lnTo>
                  <a:pt x="-30727" y="1628"/>
                </a:lnTo>
                <a:lnTo>
                  <a:pt x="-30806" y="1628"/>
                </a:lnTo>
                <a:lnTo>
                  <a:pt x="-30901" y="1628"/>
                </a:lnTo>
                <a:lnTo>
                  <a:pt x="-31022" y="1628"/>
                </a:lnTo>
                <a:lnTo>
                  <a:pt x="-31196" y="1628"/>
                </a:lnTo>
                <a:lnTo>
                  <a:pt x="-31491" y="1628"/>
                </a:lnTo>
                <a:lnTo>
                  <a:pt x="3190" y="127"/>
                </a:lnTo>
                <a:lnTo>
                  <a:pt x="3190" y="127"/>
                </a:lnTo>
                <a:lnTo>
                  <a:pt x="2392" y="127"/>
                </a:lnTo>
                <a:lnTo>
                  <a:pt x="1595" y="125"/>
                </a:lnTo>
                <a:lnTo>
                  <a:pt x="797" y="114"/>
                </a:lnTo>
                <a:lnTo>
                  <a:pt x="504" y="104"/>
                </a:lnTo>
                <a:lnTo>
                  <a:pt x="167" y="81"/>
                </a:lnTo>
                <a:lnTo>
                  <a:pt x="0" y="64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551560" y="4873680"/>
            <a:ext cx="4356000" cy="101520"/>
          </a:xfrm>
          <a:custGeom>
            <a:avLst/>
            <a:gdLst/>
            <a:ahLst/>
            <a:rect l="l" t="t" r="r" b="b"/>
            <a:pathLst>
              <a:path w="2744" h="64">
                <a:moveTo>
                  <a:pt x="0" y="64"/>
                </a:moveTo>
                <a:lnTo>
                  <a:pt x="167" y="45"/>
                </a:lnTo>
                <a:lnTo>
                  <a:pt x="504" y="23"/>
                </a:lnTo>
                <a:lnTo>
                  <a:pt x="797" y="13"/>
                </a:lnTo>
                <a:lnTo>
                  <a:pt x="1595" y="2"/>
                </a:lnTo>
                <a:lnTo>
                  <a:pt x="2392" y="0"/>
                </a:lnTo>
                <a:lnTo>
                  <a:pt x="2744" y="0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551560" y="4975200"/>
            <a:ext cx="4356000" cy="100080"/>
          </a:xfrm>
          <a:custGeom>
            <a:avLst/>
            <a:gdLst/>
            <a:ahLst/>
            <a:rect l="l" t="t" r="r" b="b"/>
            <a:pathLst>
              <a:path w="2744" h="63">
                <a:moveTo>
                  <a:pt x="2744" y="63"/>
                </a:moveTo>
                <a:lnTo>
                  <a:pt x="2392" y="63"/>
                </a:lnTo>
                <a:lnTo>
                  <a:pt x="1595" y="61"/>
                </a:lnTo>
                <a:lnTo>
                  <a:pt x="797" y="50"/>
                </a:lnTo>
                <a:lnTo>
                  <a:pt x="504" y="40"/>
                </a:lnTo>
                <a:lnTo>
                  <a:pt x="167" y="1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51560" y="4975200"/>
            <a:ext cx="144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51560" y="4873680"/>
            <a:ext cx="4356000" cy="101520"/>
          </a:xfrm>
          <a:custGeom>
            <a:avLst/>
            <a:gdLst/>
            <a:ahLst/>
            <a:rect l="l" t="t" r="r" b="b"/>
            <a:pathLst>
              <a:path w="2744" h="64">
                <a:moveTo>
                  <a:pt x="0" y="64"/>
                </a:moveTo>
                <a:lnTo>
                  <a:pt x="167" y="45"/>
                </a:lnTo>
                <a:lnTo>
                  <a:pt x="504" y="23"/>
                </a:lnTo>
                <a:lnTo>
                  <a:pt x="797" y="13"/>
                </a:lnTo>
                <a:lnTo>
                  <a:pt x="1595" y="2"/>
                </a:lnTo>
                <a:lnTo>
                  <a:pt x="2392" y="0"/>
                </a:lnTo>
                <a:lnTo>
                  <a:pt x="27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551560" y="4975200"/>
            <a:ext cx="4356000" cy="100080"/>
          </a:xfrm>
          <a:custGeom>
            <a:avLst/>
            <a:gdLst/>
            <a:ahLst/>
            <a:rect l="l" t="t" r="r" b="b"/>
            <a:pathLst>
              <a:path w="2744" h="63">
                <a:moveTo>
                  <a:pt x="2744" y="63"/>
                </a:moveTo>
                <a:lnTo>
                  <a:pt x="2392" y="63"/>
                </a:lnTo>
                <a:lnTo>
                  <a:pt x="1595" y="61"/>
                </a:lnTo>
                <a:lnTo>
                  <a:pt x="797" y="50"/>
                </a:lnTo>
                <a:lnTo>
                  <a:pt x="504" y="40"/>
                </a:lnTo>
                <a:lnTo>
                  <a:pt x="167" y="1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4927680" y="526104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4927680" y="5180040"/>
            <a:ext cx="144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4927680" y="5098680"/>
            <a:ext cx="144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237200" y="-55168920"/>
            <a:ext cx="24239520" cy="127370160"/>
          </a:xfrm>
          <a:custGeom>
            <a:avLst/>
            <a:gdLst/>
            <a:ahLst/>
            <a:rect l="l" t="t" r="r" b="b"/>
            <a:pathLst>
              <a:path w="15269" h="80233">
                <a:moveTo>
                  <a:pt x="0" y="38022"/>
                </a:moveTo>
                <a:lnTo>
                  <a:pt x="106" y="38012"/>
                </a:lnTo>
                <a:lnTo>
                  <a:pt x="388" y="37990"/>
                </a:lnTo>
                <a:lnTo>
                  <a:pt x="804" y="37971"/>
                </a:lnTo>
                <a:lnTo>
                  <a:pt x="954" y="37968"/>
                </a:lnTo>
                <a:lnTo>
                  <a:pt x="1608" y="37960"/>
                </a:lnTo>
                <a:lnTo>
                  <a:pt x="2411" y="37959"/>
                </a:lnTo>
                <a:lnTo>
                  <a:pt x="3217" y="37959"/>
                </a:lnTo>
                <a:lnTo>
                  <a:pt x="3217" y="37959"/>
                </a:lnTo>
                <a:lnTo>
                  <a:pt x="13866" y="40459"/>
                </a:lnTo>
                <a:lnTo>
                  <a:pt x="14161" y="4419"/>
                </a:lnTo>
                <a:lnTo>
                  <a:pt x="14333" y="12851"/>
                </a:lnTo>
                <a:lnTo>
                  <a:pt x="14456" y="46865"/>
                </a:lnTo>
                <a:lnTo>
                  <a:pt x="14551" y="21904"/>
                </a:lnTo>
                <a:lnTo>
                  <a:pt x="14628" y="72816"/>
                </a:lnTo>
                <a:lnTo>
                  <a:pt x="14694" y="63152"/>
                </a:lnTo>
                <a:lnTo>
                  <a:pt x="14751" y="31030"/>
                </a:lnTo>
                <a:lnTo>
                  <a:pt x="14801" y="80233"/>
                </a:lnTo>
                <a:lnTo>
                  <a:pt x="14846" y="0"/>
                </a:lnTo>
                <a:lnTo>
                  <a:pt x="14887" y="42733"/>
                </a:lnTo>
                <a:lnTo>
                  <a:pt x="14923" y="32269"/>
                </a:lnTo>
                <a:lnTo>
                  <a:pt x="14958" y="3197"/>
                </a:lnTo>
                <a:lnTo>
                  <a:pt x="14989" y="45530"/>
                </a:lnTo>
                <a:lnTo>
                  <a:pt x="15018" y="62535"/>
                </a:lnTo>
                <a:lnTo>
                  <a:pt x="15046" y="26668"/>
                </a:lnTo>
                <a:lnTo>
                  <a:pt x="15072" y="41711"/>
                </a:lnTo>
                <a:lnTo>
                  <a:pt x="15097" y="45527"/>
                </a:lnTo>
                <a:lnTo>
                  <a:pt x="15120" y="58933"/>
                </a:lnTo>
                <a:lnTo>
                  <a:pt x="15141" y="19795"/>
                </a:lnTo>
                <a:lnTo>
                  <a:pt x="15161" y="57840"/>
                </a:lnTo>
                <a:lnTo>
                  <a:pt x="15182" y="10670"/>
                </a:lnTo>
                <a:lnTo>
                  <a:pt x="15201" y="8015"/>
                </a:lnTo>
                <a:lnTo>
                  <a:pt x="15218" y="66373"/>
                </a:lnTo>
                <a:lnTo>
                  <a:pt x="15236" y="44967"/>
                </a:lnTo>
                <a:lnTo>
                  <a:pt x="15253" y="12587"/>
                </a:lnTo>
                <a:lnTo>
                  <a:pt x="15269" y="38022"/>
                </a:lnTo>
                <a:lnTo>
                  <a:pt x="15269" y="38022"/>
                </a:lnTo>
                <a:lnTo>
                  <a:pt x="15253" y="63457"/>
                </a:lnTo>
                <a:lnTo>
                  <a:pt x="15236" y="31078"/>
                </a:lnTo>
                <a:lnTo>
                  <a:pt x="15218" y="9672"/>
                </a:lnTo>
                <a:lnTo>
                  <a:pt x="15201" y="68030"/>
                </a:lnTo>
                <a:lnTo>
                  <a:pt x="15182" y="65375"/>
                </a:lnTo>
                <a:lnTo>
                  <a:pt x="15161" y="18205"/>
                </a:lnTo>
                <a:lnTo>
                  <a:pt x="15141" y="56250"/>
                </a:lnTo>
                <a:lnTo>
                  <a:pt x="15120" y="17112"/>
                </a:lnTo>
                <a:lnTo>
                  <a:pt x="15097" y="30520"/>
                </a:lnTo>
                <a:lnTo>
                  <a:pt x="15072" y="34334"/>
                </a:lnTo>
                <a:lnTo>
                  <a:pt x="15046" y="49377"/>
                </a:lnTo>
                <a:lnTo>
                  <a:pt x="15018" y="13510"/>
                </a:lnTo>
                <a:lnTo>
                  <a:pt x="14989" y="30515"/>
                </a:lnTo>
                <a:lnTo>
                  <a:pt x="14958" y="72849"/>
                </a:lnTo>
                <a:lnTo>
                  <a:pt x="14923" y="43776"/>
                </a:lnTo>
                <a:lnTo>
                  <a:pt x="14887" y="33313"/>
                </a:lnTo>
                <a:lnTo>
                  <a:pt x="14846" y="76047"/>
                </a:lnTo>
                <a:lnTo>
                  <a:pt x="14801" y="78772"/>
                </a:lnTo>
                <a:lnTo>
                  <a:pt x="14751" y="45015"/>
                </a:lnTo>
                <a:lnTo>
                  <a:pt x="14694" y="12894"/>
                </a:lnTo>
                <a:lnTo>
                  <a:pt x="14628" y="3229"/>
                </a:lnTo>
                <a:lnTo>
                  <a:pt x="14551" y="54141"/>
                </a:lnTo>
                <a:lnTo>
                  <a:pt x="14456" y="29180"/>
                </a:lnTo>
                <a:lnTo>
                  <a:pt x="14333" y="63194"/>
                </a:lnTo>
                <a:lnTo>
                  <a:pt x="14161" y="71626"/>
                </a:lnTo>
                <a:lnTo>
                  <a:pt x="13866" y="35586"/>
                </a:lnTo>
                <a:lnTo>
                  <a:pt x="3217" y="38086"/>
                </a:lnTo>
                <a:lnTo>
                  <a:pt x="3217" y="38086"/>
                </a:lnTo>
                <a:lnTo>
                  <a:pt x="2411" y="38086"/>
                </a:lnTo>
                <a:lnTo>
                  <a:pt x="1608" y="38084"/>
                </a:lnTo>
                <a:lnTo>
                  <a:pt x="954" y="38078"/>
                </a:lnTo>
                <a:lnTo>
                  <a:pt x="804" y="38074"/>
                </a:lnTo>
                <a:lnTo>
                  <a:pt x="388" y="38057"/>
                </a:lnTo>
                <a:lnTo>
                  <a:pt x="106" y="38033"/>
                </a:lnTo>
                <a:lnTo>
                  <a:pt x="0" y="38022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237200" y="5091120"/>
            <a:ext cx="5106960" cy="209520"/>
          </a:xfrm>
          <a:custGeom>
            <a:avLst/>
            <a:gdLst/>
            <a:ahLst/>
            <a:rect l="l" t="t" r="r" b="b"/>
            <a:pathLst>
              <a:path w="3217" h="132">
                <a:moveTo>
                  <a:pt x="0" y="63"/>
                </a:moveTo>
                <a:lnTo>
                  <a:pt x="106" y="53"/>
                </a:lnTo>
                <a:lnTo>
                  <a:pt x="388" y="31"/>
                </a:lnTo>
                <a:lnTo>
                  <a:pt x="804" y="12"/>
                </a:lnTo>
                <a:lnTo>
                  <a:pt x="954" y="9"/>
                </a:lnTo>
                <a:lnTo>
                  <a:pt x="1608" y="1"/>
                </a:lnTo>
                <a:lnTo>
                  <a:pt x="2411" y="0"/>
                </a:lnTo>
                <a:lnTo>
                  <a:pt x="3217" y="0"/>
                </a:lnTo>
                <a:lnTo>
                  <a:pt x="3217" y="0"/>
                </a:lnTo>
                <a:lnTo>
                  <a:pt x="3217" y="132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237200" y="5083200"/>
            <a:ext cx="5106960" cy="209520"/>
          </a:xfrm>
          <a:custGeom>
            <a:avLst/>
            <a:gdLst/>
            <a:ahLst/>
            <a:rect l="l" t="t" r="r" b="b"/>
            <a:pathLst>
              <a:path w="3217" h="132">
                <a:moveTo>
                  <a:pt x="3217" y="0"/>
                </a:moveTo>
                <a:lnTo>
                  <a:pt x="3217" y="132"/>
                </a:lnTo>
                <a:lnTo>
                  <a:pt x="3217" y="132"/>
                </a:lnTo>
                <a:lnTo>
                  <a:pt x="2411" y="132"/>
                </a:lnTo>
                <a:lnTo>
                  <a:pt x="1608" y="130"/>
                </a:lnTo>
                <a:lnTo>
                  <a:pt x="954" y="124"/>
                </a:lnTo>
                <a:lnTo>
                  <a:pt x="804" y="120"/>
                </a:lnTo>
                <a:lnTo>
                  <a:pt x="388" y="103"/>
                </a:lnTo>
                <a:lnTo>
                  <a:pt x="106" y="79"/>
                </a:lnTo>
                <a:lnTo>
                  <a:pt x="0" y="68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237200" y="5191200"/>
            <a:ext cx="144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237200" y="5091120"/>
            <a:ext cx="5106960" cy="209520"/>
          </a:xfrm>
          <a:custGeom>
            <a:avLst/>
            <a:gdLst/>
            <a:ahLst/>
            <a:rect l="l" t="t" r="r" b="b"/>
            <a:pathLst>
              <a:path w="3217" h="132">
                <a:moveTo>
                  <a:pt x="0" y="63"/>
                </a:moveTo>
                <a:lnTo>
                  <a:pt x="106" y="53"/>
                </a:lnTo>
                <a:lnTo>
                  <a:pt x="388" y="31"/>
                </a:lnTo>
                <a:lnTo>
                  <a:pt x="804" y="12"/>
                </a:lnTo>
                <a:lnTo>
                  <a:pt x="954" y="9"/>
                </a:lnTo>
                <a:lnTo>
                  <a:pt x="1608" y="1"/>
                </a:lnTo>
                <a:lnTo>
                  <a:pt x="2411" y="0"/>
                </a:lnTo>
                <a:lnTo>
                  <a:pt x="3217" y="0"/>
                </a:lnTo>
                <a:lnTo>
                  <a:pt x="3217" y="0"/>
                </a:lnTo>
                <a:lnTo>
                  <a:pt x="3217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237200" y="5083200"/>
            <a:ext cx="5106960" cy="209520"/>
          </a:xfrm>
          <a:custGeom>
            <a:avLst/>
            <a:gdLst/>
            <a:ahLst/>
            <a:rect l="l" t="t" r="r" b="b"/>
            <a:pathLst>
              <a:path w="3217" h="132">
                <a:moveTo>
                  <a:pt x="3217" y="0"/>
                </a:moveTo>
                <a:lnTo>
                  <a:pt x="3217" y="132"/>
                </a:lnTo>
                <a:lnTo>
                  <a:pt x="3217" y="132"/>
                </a:lnTo>
                <a:lnTo>
                  <a:pt x="2411" y="132"/>
                </a:lnTo>
                <a:lnTo>
                  <a:pt x="1608" y="130"/>
                </a:lnTo>
                <a:lnTo>
                  <a:pt x="954" y="124"/>
                </a:lnTo>
                <a:lnTo>
                  <a:pt x="804" y="120"/>
                </a:lnTo>
                <a:lnTo>
                  <a:pt x="388" y="103"/>
                </a:lnTo>
                <a:lnTo>
                  <a:pt x="106" y="79"/>
                </a:lnTo>
                <a:lnTo>
                  <a:pt x="0" y="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9675720" y="5149800"/>
            <a:ext cx="84240" cy="8424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9301320" y="5149800"/>
            <a:ext cx="83880" cy="84240"/>
          </a:xfrm>
          <a:prstGeom prst="ellips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9306000" y="5154480"/>
            <a:ext cx="74520" cy="74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4927680" y="5477040"/>
            <a:ext cx="1440" cy="4104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4927680" y="5397480"/>
            <a:ext cx="1440" cy="396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4927680" y="5316480"/>
            <a:ext cx="1440" cy="396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97560" y="5308560"/>
            <a:ext cx="47220480" cy="2149560"/>
          </a:xfrm>
          <a:custGeom>
            <a:avLst/>
            <a:gdLst/>
            <a:ahLst/>
            <a:rect l="l" t="t" r="r" b="b"/>
            <a:pathLst>
              <a:path w="29745" h="1354">
                <a:moveTo>
                  <a:pt x="0" y="63"/>
                </a:moveTo>
                <a:lnTo>
                  <a:pt x="166" y="54"/>
                </a:lnTo>
                <a:lnTo>
                  <a:pt x="499" y="43"/>
                </a:lnTo>
                <a:lnTo>
                  <a:pt x="2119" y="19"/>
                </a:lnTo>
                <a:lnTo>
                  <a:pt x="3159" y="10"/>
                </a:lnTo>
                <a:lnTo>
                  <a:pt x="4240" y="5"/>
                </a:lnTo>
                <a:lnTo>
                  <a:pt x="6360" y="0"/>
                </a:lnTo>
                <a:lnTo>
                  <a:pt x="8480" y="0"/>
                </a:lnTo>
                <a:lnTo>
                  <a:pt x="8480" y="0"/>
                </a:lnTo>
                <a:lnTo>
                  <a:pt x="28342" y="1354"/>
                </a:lnTo>
                <a:lnTo>
                  <a:pt x="28637" y="1354"/>
                </a:lnTo>
                <a:lnTo>
                  <a:pt x="28809" y="1354"/>
                </a:lnTo>
                <a:lnTo>
                  <a:pt x="28932" y="1354"/>
                </a:lnTo>
                <a:lnTo>
                  <a:pt x="29027" y="1354"/>
                </a:lnTo>
                <a:lnTo>
                  <a:pt x="29104" y="1354"/>
                </a:lnTo>
                <a:lnTo>
                  <a:pt x="29170" y="1354"/>
                </a:lnTo>
                <a:lnTo>
                  <a:pt x="29227" y="1354"/>
                </a:lnTo>
                <a:lnTo>
                  <a:pt x="29276" y="1354"/>
                </a:lnTo>
                <a:lnTo>
                  <a:pt x="29322" y="1354"/>
                </a:lnTo>
                <a:lnTo>
                  <a:pt x="29362" y="1354"/>
                </a:lnTo>
                <a:lnTo>
                  <a:pt x="29399" y="1354"/>
                </a:lnTo>
                <a:lnTo>
                  <a:pt x="29433" y="1354"/>
                </a:lnTo>
                <a:lnTo>
                  <a:pt x="29465" y="1354"/>
                </a:lnTo>
                <a:lnTo>
                  <a:pt x="29494" y="1354"/>
                </a:lnTo>
                <a:lnTo>
                  <a:pt x="29522" y="1354"/>
                </a:lnTo>
                <a:lnTo>
                  <a:pt x="29547" y="1354"/>
                </a:lnTo>
                <a:lnTo>
                  <a:pt x="29573" y="1354"/>
                </a:lnTo>
                <a:lnTo>
                  <a:pt x="29595" y="1354"/>
                </a:lnTo>
                <a:lnTo>
                  <a:pt x="29617" y="1354"/>
                </a:lnTo>
                <a:lnTo>
                  <a:pt x="29637" y="1354"/>
                </a:lnTo>
                <a:lnTo>
                  <a:pt x="29657" y="1354"/>
                </a:lnTo>
                <a:lnTo>
                  <a:pt x="29676" y="1354"/>
                </a:lnTo>
                <a:lnTo>
                  <a:pt x="29694" y="1354"/>
                </a:lnTo>
                <a:lnTo>
                  <a:pt x="29712" y="1354"/>
                </a:lnTo>
                <a:lnTo>
                  <a:pt x="29728" y="1354"/>
                </a:lnTo>
                <a:lnTo>
                  <a:pt x="29745" y="63"/>
                </a:lnTo>
                <a:lnTo>
                  <a:pt x="29745" y="63"/>
                </a:lnTo>
                <a:lnTo>
                  <a:pt x="29728" y="1354"/>
                </a:lnTo>
                <a:lnTo>
                  <a:pt x="29712" y="1354"/>
                </a:lnTo>
                <a:lnTo>
                  <a:pt x="29694" y="1354"/>
                </a:lnTo>
                <a:lnTo>
                  <a:pt x="29676" y="1354"/>
                </a:lnTo>
                <a:lnTo>
                  <a:pt x="29657" y="1354"/>
                </a:lnTo>
                <a:lnTo>
                  <a:pt x="29637" y="1354"/>
                </a:lnTo>
                <a:lnTo>
                  <a:pt x="29617" y="1354"/>
                </a:lnTo>
                <a:lnTo>
                  <a:pt x="29595" y="1354"/>
                </a:lnTo>
                <a:lnTo>
                  <a:pt x="29573" y="1354"/>
                </a:lnTo>
                <a:lnTo>
                  <a:pt x="29547" y="1354"/>
                </a:lnTo>
                <a:lnTo>
                  <a:pt x="29522" y="1354"/>
                </a:lnTo>
                <a:lnTo>
                  <a:pt x="29494" y="1354"/>
                </a:lnTo>
                <a:lnTo>
                  <a:pt x="29465" y="1354"/>
                </a:lnTo>
                <a:lnTo>
                  <a:pt x="29433" y="1354"/>
                </a:lnTo>
                <a:lnTo>
                  <a:pt x="29399" y="1354"/>
                </a:lnTo>
                <a:lnTo>
                  <a:pt x="29362" y="1354"/>
                </a:lnTo>
                <a:lnTo>
                  <a:pt x="29322" y="1354"/>
                </a:lnTo>
                <a:lnTo>
                  <a:pt x="29276" y="1354"/>
                </a:lnTo>
                <a:lnTo>
                  <a:pt x="29227" y="1354"/>
                </a:lnTo>
                <a:lnTo>
                  <a:pt x="29170" y="1354"/>
                </a:lnTo>
                <a:lnTo>
                  <a:pt x="29104" y="1354"/>
                </a:lnTo>
                <a:lnTo>
                  <a:pt x="29027" y="1354"/>
                </a:lnTo>
                <a:lnTo>
                  <a:pt x="28932" y="1354"/>
                </a:lnTo>
                <a:lnTo>
                  <a:pt x="28809" y="1354"/>
                </a:lnTo>
                <a:lnTo>
                  <a:pt x="28637" y="1354"/>
                </a:lnTo>
                <a:lnTo>
                  <a:pt x="28342" y="1354"/>
                </a:lnTo>
                <a:lnTo>
                  <a:pt x="8480" y="126"/>
                </a:lnTo>
                <a:lnTo>
                  <a:pt x="8480" y="126"/>
                </a:lnTo>
                <a:lnTo>
                  <a:pt x="6360" y="126"/>
                </a:lnTo>
                <a:lnTo>
                  <a:pt x="4240" y="123"/>
                </a:lnTo>
                <a:lnTo>
                  <a:pt x="3159" y="116"/>
                </a:lnTo>
                <a:lnTo>
                  <a:pt x="2119" y="109"/>
                </a:lnTo>
                <a:lnTo>
                  <a:pt x="499" y="85"/>
                </a:lnTo>
                <a:lnTo>
                  <a:pt x="166" y="73"/>
                </a:lnTo>
                <a:lnTo>
                  <a:pt x="0" y="63"/>
                </a:lnTo>
                <a:close/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7297560" y="5348160"/>
            <a:ext cx="2610000" cy="60480"/>
          </a:xfrm>
          <a:custGeom>
            <a:avLst/>
            <a:gdLst/>
            <a:ahLst/>
            <a:rect l="l" t="t" r="r" b="b"/>
            <a:pathLst>
              <a:path w="1644" h="38">
                <a:moveTo>
                  <a:pt x="0" y="38"/>
                </a:moveTo>
                <a:lnTo>
                  <a:pt x="166" y="29"/>
                </a:lnTo>
                <a:lnTo>
                  <a:pt x="499" y="18"/>
                </a:lnTo>
                <a:lnTo>
                  <a:pt x="1644" y="0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7297560" y="5408640"/>
            <a:ext cx="2610000" cy="60120"/>
          </a:xfrm>
          <a:custGeom>
            <a:avLst/>
            <a:gdLst/>
            <a:ahLst/>
            <a:rect l="l" t="t" r="r" b="b"/>
            <a:pathLst>
              <a:path w="1644" h="38">
                <a:moveTo>
                  <a:pt x="1644" y="38"/>
                </a:moveTo>
                <a:lnTo>
                  <a:pt x="499" y="22"/>
                </a:lnTo>
                <a:lnTo>
                  <a:pt x="166" y="1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297560" y="5408640"/>
            <a:ext cx="1800" cy="1440"/>
          </a:xfrm>
          <a:prstGeom prst="line">
            <a:avLst/>
          </a:prstGeom>
          <a:ln w="936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297560" y="5348160"/>
            <a:ext cx="2610000" cy="60480"/>
          </a:xfrm>
          <a:custGeom>
            <a:avLst/>
            <a:gdLst/>
            <a:ahLst/>
            <a:rect l="l" t="t" r="r" b="b"/>
            <a:pathLst>
              <a:path w="1644" h="38">
                <a:moveTo>
                  <a:pt x="0" y="38"/>
                </a:moveTo>
                <a:lnTo>
                  <a:pt x="166" y="29"/>
                </a:lnTo>
                <a:lnTo>
                  <a:pt x="499" y="18"/>
                </a:lnTo>
                <a:lnTo>
                  <a:pt x="16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7297560" y="5408640"/>
            <a:ext cx="2610000" cy="60120"/>
          </a:xfrm>
          <a:custGeom>
            <a:avLst/>
            <a:gdLst/>
            <a:ahLst/>
            <a:rect l="l" t="t" r="r" b="b"/>
            <a:pathLst>
              <a:path w="1644" h="38">
                <a:moveTo>
                  <a:pt x="1644" y="38"/>
                </a:moveTo>
                <a:lnTo>
                  <a:pt x="499" y="22"/>
                </a:lnTo>
                <a:lnTo>
                  <a:pt x="166" y="10"/>
                </a:lnTo>
                <a:lnTo>
                  <a:pt x="0" y="0"/>
                </a:lnTo>
              </a:path>
            </a:pathLst>
          </a:custGeom>
          <a:solidFill>
            <a:srgbClr val="faf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2665800" y="4861080"/>
            <a:ext cx="4472280" cy="640440"/>
            <a:chOff x="2665800" y="4861080"/>
            <a:chExt cx="4472280" cy="640440"/>
          </a:xfrm>
        </p:grpSpPr>
        <p:sp>
          <p:nvSpPr>
            <p:cNvPr id="1182" name=""/>
            <p:cNvSpPr/>
            <p:nvPr/>
          </p:nvSpPr>
          <p:spPr>
            <a:xfrm>
              <a:off x="4494240" y="4861080"/>
              <a:ext cx="100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Pelagic ray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65800" y="5089680"/>
              <a:ext cx="141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Crocodile shark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325200" y="5257800"/>
              <a:ext cx="812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fafd00"/>
                  </a:solidFill>
                  <a:latin typeface="Arial"/>
                </a:rPr>
                <a:t>Pomfrets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85" name=""/>
          <p:cNvSpPr/>
          <p:nvPr/>
        </p:nvSpPr>
        <p:spPr>
          <a:xfrm>
            <a:off x="1816200" y="5599080"/>
            <a:ext cx="1440" cy="468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371760" y="5599080"/>
            <a:ext cx="1800" cy="468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927680" y="5599080"/>
            <a:ext cx="1440" cy="468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85040" y="5599080"/>
            <a:ext cx="1440" cy="468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8040600" y="5599080"/>
            <a:ext cx="1800" cy="468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816200" y="5599080"/>
            <a:ext cx="6224400" cy="180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564200" y="569916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190320" y="569916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57120" y="5699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344640" y="56991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828560" y="569916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371760" y="5627520"/>
            <a:ext cx="1800" cy="5112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927680" y="5627520"/>
            <a:ext cx="1440" cy="5112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485040" y="5627520"/>
            <a:ext cx="1440" cy="5112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927680" y="5526000"/>
            <a:ext cx="1440" cy="2556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927680" y="5578560"/>
            <a:ext cx="1440" cy="2376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380880" y="533520"/>
            <a:ext cx="221004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Large predator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80880" y="2817720"/>
            <a:ext cx="22100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Small speci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80880" y="4419720"/>
            <a:ext cx="22100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Rare speci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333760" y="609480"/>
            <a:ext cx="1143000" cy="0"/>
          </a:xfrm>
          <a:prstGeom prst="line">
            <a:avLst/>
          </a:prstGeom>
          <a:ln w="12600">
            <a:solidFill>
              <a:srgbClr val="cecece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3352320" y="609480"/>
            <a:ext cx="1143000" cy="0"/>
          </a:xfrm>
          <a:prstGeom prst="line">
            <a:avLst/>
          </a:prstGeom>
          <a:ln w="12600">
            <a:solidFill>
              <a:srgbClr val="cecece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8075520" y="5627520"/>
            <a:ext cx="1800" cy="5112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27360" y="5627520"/>
            <a:ext cx="1440" cy="51120"/>
          </a:xfrm>
          <a:prstGeom prst="line">
            <a:avLst/>
          </a:prstGeom>
          <a:ln w="936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268360" y="6021360"/>
            <a:ext cx="534852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Palatino"/>
                <a:ea typeface="Times New Roman"/>
              </a:rPr>
              <a:t>Change in mass or cpu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95680" y="15228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Palatino"/>
                <a:ea typeface="Times New Roman"/>
              </a:rPr>
              <a:t>incre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743200" y="15228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Palatino"/>
                <a:ea typeface="Times New Roman"/>
              </a:rPr>
              <a:t>decreas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cecece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1873080" y="2952720"/>
            <a:ext cx="325440" cy="64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203560" y="2928960"/>
            <a:ext cx="314280" cy="25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527200" y="2917800"/>
            <a:ext cx="316080" cy="363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852640" y="2763720"/>
            <a:ext cx="316080" cy="190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178080" y="2674800"/>
            <a:ext cx="316080" cy="2793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503520" y="2727360"/>
            <a:ext cx="316080" cy="226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828960" y="2573280"/>
            <a:ext cx="31608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54400" y="2392200"/>
            <a:ext cx="314280" cy="561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478400" y="1913040"/>
            <a:ext cx="314280" cy="1041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778360" y="2057400"/>
            <a:ext cx="314640" cy="8967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102360" y="2459160"/>
            <a:ext cx="316080" cy="4950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427800" y="2590920"/>
            <a:ext cx="316080" cy="363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753240" y="2797200"/>
            <a:ext cx="315720" cy="156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078680" y="2873520"/>
            <a:ext cx="314280" cy="806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402680" y="2935440"/>
            <a:ext cx="314280" cy="18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726320" y="2952720"/>
            <a:ext cx="316080" cy="14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73080" y="2959200"/>
            <a:ext cx="6499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873080" y="2959200"/>
            <a:ext cx="6499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873080" y="2952720"/>
            <a:ext cx="325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1873080" y="2952720"/>
            <a:ext cx="1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98520" y="2924280"/>
            <a:ext cx="32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2198520" y="2923920"/>
            <a:ext cx="1800" cy="3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522520" y="2913120"/>
            <a:ext cx="325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522520" y="2913120"/>
            <a:ext cx="144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847960" y="2759040"/>
            <a:ext cx="325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2847960" y="2759040"/>
            <a:ext cx="14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173400" y="2670120"/>
            <a:ext cx="325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3173400" y="2669760"/>
            <a:ext cx="14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498840" y="2722680"/>
            <a:ext cx="325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3498840" y="2669760"/>
            <a:ext cx="14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824280" y="2568600"/>
            <a:ext cx="325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3824280" y="2568240"/>
            <a:ext cx="144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149720" y="2387520"/>
            <a:ext cx="32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4149720" y="2387520"/>
            <a:ext cx="144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448240" y="1531800"/>
            <a:ext cx="325440" cy="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5448240" y="971280"/>
            <a:ext cx="1800" cy="19875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73680" y="2052720"/>
            <a:ext cx="324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097680" y="2454120"/>
            <a:ext cx="325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6097680" y="2052720"/>
            <a:ext cx="1440" cy="90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423120" y="2585880"/>
            <a:ext cx="325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6423120" y="2453760"/>
            <a:ext cx="1440" cy="50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48560" y="2792520"/>
            <a:ext cx="325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6748560" y="2585520"/>
            <a:ext cx="1440" cy="37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074000" y="2868480"/>
            <a:ext cx="323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7074000" y="2792160"/>
            <a:ext cx="144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397640" y="2930400"/>
            <a:ext cx="324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7397640" y="2868480"/>
            <a:ext cx="1800" cy="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721640" y="2948040"/>
            <a:ext cx="325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7721640" y="2930400"/>
            <a:ext cx="1440" cy="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47080" y="2959200"/>
            <a:ext cx="325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8047080" y="2947680"/>
            <a:ext cx="1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372520" y="295920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873080" y="3038400"/>
            <a:ext cx="1800" cy="428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473720" y="3038400"/>
            <a:ext cx="1440" cy="428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773680" y="3038400"/>
            <a:ext cx="1800" cy="428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074000" y="3038400"/>
            <a:ext cx="1440" cy="428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372520" y="3038400"/>
            <a:ext cx="1440" cy="428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873080" y="3038400"/>
            <a:ext cx="6499440" cy="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821600" y="31240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034080" y="3124080"/>
            <a:ext cx="25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Palatino"/>
              </a:rPr>
              <a:t>2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334040" y="3124080"/>
            <a:ext cx="25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Palatino"/>
              </a:rPr>
              <a:t>4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634360" y="3124080"/>
            <a:ext cx="25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Palatino"/>
              </a:rPr>
              <a:t>6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934320" y="3124080"/>
            <a:ext cx="25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Palatino"/>
              </a:rPr>
              <a:t>8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2880" y="3124080"/>
            <a:ext cx="38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Palatino"/>
              </a:rPr>
              <a:t>1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1707840" y="2959200"/>
            <a:ext cx="4284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1707840" y="2254320"/>
            <a:ext cx="4284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1707840" y="1549440"/>
            <a:ext cx="4284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1707840" y="1197000"/>
            <a:ext cx="4284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 flipV="1">
            <a:off x="1751040" y="1196640"/>
            <a:ext cx="1440" cy="17622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rot="16200000">
            <a:off x="1474560" y="27914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rot="16200000">
            <a:off x="1346760" y="2165760"/>
            <a:ext cx="38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Palatino"/>
              </a:rPr>
              <a:t>2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rot="16200000">
            <a:off x="1346760" y="1460880"/>
            <a:ext cx="38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Palatino"/>
              </a:rPr>
              <a:t>4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049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Yellowfin tuna siz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572000" y="9907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1950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802040" y="1187280"/>
            <a:ext cx="316080" cy="176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127480" y="976320"/>
            <a:ext cx="316080" cy="19778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452920" y="1536840"/>
            <a:ext cx="316080" cy="1417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200400" y="3048120"/>
            <a:ext cx="1440" cy="428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1401840" y="3629880"/>
            <a:ext cx="7175880" cy="2908440"/>
            <a:chOff x="1401840" y="3629880"/>
            <a:chExt cx="7175880" cy="2908440"/>
          </a:xfrm>
        </p:grpSpPr>
        <p:sp>
          <p:nvSpPr>
            <p:cNvPr id="1290" name=""/>
            <p:cNvSpPr/>
            <p:nvPr/>
          </p:nvSpPr>
          <p:spPr>
            <a:xfrm>
              <a:off x="1878120" y="5584680"/>
              <a:ext cx="315720" cy="860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203560" y="5307120"/>
              <a:ext cx="314280" cy="3636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527200" y="4730760"/>
              <a:ext cx="316080" cy="939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852640" y="4413240"/>
              <a:ext cx="316080" cy="1257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78080" y="3951360"/>
              <a:ext cx="316080" cy="17193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503520" y="3692520"/>
              <a:ext cx="316080" cy="19782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828960" y="4606920"/>
              <a:ext cx="316080" cy="1063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54400" y="4856040"/>
              <a:ext cx="314280" cy="8146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478400" y="5110200"/>
              <a:ext cx="314280" cy="5605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802040" y="5278320"/>
              <a:ext cx="316080" cy="3924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127480" y="5457960"/>
              <a:ext cx="316080" cy="2127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452920" y="5549760"/>
              <a:ext cx="316080" cy="120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78360" y="5610240"/>
              <a:ext cx="314640" cy="604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102360" y="5649840"/>
              <a:ext cx="316080" cy="2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423120" y="5667480"/>
              <a:ext cx="325440" cy="79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74000" y="5673600"/>
              <a:ext cx="323640" cy="1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8047080" y="5675400"/>
              <a:ext cx="325440" cy="14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873080" y="5675400"/>
              <a:ext cx="649944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73080" y="5675400"/>
              <a:ext cx="649944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V="1">
              <a:off x="1873080" y="5579640"/>
              <a:ext cx="1800" cy="954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198520" y="5302080"/>
              <a:ext cx="324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198520" y="5301720"/>
              <a:ext cx="1800" cy="37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22520" y="472608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522520" y="4725720"/>
              <a:ext cx="1440" cy="9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847960" y="440856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2847960" y="4408200"/>
              <a:ext cx="1440" cy="126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73400" y="394668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3173400" y="3946680"/>
              <a:ext cx="1440" cy="17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498840" y="368784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24280" y="460224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3824280" y="3687480"/>
              <a:ext cx="1440" cy="198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149720" y="4851360"/>
              <a:ext cx="324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4149720" y="4601880"/>
              <a:ext cx="1440" cy="10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473720" y="5105520"/>
              <a:ext cx="323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473720" y="4851000"/>
              <a:ext cx="144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797360" y="5273640"/>
              <a:ext cx="325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4797360" y="5105160"/>
              <a:ext cx="1800" cy="56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122800" y="5452920"/>
              <a:ext cx="325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5122800" y="5273640"/>
              <a:ext cx="180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448240" y="5545080"/>
              <a:ext cx="325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5448240" y="5452920"/>
              <a:ext cx="1800" cy="22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73680" y="5605560"/>
              <a:ext cx="32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5773680" y="5545080"/>
              <a:ext cx="1800" cy="13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97680" y="564516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6097680" y="5605560"/>
              <a:ext cx="144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23120" y="566748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6423120" y="5645160"/>
              <a:ext cx="144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748560" y="567540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6748560" y="5667480"/>
              <a:ext cx="14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074000" y="5673600"/>
              <a:ext cx="3236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7074000" y="5673240"/>
              <a:ext cx="1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397640" y="5675400"/>
              <a:ext cx="3240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7397640" y="5673240"/>
              <a:ext cx="1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721640" y="567540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721640" y="5675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047080" y="5675400"/>
              <a:ext cx="325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047080" y="5675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372520" y="5675400"/>
              <a:ext cx="1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873080" y="5754600"/>
              <a:ext cx="1800" cy="428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473720" y="5754600"/>
              <a:ext cx="1440" cy="428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773680" y="5754600"/>
              <a:ext cx="1800" cy="428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074000" y="5754600"/>
              <a:ext cx="1440" cy="428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372520" y="5754600"/>
              <a:ext cx="1440" cy="428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830960" y="583236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34080" y="5832360"/>
              <a:ext cx="25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2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34040" y="5832360"/>
              <a:ext cx="25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4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634360" y="5832360"/>
              <a:ext cx="25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6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934320" y="5832360"/>
              <a:ext cx="256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8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92880" y="583236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1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1707840" y="5675400"/>
              <a:ext cx="4284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1707840" y="5313240"/>
              <a:ext cx="42840" cy="1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1707840" y="4586400"/>
              <a:ext cx="4284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1707840" y="3857760"/>
              <a:ext cx="4284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1751040" y="3857400"/>
              <a:ext cx="1440" cy="18176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16200000">
              <a:off x="1474560" y="5507640"/>
              <a:ext cx="12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16200000">
              <a:off x="1346760" y="5142240"/>
              <a:ext cx="384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5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rot="16200000">
              <a:off x="1282680" y="4475880"/>
              <a:ext cx="51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15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16200000">
              <a:off x="1282680" y="3748680"/>
              <a:ext cx="512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cecece"/>
                  </a:solidFill>
                  <a:latin typeface="Palatino"/>
                </a:rPr>
                <a:t>2500</a:t>
              </a:r>
              <a:endParaRPr b="0" lang="en-US" sz="1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572000" y="3851280"/>
              <a:ext cx="37339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Palatino"/>
                </a:rPr>
                <a:t>1990s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28800" y="5715000"/>
              <a:ext cx="6553080" cy="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198960" y="5748480"/>
              <a:ext cx="1440" cy="428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53280" y="6172200"/>
              <a:ext cx="121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cece"/>
                  </a:solidFill>
                  <a:latin typeface="Palatino"/>
                </a:rPr>
                <a:t>Size (</a:t>
              </a:r>
              <a:r>
                <a:rPr b="0" lang="en-CA" sz="2400" spc="-1" strike="noStrike">
                  <a:solidFill>
                    <a:srgbClr val="cecece"/>
                  </a:solidFill>
                  <a:latin typeface="Palatino"/>
                </a:rPr>
                <a:t>kg</a:t>
              </a:r>
              <a:r>
                <a:rPr b="0" lang="en-US" sz="2400" spc="-1" strike="noStrike">
                  <a:solidFill>
                    <a:srgbClr val="cecece"/>
                  </a:solidFill>
                  <a:latin typeface="Palatino"/>
                </a:rPr>
                <a:t>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72" name=""/>
          <p:cNvSpPr/>
          <p:nvPr/>
        </p:nvSpPr>
        <p:spPr>
          <a:xfrm>
            <a:off x="4518360" y="3429000"/>
            <a:ext cx="121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Palatino"/>
              </a:rPr>
              <a:t>Size (</a:t>
            </a: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kg</a:t>
            </a:r>
            <a:r>
              <a:rPr b="0" lang="en-US" sz="2400" spc="-1" strike="noStrike">
                <a:solidFill>
                  <a:srgbClr val="cecece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>
            <a:off x="2879640" y="6035760"/>
            <a:ext cx="292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950s </a:t>
            </a:r>
            <a:r>
              <a:rPr b="0" lang="en-AU" sz="2400" spc="-1" strike="noStrike">
                <a:solidFill>
                  <a:srgbClr val="cecece"/>
                </a:solidFill>
                <a:latin typeface="Arial"/>
              </a:rPr>
              <a:t>mean size</a:t>
            </a: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 </a:t>
            </a: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(</a:t>
            </a: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kg</a:t>
            </a: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rot="16200000">
            <a:off x="-979920" y="3164760"/>
            <a:ext cx="293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ecece"/>
                </a:solidFill>
                <a:latin typeface="Arial"/>
              </a:rPr>
              <a:t>1990s mean size</a:t>
            </a: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 </a:t>
            </a: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(</a:t>
            </a: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kg</a:t>
            </a: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52600" y="5511960"/>
            <a:ext cx="1440" cy="936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309840" y="5511960"/>
            <a:ext cx="1800" cy="936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165640" y="5511960"/>
            <a:ext cx="1800" cy="936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023240" y="5511960"/>
            <a:ext cx="1440" cy="936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52600" y="5511960"/>
            <a:ext cx="649764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351080" y="563868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156480" y="56386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4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010840" y="56386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8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52520" y="563868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H="1">
            <a:off x="1101600" y="5342040"/>
            <a:ext cx="9216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1101600" y="4118040"/>
            <a:ext cx="9216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>
            <a:off x="1101600" y="2894040"/>
            <a:ext cx="92160" cy="144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1101600" y="1670040"/>
            <a:ext cx="92160" cy="144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1193760" y="1670040"/>
            <a:ext cx="1800" cy="36720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rot="16200000">
            <a:off x="859320" y="515016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rot="16200000">
            <a:off x="774000" y="394056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rot="16200000">
            <a:off x="774000" y="27154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4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rot="16200000">
            <a:off x="774000" y="149256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6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197000" y="890640"/>
            <a:ext cx="7010280" cy="46180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293920" y="3819600"/>
            <a:ext cx="84240" cy="82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97160" y="3822840"/>
            <a:ext cx="117360" cy="1141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60640" y="4854600"/>
            <a:ext cx="824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063880" y="4857840"/>
            <a:ext cx="11412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4925880" y="2610000"/>
            <a:ext cx="123840" cy="82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929120" y="2612880"/>
            <a:ext cx="114480" cy="114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819920" y="3179880"/>
            <a:ext cx="127080" cy="82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823160" y="3182760"/>
            <a:ext cx="117360" cy="114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053040" y="2722680"/>
            <a:ext cx="123840" cy="82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056280" y="2725560"/>
            <a:ext cx="114480" cy="114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808440" y="3962520"/>
            <a:ext cx="123840" cy="82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3811680" y="3965400"/>
            <a:ext cx="114120" cy="114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693800" y="4854600"/>
            <a:ext cx="82440" cy="842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697040" y="4857840"/>
            <a:ext cx="7632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846680" y="3081240"/>
            <a:ext cx="123840" cy="82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849920" y="3084480"/>
            <a:ext cx="114120" cy="114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098880" y="4181400"/>
            <a:ext cx="83880" cy="82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3102120" y="4184640"/>
            <a:ext cx="117360" cy="114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475000" y="4716360"/>
            <a:ext cx="83880" cy="82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478240" y="4719600"/>
            <a:ext cx="117360" cy="114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982880" y="4873680"/>
            <a:ext cx="8244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86120" y="4876920"/>
            <a:ext cx="109440" cy="114120"/>
          </a:xfrm>
          <a:prstGeom prst="ellipse">
            <a:avLst/>
          </a:prstGeom>
          <a:solidFill>
            <a:srgbClr val="fafd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870360" y="3368520"/>
            <a:ext cx="127080" cy="82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873600" y="3371760"/>
            <a:ext cx="117360" cy="114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1865160" y="4807080"/>
            <a:ext cx="82800" cy="82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1868400" y="4809960"/>
            <a:ext cx="7632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137120" y="3559320"/>
            <a:ext cx="123840" cy="82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140360" y="3562200"/>
            <a:ext cx="114120" cy="114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049480" y="4511520"/>
            <a:ext cx="82440" cy="82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052720" y="4514760"/>
            <a:ext cx="114120" cy="114480"/>
          </a:xfrm>
          <a:prstGeom prst="ellipse">
            <a:avLst/>
          </a:prstGeom>
          <a:solidFill>
            <a:srgbClr val="fafd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11680" y="3673440"/>
            <a:ext cx="123840" cy="82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14920" y="3676680"/>
            <a:ext cx="114120" cy="1141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449360" y="531180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488960" y="525780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528920" y="5205240"/>
            <a:ext cx="25200" cy="3204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4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611360" y="5100480"/>
            <a:ext cx="23760" cy="3204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650960" y="5048280"/>
            <a:ext cx="23760" cy="30240"/>
          </a:xfrm>
          <a:custGeom>
            <a:avLst/>
            <a:gdLst/>
            <a:ahLst/>
            <a:rect l="l" t="t" r="r" b="b"/>
            <a:pathLst>
              <a:path w="15" h="19">
                <a:moveTo>
                  <a:pt x="0" y="16"/>
                </a:moveTo>
                <a:lnTo>
                  <a:pt x="3" y="19"/>
                </a:lnTo>
                <a:lnTo>
                  <a:pt x="15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1690560" y="4994280"/>
            <a:ext cx="2412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730520" y="4941720"/>
            <a:ext cx="37800" cy="3204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6"/>
                </a:moveTo>
                <a:lnTo>
                  <a:pt x="3" y="20"/>
                </a:lnTo>
                <a:lnTo>
                  <a:pt x="16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770120" y="48880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811160" y="483552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851120" y="478152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890720" y="47307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930320" y="467676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4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969920" y="462456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4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011320" y="457200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052720" y="45180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092320" y="44658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6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131920" y="441180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171880" y="435924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1480" y="430704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4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251080" y="425448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17"/>
                </a:moveTo>
                <a:lnTo>
                  <a:pt x="3" y="20"/>
                </a:lnTo>
                <a:lnTo>
                  <a:pt x="17" y="3"/>
                </a:lnTo>
                <a:lnTo>
                  <a:pt x="14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92480" y="420228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332080" y="4148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371680" y="40957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4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2413080" y="404172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452680" y="398952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6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494080" y="3936960"/>
            <a:ext cx="23760" cy="30240"/>
          </a:xfrm>
          <a:custGeom>
            <a:avLst/>
            <a:gdLst/>
            <a:ahLst/>
            <a:rect l="l" t="t" r="r" b="b"/>
            <a:pathLst>
              <a:path w="15" h="19">
                <a:moveTo>
                  <a:pt x="0" y="16"/>
                </a:moveTo>
                <a:lnTo>
                  <a:pt x="3" y="19"/>
                </a:lnTo>
                <a:lnTo>
                  <a:pt x="15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533680" y="388476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573280" y="383076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4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612880" y="377820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652840" y="3726000"/>
            <a:ext cx="2520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692440" y="367200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733840" y="361944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773440" y="356544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4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813040" y="351468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6"/>
                </a:moveTo>
                <a:lnTo>
                  <a:pt x="4" y="20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854440" y="346068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4040" y="340848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933640" y="335448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4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975040" y="330192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014640" y="3249720"/>
            <a:ext cx="25560" cy="2988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054240" y="319572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094200" y="3144960"/>
            <a:ext cx="25200" cy="28440"/>
          </a:xfrm>
          <a:custGeom>
            <a:avLst/>
            <a:gdLst/>
            <a:ahLst/>
            <a:rect l="l" t="t" r="r" b="b"/>
            <a:pathLst>
              <a:path w="16" h="18">
                <a:moveTo>
                  <a:pt x="0" y="15"/>
                </a:moveTo>
                <a:lnTo>
                  <a:pt x="3" y="18"/>
                </a:lnTo>
                <a:lnTo>
                  <a:pt x="16" y="3"/>
                </a:lnTo>
                <a:lnTo>
                  <a:pt x="13" y="0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33800" y="309096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73400" y="303840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17"/>
                </a:moveTo>
                <a:lnTo>
                  <a:pt x="3" y="20"/>
                </a:lnTo>
                <a:lnTo>
                  <a:pt x="17" y="3"/>
                </a:lnTo>
                <a:lnTo>
                  <a:pt x="14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214800" y="298440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4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255840" y="2932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295800" y="28782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4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3335400" y="2825640"/>
            <a:ext cx="23760" cy="3204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3375000" y="277344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414600" y="2720880"/>
            <a:ext cx="27000" cy="3168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17"/>
                </a:moveTo>
                <a:lnTo>
                  <a:pt x="3" y="20"/>
                </a:lnTo>
                <a:lnTo>
                  <a:pt x="17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456000" y="266868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6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495600" y="261468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35200" y="256212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575160" y="2508120"/>
            <a:ext cx="25200" cy="3204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614760" y="245592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4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657600" y="240192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4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697200" y="2351160"/>
            <a:ext cx="23760" cy="30240"/>
          </a:xfrm>
          <a:custGeom>
            <a:avLst/>
            <a:gdLst/>
            <a:ahLst/>
            <a:rect l="l" t="t" r="r" b="b"/>
            <a:pathLst>
              <a:path w="15" h="19">
                <a:moveTo>
                  <a:pt x="0" y="16"/>
                </a:moveTo>
                <a:lnTo>
                  <a:pt x="3" y="19"/>
                </a:lnTo>
                <a:lnTo>
                  <a:pt x="15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736800" y="2298600"/>
            <a:ext cx="24120" cy="30240"/>
          </a:xfrm>
          <a:custGeom>
            <a:avLst/>
            <a:gdLst/>
            <a:ahLst/>
            <a:rect l="l" t="t" r="r" b="b"/>
            <a:pathLst>
              <a:path w="15" h="19">
                <a:moveTo>
                  <a:pt x="0" y="16"/>
                </a:moveTo>
                <a:lnTo>
                  <a:pt x="3" y="19"/>
                </a:lnTo>
                <a:lnTo>
                  <a:pt x="15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776760" y="2244600"/>
            <a:ext cx="23760" cy="3204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816360" y="219240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6"/>
                </a:moveTo>
                <a:lnTo>
                  <a:pt x="3" y="20"/>
                </a:lnTo>
                <a:lnTo>
                  <a:pt x="16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855960" y="213840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897360" y="2085840"/>
            <a:ext cx="25200" cy="3204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936960" y="2031840"/>
            <a:ext cx="25560" cy="3204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76560" y="197964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016520" y="19288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4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056120" y="18748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4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097160" y="18223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138560" y="1768320"/>
            <a:ext cx="23760" cy="3204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178160" y="1716120"/>
            <a:ext cx="2412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6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218120" y="166212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257720" y="1609560"/>
            <a:ext cx="25200" cy="3204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297320" y="155736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4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336920" y="1504800"/>
            <a:ext cx="27000" cy="32040"/>
          </a:xfrm>
          <a:custGeom>
            <a:avLst/>
            <a:gdLst/>
            <a:ahLst/>
            <a:rect l="l" t="t" r="r" b="b"/>
            <a:pathLst>
              <a:path w="17" h="20">
                <a:moveTo>
                  <a:pt x="0" y="17"/>
                </a:moveTo>
                <a:lnTo>
                  <a:pt x="3" y="20"/>
                </a:lnTo>
                <a:lnTo>
                  <a:pt x="17" y="3"/>
                </a:lnTo>
                <a:lnTo>
                  <a:pt x="14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378320" y="145260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417920" y="139860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457880" y="134604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4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498920" y="129240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538520" y="1239840"/>
            <a:ext cx="2412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6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579920" y="1185840"/>
            <a:ext cx="23760" cy="31680"/>
          </a:xfrm>
          <a:custGeom>
            <a:avLst/>
            <a:gdLst/>
            <a:ahLst/>
            <a:rect l="l" t="t" r="r" b="b"/>
            <a:pathLst>
              <a:path w="15" h="20">
                <a:moveTo>
                  <a:pt x="0" y="17"/>
                </a:moveTo>
                <a:lnTo>
                  <a:pt x="3" y="20"/>
                </a:lnTo>
                <a:lnTo>
                  <a:pt x="15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619520" y="113508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659480" y="10810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4"/>
                </a:lnTo>
                <a:lnTo>
                  <a:pt x="12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699080" y="10288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738680" y="976320"/>
            <a:ext cx="2556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6"/>
                </a:moveTo>
                <a:lnTo>
                  <a:pt x="3" y="19"/>
                </a:lnTo>
                <a:lnTo>
                  <a:pt x="16" y="3"/>
                </a:lnTo>
                <a:lnTo>
                  <a:pt x="13" y="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778280" y="922320"/>
            <a:ext cx="2556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0" y="17"/>
                </a:moveTo>
                <a:lnTo>
                  <a:pt x="3" y="20"/>
                </a:lnTo>
                <a:lnTo>
                  <a:pt x="16" y="3"/>
                </a:lnTo>
                <a:lnTo>
                  <a:pt x="1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19680" y="88416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7"/>
                </a:moveTo>
                <a:lnTo>
                  <a:pt x="3" y="10"/>
                </a:lnTo>
                <a:lnTo>
                  <a:pt x="9" y="3"/>
                </a:lnTo>
                <a:lnTo>
                  <a:pt x="6" y="0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510" name=""/>
          <p:cNvGrpSpPr/>
          <p:nvPr/>
        </p:nvGrpSpPr>
        <p:grpSpPr>
          <a:xfrm>
            <a:off x="4047480" y="2225520"/>
            <a:ext cx="3861000" cy="731520"/>
            <a:chOff x="4047480" y="2225520"/>
            <a:chExt cx="3861000" cy="731520"/>
          </a:xfrm>
        </p:grpSpPr>
        <p:sp>
          <p:nvSpPr>
            <p:cNvPr id="1511" name=""/>
            <p:cNvSpPr/>
            <p:nvPr/>
          </p:nvSpPr>
          <p:spPr>
            <a:xfrm>
              <a:off x="6185520" y="2590920"/>
              <a:ext cx="172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afd00"/>
                  </a:solidFill>
                  <a:latin typeface="Palatino"/>
                </a:rPr>
                <a:t>Bl</a:t>
              </a:r>
              <a:r>
                <a:rPr b="0" lang="en-AU" sz="2400" spc="-1" strike="noStrike">
                  <a:solidFill>
                    <a:srgbClr val="fafd00"/>
                  </a:solidFill>
                  <a:latin typeface="Palatino"/>
                </a:rPr>
                <a:t>ue</a:t>
              </a:r>
              <a:r>
                <a:rPr b="0" lang="en-CA" sz="2400" spc="-1" strike="noStrike">
                  <a:solidFill>
                    <a:srgbClr val="fafd00"/>
                  </a:solidFill>
                  <a:latin typeface="Palatino"/>
                </a:rPr>
                <a:t> marli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4047480" y="2225520"/>
              <a:ext cx="185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Palatino"/>
                </a:rPr>
                <a:t>Mako shark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1828800" y="5028840"/>
            <a:ext cx="2063880" cy="458640"/>
            <a:chOff x="1828800" y="5028840"/>
            <a:chExt cx="2063880" cy="458640"/>
          </a:xfrm>
        </p:grpSpPr>
        <p:sp>
          <p:nvSpPr>
            <p:cNvPr id="1514" name=""/>
            <p:cNvSpPr/>
            <p:nvPr/>
          </p:nvSpPr>
          <p:spPr>
            <a:xfrm>
              <a:off x="2311560" y="5121360"/>
              <a:ext cx="158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afd00"/>
                  </a:solidFill>
                  <a:latin typeface="Palatino"/>
                </a:rPr>
                <a:t>Mahi</a:t>
              </a:r>
              <a:r>
                <a:rPr b="0" lang="en-US" sz="2400" spc="-1" strike="noStrike">
                  <a:solidFill>
                    <a:srgbClr val="fafd00"/>
                  </a:solidFill>
                  <a:latin typeface="Palatino"/>
                </a:rPr>
                <a:t> mahi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1828800" y="5028840"/>
              <a:ext cx="533520" cy="24444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516" name=""/>
          <p:cNvSpPr/>
          <p:nvPr/>
        </p:nvSpPr>
        <p:spPr>
          <a:xfrm>
            <a:off x="1522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Change in body siz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544760" y="5126040"/>
            <a:ext cx="109440" cy="10944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"/>
          <p:cNvSpPr/>
          <p:nvPr/>
        </p:nvSpPr>
        <p:spPr>
          <a:xfrm>
            <a:off x="15228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Change in index with siz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59200" y="6111720"/>
            <a:ext cx="292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950s </a:t>
            </a:r>
            <a:r>
              <a:rPr b="0" lang="en-AU" sz="2400" spc="-1" strike="noStrike">
                <a:solidFill>
                  <a:srgbClr val="cecece"/>
                </a:solidFill>
                <a:latin typeface="Arial"/>
              </a:rPr>
              <a:t>mean size </a:t>
            </a: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(</a:t>
            </a: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kg</a:t>
            </a: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16200000">
            <a:off x="-1278360" y="2740680"/>
            <a:ext cx="353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Change in index of ma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560600" y="828720"/>
            <a:ext cx="7137360" cy="470376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711600" y="5535720"/>
            <a:ext cx="1440" cy="950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600880" y="5535720"/>
            <a:ext cx="1440" cy="950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491240" y="5535720"/>
            <a:ext cx="1800" cy="950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752480" y="5535720"/>
            <a:ext cx="1800" cy="950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820880" y="5535720"/>
            <a:ext cx="661500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667160" y="565452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505680" y="565452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4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394960" y="565452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8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33480" y="565452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2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1461600" y="4851360"/>
            <a:ext cx="95400" cy="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1461600" y="3567240"/>
            <a:ext cx="9540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1461600" y="2284560"/>
            <a:ext cx="9540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>
            <a:off x="1461600" y="1000080"/>
            <a:ext cx="95400" cy="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810360" y="4689360"/>
            <a:ext cx="588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.0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72000" y="3405240"/>
            <a:ext cx="418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.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209960" y="212256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048320" y="8380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55736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62396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69236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75896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82736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8954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9620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0304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09700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16540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23200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30040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36844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43540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50344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57004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63844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70684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77344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8414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0844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9764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04308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114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17988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4648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31488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38148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44952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1648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452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65292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71952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78792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85452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92256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99096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05756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2596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19256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26096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32756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39596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640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5306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5990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66560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73400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80204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86900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93704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500364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507204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13864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520704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27544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4204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4100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547704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55450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561348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56800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74848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1508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88312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95008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01812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08652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15312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22152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28812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35652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42312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49116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55956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62616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9456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76116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82956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976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9642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0326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09920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16760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23420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30260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37064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43760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750564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57224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764064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70904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77564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78436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91064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9786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804528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81136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818208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24868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831708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383680" y="2284560"/>
            <a:ext cx="349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45172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852012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8586720" y="2284560"/>
            <a:ext cx="3348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8655120" y="2284560"/>
            <a:ext cx="3312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2719440" y="3487680"/>
            <a:ext cx="1440" cy="9493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481120" y="2355840"/>
            <a:ext cx="1800" cy="16765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398920" y="3324240"/>
            <a:ext cx="1800" cy="2253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8346960" y="2700360"/>
            <a:ext cx="1800" cy="28353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546960" y="3063960"/>
            <a:ext cx="1440" cy="3762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60960" y="3719520"/>
            <a:ext cx="1440" cy="2620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108160" y="1784520"/>
            <a:ext cx="1800" cy="6984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318280" y="4040280"/>
            <a:ext cx="1440" cy="12510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903400" y="3040200"/>
            <a:ext cx="1800" cy="15285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2401920" y="1620720"/>
            <a:ext cx="1440" cy="1640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324320" y="3751200"/>
            <a:ext cx="1440" cy="3193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81320" y="1628640"/>
            <a:ext cx="1440" cy="4557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595760" y="2681280"/>
            <a:ext cx="1800" cy="7239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635200" y="2293920"/>
            <a:ext cx="1800" cy="24717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468520" y="2027160"/>
            <a:ext cx="1800" cy="11019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264200" y="3357720"/>
            <a:ext cx="1440" cy="1267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952640" y="2225520"/>
            <a:ext cx="1440" cy="5479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676600" y="3956040"/>
            <a:ext cx="8568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79840" y="3959280"/>
            <a:ext cx="11880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438280" y="3227400"/>
            <a:ext cx="8568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2441520" y="3230640"/>
            <a:ext cx="11916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357880" y="3392640"/>
            <a:ext cx="8424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361120" y="3395520"/>
            <a:ext cx="117360" cy="119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8304120" y="486252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8307360" y="4865760"/>
            <a:ext cx="119160" cy="119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505560" y="3208320"/>
            <a:ext cx="842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508800" y="3211560"/>
            <a:ext cx="11736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218120" y="3797280"/>
            <a:ext cx="8388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221000" y="3800520"/>
            <a:ext cx="11772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2065320" y="2079720"/>
            <a:ext cx="8424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2068560" y="2082960"/>
            <a:ext cx="11736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3513960" y="3048120"/>
            <a:ext cx="4851720" cy="1813680"/>
            <a:chOff x="3513960" y="3048120"/>
            <a:chExt cx="4851720" cy="1813680"/>
          </a:xfrm>
        </p:grpSpPr>
        <p:sp>
          <p:nvSpPr>
            <p:cNvPr id="1677" name=""/>
            <p:cNvSpPr/>
            <p:nvPr/>
          </p:nvSpPr>
          <p:spPr>
            <a:xfrm>
              <a:off x="6642720" y="3048120"/>
              <a:ext cx="1722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afd00"/>
                  </a:solidFill>
                  <a:latin typeface="Palatino"/>
                </a:rPr>
                <a:t>Bl</a:t>
              </a:r>
              <a:r>
                <a:rPr b="0" lang="en-AU" sz="2400" spc="-1" strike="noStrike">
                  <a:solidFill>
                    <a:srgbClr val="fafd00"/>
                  </a:solidFill>
                  <a:latin typeface="Palatino"/>
                </a:rPr>
                <a:t>ue</a:t>
              </a:r>
              <a:r>
                <a:rPr b="0" lang="en-CA" sz="2400" spc="-1" strike="noStrike">
                  <a:solidFill>
                    <a:srgbClr val="fafd00"/>
                  </a:solidFill>
                  <a:latin typeface="Palatino"/>
                </a:rPr>
                <a:t> marlin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513960" y="4495680"/>
              <a:ext cx="1854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Palatino"/>
                </a:rPr>
                <a:t>Mako shark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679" name=""/>
          <p:cNvSpPr/>
          <p:nvPr/>
        </p:nvSpPr>
        <p:spPr>
          <a:xfrm>
            <a:off x="1622160" y="914400"/>
            <a:ext cx="752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afd00"/>
                </a:solidFill>
                <a:latin typeface="Palatino"/>
              </a:rPr>
              <a:t>Mah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Palatino"/>
              </a:rPr>
              <a:t>mahi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276880" y="4618080"/>
            <a:ext cx="842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280120" y="4621320"/>
            <a:ext cx="11736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860560" y="3573360"/>
            <a:ext cx="8568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863800" y="3576600"/>
            <a:ext cx="11916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359080" y="2216160"/>
            <a:ext cx="8568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362320" y="2219400"/>
            <a:ext cx="118800" cy="119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282920" y="3873600"/>
            <a:ext cx="8424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286160" y="3876840"/>
            <a:ext cx="11772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239920" y="1816200"/>
            <a:ext cx="8424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243160" y="1819440"/>
            <a:ext cx="11736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552920" y="2987640"/>
            <a:ext cx="842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556160" y="2990880"/>
            <a:ext cx="11736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592360" y="3516480"/>
            <a:ext cx="84240" cy="8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595600" y="3519360"/>
            <a:ext cx="117360" cy="1177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427120" y="2543040"/>
            <a:ext cx="842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430360" y="2546280"/>
            <a:ext cx="117720" cy="1177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221000" y="3370320"/>
            <a:ext cx="86040" cy="856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224240" y="3373560"/>
            <a:ext cx="119160" cy="118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909800" y="2463840"/>
            <a:ext cx="84240" cy="8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913040" y="2467080"/>
            <a:ext cx="117360" cy="117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"/>
          <p:cNvSpPr/>
          <p:nvPr/>
        </p:nvSpPr>
        <p:spPr>
          <a:xfrm>
            <a:off x="3684600" y="907920"/>
            <a:ext cx="5495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Reductions in size and cpue of large predator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Modest change in small speci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Appearance of several new speci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Reduction in index of mas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684600" y="115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Palatino"/>
                <a:ea typeface="Times New Roman"/>
              </a:rPr>
              <a:t>Conclusions</a:t>
            </a:r>
            <a:endParaRPr b="0" lang="en-US" sz="4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702" name=""/>
          <p:cNvSpPr/>
          <p:nvPr/>
        </p:nvSpPr>
        <p:spPr>
          <a:xfrm>
            <a:off x="5168880" y="5961240"/>
            <a:ext cx="1440" cy="586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5578560" y="5961240"/>
            <a:ext cx="1440" cy="586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987880" y="5961240"/>
            <a:ext cx="1800" cy="586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168880" y="5961240"/>
            <a:ext cx="81900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044680" y="6132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cecece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515560" y="6132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cecece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863680" y="61326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cecece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709" name=""/>
          <p:cNvGrpSpPr/>
          <p:nvPr/>
        </p:nvGrpSpPr>
        <p:grpSpPr>
          <a:xfrm>
            <a:off x="5111280" y="4696920"/>
            <a:ext cx="937080" cy="1107000"/>
            <a:chOff x="5111280" y="4696920"/>
            <a:chExt cx="937080" cy="1107000"/>
          </a:xfrm>
        </p:grpSpPr>
        <p:sp>
          <p:nvSpPr>
            <p:cNvPr id="1710" name=""/>
            <p:cNvSpPr/>
            <p:nvPr/>
          </p:nvSpPr>
          <p:spPr>
            <a:xfrm>
              <a:off x="5222880" y="5802480"/>
              <a:ext cx="711000" cy="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222880" y="5802480"/>
              <a:ext cx="711000" cy="1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933880" y="5802480"/>
              <a:ext cx="18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5222520" y="5802480"/>
              <a:ext cx="711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222880" y="580248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222880" y="5802480"/>
              <a:ext cx="711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33880" y="580248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151240" y="5792760"/>
              <a:ext cx="854280" cy="4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151240" y="5792760"/>
              <a:ext cx="854280" cy="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010200" y="578808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5146200" y="5802480"/>
              <a:ext cx="863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5146560" y="578808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146560" y="5788080"/>
              <a:ext cx="863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010200" y="578808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116320" y="5719680"/>
              <a:ext cx="925560" cy="6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116320" y="5719680"/>
              <a:ext cx="925560" cy="6372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046560" y="5715000"/>
              <a:ext cx="1800" cy="7308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5111280" y="5788080"/>
              <a:ext cx="9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111640" y="5714640"/>
              <a:ext cx="1440" cy="73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111640" y="5715000"/>
              <a:ext cx="9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046560" y="5715000"/>
              <a:ext cx="1800" cy="73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191200" y="5715000"/>
              <a:ext cx="774720" cy="144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191200" y="5715000"/>
              <a:ext cx="774720" cy="144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965920" y="5715000"/>
              <a:ext cx="1440" cy="144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5191200" y="5715000"/>
              <a:ext cx="77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191200" y="571500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191200" y="5715000"/>
              <a:ext cx="77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965920" y="571500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290920" y="5710320"/>
              <a:ext cx="574920" cy="46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290920" y="5710320"/>
              <a:ext cx="574920" cy="46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865840" y="5710320"/>
              <a:ext cx="1440" cy="4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5290560" y="5715000"/>
              <a:ext cx="57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5290920" y="570996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90920" y="5710320"/>
              <a:ext cx="57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865840" y="571032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246640" y="5681520"/>
              <a:ext cx="662040" cy="2412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246640" y="5681520"/>
              <a:ext cx="662040" cy="2412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913360" y="5676840"/>
              <a:ext cx="1440" cy="3348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5241600" y="5710320"/>
              <a:ext cx="671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5241960" y="5676480"/>
              <a:ext cx="144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241960" y="5676840"/>
              <a:ext cx="671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913360" y="5676840"/>
              <a:ext cx="144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290920" y="5011560"/>
              <a:ext cx="573120" cy="66060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290920" y="5011560"/>
              <a:ext cx="573120" cy="660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69080" y="5006880"/>
              <a:ext cx="1440" cy="669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5285880" y="5676840"/>
              <a:ext cx="582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V="1">
              <a:off x="5286240" y="5006520"/>
              <a:ext cx="1800" cy="669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86240" y="5006880"/>
              <a:ext cx="582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869080" y="5006880"/>
              <a:ext cx="1440" cy="669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356080" y="4991040"/>
              <a:ext cx="4446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356080" y="4991040"/>
              <a:ext cx="444600" cy="1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5360" y="4986360"/>
              <a:ext cx="180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5351040" y="5006880"/>
              <a:ext cx="453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5351400" y="498600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351400" y="4986360"/>
              <a:ext cx="45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805360" y="4986360"/>
              <a:ext cx="1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394240" y="4968720"/>
              <a:ext cx="368280" cy="1296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394240" y="4968720"/>
              <a:ext cx="368280" cy="129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767200" y="4964040"/>
              <a:ext cx="1800" cy="2232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5389200" y="4986360"/>
              <a:ext cx="377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5389560" y="4964040"/>
              <a:ext cx="144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389560" y="4964040"/>
              <a:ext cx="377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67200" y="4964040"/>
              <a:ext cx="180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478480" y="4962600"/>
              <a:ext cx="199800" cy="144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478480" y="4962600"/>
              <a:ext cx="199800" cy="144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678280" y="4962600"/>
              <a:ext cx="1800" cy="144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5478120" y="4964040"/>
              <a:ext cx="199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5478480" y="496260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78480" y="4962600"/>
              <a:ext cx="199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678280" y="496260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327640" y="4959360"/>
              <a:ext cx="501480" cy="3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327640" y="4959360"/>
              <a:ext cx="501480" cy="3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29120" y="4959360"/>
              <a:ext cx="1800" cy="3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5327280" y="4962600"/>
              <a:ext cx="501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5327640" y="495900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5327640" y="4959360"/>
              <a:ext cx="501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29120" y="495936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459400" y="4956120"/>
              <a:ext cx="237960" cy="324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459400" y="4956120"/>
              <a:ext cx="237960" cy="324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697360" y="4956120"/>
              <a:ext cx="1800" cy="324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5459040" y="495936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5459400" y="495576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59400" y="4956120"/>
              <a:ext cx="2379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697360" y="495612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503680" y="4956120"/>
              <a:ext cx="149400" cy="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503680" y="4956120"/>
              <a:ext cx="149400" cy="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653080" y="4956120"/>
              <a:ext cx="1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503320" y="4956120"/>
              <a:ext cx="149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503680" y="4956120"/>
              <a:ext cx="1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503680" y="4956120"/>
              <a:ext cx="149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53080" y="495612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449680" y="4946760"/>
              <a:ext cx="255600" cy="4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449680" y="4946760"/>
              <a:ext cx="255600" cy="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710320" y="494172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5444640" y="4956120"/>
              <a:ext cx="265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5445000" y="4941720"/>
              <a:ext cx="18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445000" y="4941720"/>
              <a:ext cx="2653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10320" y="494172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08720" y="4941720"/>
              <a:ext cx="141120" cy="180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508720" y="4941720"/>
              <a:ext cx="141120" cy="180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649840" y="4941720"/>
              <a:ext cx="1440" cy="180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5508720" y="4941720"/>
              <a:ext cx="141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508720" y="494172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508720" y="4941720"/>
              <a:ext cx="141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649840" y="494172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502240" y="4802040"/>
              <a:ext cx="150840" cy="13500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02240" y="4802040"/>
              <a:ext cx="150840" cy="13500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657760" y="4797360"/>
              <a:ext cx="1440" cy="14436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5497200" y="4941720"/>
              <a:ext cx="160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5497560" y="4797000"/>
              <a:ext cx="1440" cy="144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497560" y="4797360"/>
              <a:ext cx="160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657760" y="4797360"/>
              <a:ext cx="1440" cy="144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503680" y="4792680"/>
              <a:ext cx="149400" cy="46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03680" y="4792680"/>
              <a:ext cx="149400" cy="46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653080" y="4792680"/>
              <a:ext cx="1440" cy="4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5503320" y="4797360"/>
              <a:ext cx="149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5503680" y="479232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3680" y="4792680"/>
              <a:ext cx="149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653080" y="479268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41840" y="4789440"/>
              <a:ext cx="73080" cy="324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41840" y="4789440"/>
              <a:ext cx="73080" cy="324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614920" y="4789440"/>
              <a:ext cx="1440" cy="324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5541480" y="4792680"/>
              <a:ext cx="73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5541840" y="478908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541840" y="4789440"/>
              <a:ext cx="730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614920" y="478944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551560" y="4781520"/>
              <a:ext cx="53640" cy="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551560" y="4781520"/>
              <a:ext cx="53640" cy="3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610240" y="4776840"/>
              <a:ext cx="144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>
              <a:off x="5546160" y="4789440"/>
              <a:ext cx="63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V="1">
              <a:off x="5546520" y="4776480"/>
              <a:ext cx="180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546520" y="4776840"/>
              <a:ext cx="63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610240" y="4776840"/>
              <a:ext cx="1440" cy="12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549760" y="4770360"/>
              <a:ext cx="58680" cy="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549760" y="4770360"/>
              <a:ext cx="58680" cy="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608440" y="4770360"/>
              <a:ext cx="18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549400" y="4776840"/>
              <a:ext cx="58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5549760" y="47703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549760" y="4770360"/>
              <a:ext cx="58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5608440" y="477036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553000" y="4735440"/>
              <a:ext cx="50760" cy="3024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553000" y="4735440"/>
              <a:ext cx="50760" cy="3024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608440" y="4730760"/>
              <a:ext cx="1800" cy="3960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5547960" y="4770360"/>
              <a:ext cx="601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V="1">
              <a:off x="5548320" y="4730760"/>
              <a:ext cx="144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548320" y="4730760"/>
              <a:ext cx="6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608440" y="4730760"/>
              <a:ext cx="180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538600" y="4702320"/>
              <a:ext cx="81000" cy="2376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538600" y="4702320"/>
              <a:ext cx="81000" cy="2376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624280" y="4697280"/>
              <a:ext cx="1800" cy="3348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5533560" y="4730760"/>
              <a:ext cx="90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5533920" y="4696920"/>
              <a:ext cx="144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533920" y="4697280"/>
              <a:ext cx="90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624280" y="4697280"/>
              <a:ext cx="180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864" name=""/>
          <p:cNvGrpSpPr/>
          <p:nvPr/>
        </p:nvGrpSpPr>
        <p:grpSpPr>
          <a:xfrm>
            <a:off x="228600" y="1749600"/>
            <a:ext cx="3760560" cy="5033160"/>
            <a:chOff x="228600" y="1749600"/>
            <a:chExt cx="3760560" cy="5033160"/>
          </a:xfrm>
        </p:grpSpPr>
        <p:sp>
          <p:nvSpPr>
            <p:cNvPr id="1865" name=""/>
            <p:cNvSpPr/>
            <p:nvPr/>
          </p:nvSpPr>
          <p:spPr>
            <a:xfrm flipH="1">
              <a:off x="1066320" y="5802120"/>
              <a:ext cx="58680" cy="1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1066320" y="5153040"/>
              <a:ext cx="586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1066320" y="4503600"/>
              <a:ext cx="586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1066320" y="3854160"/>
              <a:ext cx="58680" cy="1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1066320" y="3205080"/>
              <a:ext cx="586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1066320" y="2555640"/>
              <a:ext cx="58680" cy="1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>
              <a:off x="1066320" y="1908000"/>
              <a:ext cx="586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125360" y="1907640"/>
              <a:ext cx="1800" cy="38941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16200000">
              <a:off x="852480" y="5680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rot="16200000">
              <a:off x="795960" y="5035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rot="16200000">
              <a:off x="795960" y="43876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rot="16200000">
              <a:off x="795960" y="3736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rot="16200000">
              <a:off x="795960" y="308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rot="16200000">
              <a:off x="740880" y="2445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rot="16200000">
              <a:off x="740880" y="1797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12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587240" y="5960880"/>
              <a:ext cx="180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100240" y="5960880"/>
              <a:ext cx="144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611440" y="5960880"/>
              <a:ext cx="144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124080" y="5960880"/>
              <a:ext cx="180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638520" y="5960880"/>
              <a:ext cx="144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587240" y="5960880"/>
              <a:ext cx="20512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00400" y="61322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76040" y="6132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549880" y="6132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999880" y="6132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453120" y="61322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235160" y="5802120"/>
              <a:ext cx="2752560" cy="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235160" y="5802120"/>
              <a:ext cx="2752560" cy="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987720" y="5802120"/>
              <a:ext cx="1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1235160" y="5802120"/>
              <a:ext cx="2752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235160" y="580212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235160" y="5802120"/>
              <a:ext cx="2752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987720" y="580212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592280" y="5770440"/>
              <a:ext cx="204156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92280" y="5770440"/>
              <a:ext cx="2041560" cy="2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638520" y="576576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587240" y="5802120"/>
              <a:ext cx="2051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1587240" y="5765400"/>
              <a:ext cx="180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587240" y="5765760"/>
              <a:ext cx="2051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638520" y="576576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841400" y="5443560"/>
              <a:ext cx="154296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841400" y="5443560"/>
              <a:ext cx="1542960" cy="31716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89400" y="5438520"/>
              <a:ext cx="1440" cy="32724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1836360" y="5765760"/>
              <a:ext cx="1552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1836720" y="5438160"/>
              <a:ext cx="1440" cy="32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836720" y="5438520"/>
              <a:ext cx="1552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89400" y="5438520"/>
              <a:ext cx="1440" cy="32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852560" y="5435280"/>
              <a:ext cx="1519200" cy="324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852560" y="5435280"/>
              <a:ext cx="1519200" cy="324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371760" y="5435280"/>
              <a:ext cx="1440" cy="324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1852560" y="5438520"/>
              <a:ext cx="1519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1852560" y="543492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852560" y="5435280"/>
              <a:ext cx="1519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371760" y="543528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014560" y="5429160"/>
              <a:ext cx="1195200" cy="1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014560" y="5429160"/>
              <a:ext cx="1195200" cy="14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214440" y="5424480"/>
              <a:ext cx="1800" cy="108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2009160" y="5435280"/>
              <a:ext cx="1204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2009520" y="542448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009520" y="5424480"/>
              <a:ext cx="120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214440" y="542448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074680" y="5052960"/>
              <a:ext cx="1076400" cy="36648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074680" y="5052960"/>
              <a:ext cx="1076400" cy="36648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55760" y="5047920"/>
              <a:ext cx="1800" cy="37656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H="1">
              <a:off x="2070000" y="5424480"/>
              <a:ext cx="1085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2070000" y="5047920"/>
              <a:ext cx="1440" cy="37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070000" y="5047920"/>
              <a:ext cx="1085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155760" y="5047920"/>
              <a:ext cx="1800" cy="37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085840" y="2408040"/>
              <a:ext cx="1052640" cy="263520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085840" y="2408040"/>
              <a:ext cx="1052640" cy="2635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143160" y="2403360"/>
              <a:ext cx="1440" cy="264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2081160" y="5047920"/>
              <a:ext cx="1062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2081160" y="2403360"/>
              <a:ext cx="1440" cy="2644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081160" y="2403360"/>
              <a:ext cx="1062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43160" y="2403360"/>
              <a:ext cx="1440" cy="2644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087640" y="2271600"/>
              <a:ext cx="105084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087640" y="2271600"/>
              <a:ext cx="1050840" cy="12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143160" y="2266920"/>
              <a:ext cx="144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2082600" y="2403360"/>
              <a:ext cx="1060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2082600" y="226656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082600" y="2266920"/>
              <a:ext cx="1060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143160" y="226692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244600" y="2090520"/>
              <a:ext cx="736560" cy="171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244600" y="2090520"/>
              <a:ext cx="736560" cy="17136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985840" y="2085840"/>
              <a:ext cx="1800" cy="18108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2239920" y="2266920"/>
              <a:ext cx="745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2239920" y="2085480"/>
              <a:ext cx="1440" cy="18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239920" y="2085840"/>
              <a:ext cx="745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985840" y="2085840"/>
              <a:ext cx="1800" cy="18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376360" y="2082600"/>
              <a:ext cx="469800" cy="324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76360" y="2082600"/>
              <a:ext cx="469800" cy="324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846160" y="2082600"/>
              <a:ext cx="1800" cy="324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2376000" y="2085840"/>
              <a:ext cx="469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V="1">
              <a:off x="2376360" y="208224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376360" y="2082600"/>
              <a:ext cx="469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846160" y="208260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422440" y="2028600"/>
              <a:ext cx="379440" cy="49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422440" y="2028600"/>
              <a:ext cx="379440" cy="493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806560" y="2023920"/>
              <a:ext cx="1800" cy="58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2417760" y="2082600"/>
              <a:ext cx="388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2417760" y="2023560"/>
              <a:ext cx="1440" cy="58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17760" y="2023920"/>
              <a:ext cx="388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806560" y="2023920"/>
              <a:ext cx="1800" cy="58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440080" y="1995480"/>
              <a:ext cx="344160" cy="2376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440080" y="1995480"/>
              <a:ext cx="344160" cy="2376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789280" y="1990440"/>
              <a:ext cx="1440" cy="3348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2435040" y="2023920"/>
              <a:ext cx="354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2435040" y="1990080"/>
              <a:ext cx="180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435040" y="1990440"/>
              <a:ext cx="354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789280" y="1990440"/>
              <a:ext cx="144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468520" y="1987560"/>
              <a:ext cx="285840" cy="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468520" y="1987560"/>
              <a:ext cx="285840" cy="2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754360" y="1987560"/>
              <a:ext cx="1440" cy="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2468520" y="1990440"/>
              <a:ext cx="28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2468520" y="1987560"/>
              <a:ext cx="14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468520" y="1987560"/>
              <a:ext cx="28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754360" y="1987560"/>
              <a:ext cx="14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476440" y="1981080"/>
              <a:ext cx="271440" cy="1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476440" y="1981080"/>
              <a:ext cx="271440" cy="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752560" y="197640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2471760" y="1987560"/>
              <a:ext cx="280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2471760" y="197604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471760" y="1976400"/>
              <a:ext cx="280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752560" y="197640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485800" y="1976400"/>
              <a:ext cx="252720" cy="144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485800" y="1976400"/>
              <a:ext cx="252720" cy="144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738520" y="1976400"/>
              <a:ext cx="1440" cy="144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2485800" y="1976400"/>
              <a:ext cx="252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85800" y="197640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485800" y="1976400"/>
              <a:ext cx="252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738520" y="197640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516040" y="1923840"/>
              <a:ext cx="192240" cy="4752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516040" y="1923840"/>
              <a:ext cx="192240" cy="4752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712960" y="1919160"/>
              <a:ext cx="1440" cy="5724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2511360" y="197640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2511360" y="1918800"/>
              <a:ext cx="1440" cy="5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511360" y="191916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712960" y="1919160"/>
              <a:ext cx="1440" cy="5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549520" y="1915920"/>
              <a:ext cx="125280" cy="3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549520" y="1915920"/>
              <a:ext cx="125280" cy="3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674800" y="1915920"/>
              <a:ext cx="1800" cy="3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2549520" y="1919160"/>
              <a:ext cx="125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V="1">
              <a:off x="2549520" y="191556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549520" y="1915920"/>
              <a:ext cx="125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674800" y="191592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558880" y="1912680"/>
              <a:ext cx="104760" cy="324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558880" y="1912680"/>
              <a:ext cx="104760" cy="324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663640" y="1912680"/>
              <a:ext cx="1800" cy="324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2558520" y="1915920"/>
              <a:ext cx="104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V="1">
              <a:off x="2558880" y="191232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558880" y="1912680"/>
              <a:ext cx="104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663640" y="191268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579760" y="1912680"/>
              <a:ext cx="64800" cy="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579760" y="1912680"/>
              <a:ext cx="64800" cy="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644560" y="1912680"/>
              <a:ext cx="18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H="1">
              <a:off x="2579760" y="1912680"/>
              <a:ext cx="64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579760" y="191268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579760" y="1912680"/>
              <a:ext cx="64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644560" y="1912680"/>
              <a:ext cx="1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584440" y="1912680"/>
              <a:ext cx="57240" cy="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584440" y="1912680"/>
              <a:ext cx="57240" cy="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641680" y="191268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584080" y="1912680"/>
              <a:ext cx="57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584440" y="191268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584440" y="1912680"/>
              <a:ext cx="57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641680" y="191268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589120" y="1854000"/>
              <a:ext cx="46080" cy="5400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589120" y="1854000"/>
              <a:ext cx="46080" cy="5400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639880" y="1849320"/>
              <a:ext cx="1800" cy="6336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2584440" y="1912680"/>
              <a:ext cx="55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584440" y="1849320"/>
              <a:ext cx="144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584440" y="1849320"/>
              <a:ext cx="55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39880" y="1849320"/>
              <a:ext cx="180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587680" y="1847520"/>
              <a:ext cx="50760" cy="180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587680" y="1847520"/>
              <a:ext cx="50760" cy="180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638440" y="1847520"/>
              <a:ext cx="1440" cy="180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2587320" y="1849320"/>
              <a:ext cx="50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2587680" y="184716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587680" y="1847520"/>
              <a:ext cx="50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638440" y="184752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605960" y="6416640"/>
              <a:ext cx="2000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cecece"/>
                  </a:solidFill>
                  <a:latin typeface="Arial"/>
                </a:rPr>
                <a:t>Mean size (kg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rot="16200000">
              <a:off x="-1138320" y="3682800"/>
              <a:ext cx="3100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cecece"/>
                  </a:solidFill>
                  <a:latin typeface="Arial"/>
                </a:rPr>
                <a:t>Cpue (no./1000 hook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7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4648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afd00"/>
                </a:solidFill>
                <a:latin typeface="Palatino"/>
              </a:rPr>
              <a:t>Changes in pelagic fish communities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11520" y="-76320"/>
            <a:ext cx="4708800" cy="701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114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2001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afd00"/>
                </a:solidFill>
                <a:latin typeface="Palatino"/>
              </a:rPr>
              <a:t>Comparison of 1990s (Hawaii) and 1950s (POFI) longline data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3463920"/>
            <a:ext cx="4114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Species compositio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Size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Catch rat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Change in index of mass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89" name=""/>
          <p:cNvSpPr/>
          <p:nvPr/>
        </p:nvSpPr>
        <p:spPr>
          <a:xfrm>
            <a:off x="4671000" y="5021280"/>
            <a:ext cx="1344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afd00"/>
                </a:solidFill>
                <a:latin typeface="Arial"/>
              </a:rPr>
              <a:t>Bigeye tun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52840" y="4654440"/>
            <a:ext cx="123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afd00"/>
                </a:solidFill>
                <a:latin typeface="Arial"/>
              </a:rPr>
              <a:t>Silky shar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68320" y="3143160"/>
            <a:ext cx="158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afd00"/>
                </a:solidFill>
                <a:latin typeface="Arial"/>
              </a:rPr>
              <a:t>Yellowfin tuna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39520" y="1752480"/>
            <a:ext cx="1204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afd00"/>
                </a:solidFill>
                <a:latin typeface="Arial"/>
              </a:rPr>
              <a:t>Blue shark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6640" y="1066680"/>
            <a:ext cx="971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afd00"/>
                </a:solidFill>
                <a:latin typeface="Arial"/>
              </a:rPr>
              <a:t>195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279840" y="3840120"/>
            <a:ext cx="1045440" cy="2139120"/>
            <a:chOff x="6279840" y="3840120"/>
            <a:chExt cx="1045440" cy="2139120"/>
          </a:xfrm>
        </p:grpSpPr>
        <p:sp>
          <p:nvSpPr>
            <p:cNvPr id="95" name=""/>
            <p:cNvSpPr/>
            <p:nvPr/>
          </p:nvSpPr>
          <p:spPr>
            <a:xfrm>
              <a:off x="6404040" y="5564160"/>
              <a:ext cx="144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13720" y="5564160"/>
              <a:ext cx="144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23040" y="5564160"/>
              <a:ext cx="180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04040" y="5564160"/>
              <a:ext cx="81900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79840" y="5735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50720" y="5735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98840" y="5735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58040" y="5405400"/>
              <a:ext cx="711000" cy="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58040" y="5405400"/>
              <a:ext cx="711000" cy="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69040" y="5405400"/>
              <a:ext cx="18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457680" y="5405400"/>
              <a:ext cx="711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58040" y="540540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58040" y="5405400"/>
              <a:ext cx="711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9040" y="5405400"/>
              <a:ext cx="1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86400" y="5396040"/>
              <a:ext cx="854280" cy="4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86400" y="5396040"/>
              <a:ext cx="854280" cy="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45360" y="539100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381360" y="5405400"/>
              <a:ext cx="863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6381720" y="539100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81720" y="5391000"/>
              <a:ext cx="8636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5360" y="539100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51480" y="5322960"/>
              <a:ext cx="925560" cy="6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51480" y="5322960"/>
              <a:ext cx="925560" cy="6336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81720" y="5318280"/>
              <a:ext cx="1800" cy="7272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346440" y="5391000"/>
              <a:ext cx="934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346800" y="5318280"/>
              <a:ext cx="1440" cy="72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46800" y="5318280"/>
              <a:ext cx="93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81720" y="5318280"/>
              <a:ext cx="1800" cy="727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26360" y="5318280"/>
              <a:ext cx="774720" cy="144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26360" y="5318280"/>
              <a:ext cx="774720" cy="144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01080" y="5318280"/>
              <a:ext cx="1440" cy="144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426360" y="5318280"/>
              <a:ext cx="77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26360" y="531828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26360" y="5318280"/>
              <a:ext cx="774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01080" y="531828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6080" y="5313240"/>
              <a:ext cx="574920" cy="50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26080" y="5313240"/>
              <a:ext cx="574920" cy="50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01000" y="5313240"/>
              <a:ext cx="1440" cy="50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525720" y="5318280"/>
              <a:ext cx="57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526080" y="531324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26080" y="5313240"/>
              <a:ext cx="574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01000" y="53132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81800" y="5284800"/>
              <a:ext cx="662040" cy="2376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81800" y="5284800"/>
              <a:ext cx="662040" cy="2376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48520" y="5280120"/>
              <a:ext cx="1440" cy="3312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476760" y="5313240"/>
              <a:ext cx="671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77120" y="5280120"/>
              <a:ext cx="1440" cy="33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77120" y="5280120"/>
              <a:ext cx="671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48520" y="5280120"/>
              <a:ext cx="1440" cy="33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26080" y="4614840"/>
              <a:ext cx="573120" cy="66060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26080" y="4614840"/>
              <a:ext cx="573120" cy="660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04240" y="4610160"/>
              <a:ext cx="1440" cy="669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6521040" y="5280120"/>
              <a:ext cx="582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521400" y="4609800"/>
              <a:ext cx="1800" cy="669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21400" y="4610160"/>
              <a:ext cx="582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04240" y="4610160"/>
              <a:ext cx="1440" cy="669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91240" y="4594320"/>
              <a:ext cx="4446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240" y="4594320"/>
              <a:ext cx="444600" cy="11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40520" y="4589640"/>
              <a:ext cx="180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586200" y="4610160"/>
              <a:ext cx="45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586560" y="4589280"/>
              <a:ext cx="144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6560" y="4589640"/>
              <a:ext cx="453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40520" y="4589640"/>
              <a:ext cx="1800" cy="20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4572000"/>
              <a:ext cx="368280" cy="1260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29400" y="4572000"/>
              <a:ext cx="368280" cy="1260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2360" y="4567320"/>
              <a:ext cx="1800" cy="2232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6624360" y="4589640"/>
              <a:ext cx="377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624720" y="4567320"/>
              <a:ext cx="144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4720" y="4567320"/>
              <a:ext cx="377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02360" y="4567320"/>
              <a:ext cx="1800" cy="22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13640" y="4565520"/>
              <a:ext cx="199800" cy="180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13640" y="4565520"/>
              <a:ext cx="199800" cy="180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13440" y="4565520"/>
              <a:ext cx="1800" cy="180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713280" y="4567320"/>
              <a:ext cx="199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713640" y="456516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13640" y="4565520"/>
              <a:ext cx="199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13440" y="4565520"/>
              <a:ext cx="1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62800" y="4562640"/>
              <a:ext cx="501480" cy="2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2800" y="4562640"/>
              <a:ext cx="501480" cy="28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64280" y="4562640"/>
              <a:ext cx="1800" cy="28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562440" y="4565520"/>
              <a:ext cx="501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6562800" y="4562640"/>
              <a:ext cx="14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62800" y="4562640"/>
              <a:ext cx="5014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64280" y="45626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94560" y="4559400"/>
              <a:ext cx="237960" cy="324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94560" y="4559400"/>
              <a:ext cx="237960" cy="324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32520" y="4559400"/>
              <a:ext cx="1800" cy="324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94200" y="456264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694560" y="455904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94560" y="4559400"/>
              <a:ext cx="2379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32520" y="455940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38840" y="4559400"/>
              <a:ext cx="149400" cy="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38840" y="4559400"/>
              <a:ext cx="149400" cy="1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88240" y="4559400"/>
              <a:ext cx="1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6738480" y="4559400"/>
              <a:ext cx="149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38840" y="455940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38840" y="4559400"/>
              <a:ext cx="149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88240" y="455940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84840" y="4549680"/>
              <a:ext cx="255600" cy="46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84840" y="4549680"/>
              <a:ext cx="255600" cy="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45480" y="4545000"/>
              <a:ext cx="1440" cy="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6679800" y="4559400"/>
              <a:ext cx="265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680160" y="4545000"/>
              <a:ext cx="180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0160" y="4545000"/>
              <a:ext cx="2653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45480" y="4545000"/>
              <a:ext cx="144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3880" y="4545000"/>
              <a:ext cx="141120" cy="144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43880" y="4545000"/>
              <a:ext cx="141120" cy="144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85000" y="4545000"/>
              <a:ext cx="1440" cy="144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743880" y="4545000"/>
              <a:ext cx="141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43880" y="454500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3880" y="4545000"/>
              <a:ext cx="141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85000" y="454500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37400" y="4405320"/>
              <a:ext cx="150840" cy="13500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37400" y="4405320"/>
              <a:ext cx="150840" cy="13500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2920" y="4400640"/>
              <a:ext cx="1440" cy="14436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6732360" y="4545000"/>
              <a:ext cx="160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732720" y="4400280"/>
              <a:ext cx="1440" cy="144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32720" y="4400640"/>
              <a:ext cx="160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2920" y="4400640"/>
              <a:ext cx="1440" cy="144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38840" y="4395960"/>
              <a:ext cx="149400" cy="46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38840" y="4395960"/>
              <a:ext cx="149400" cy="468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88240" y="4395960"/>
              <a:ext cx="1440" cy="4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738480" y="4400640"/>
              <a:ext cx="149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738840" y="4395600"/>
              <a:ext cx="180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38840" y="4395960"/>
              <a:ext cx="1494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88240" y="4395960"/>
              <a:ext cx="1440" cy="4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77000" y="4392720"/>
              <a:ext cx="73080" cy="324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77000" y="4392720"/>
              <a:ext cx="73080" cy="324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50080" y="4392720"/>
              <a:ext cx="1440" cy="324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776640" y="4395960"/>
              <a:ext cx="73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777000" y="439236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77000" y="4392720"/>
              <a:ext cx="73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0080" y="439272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6720" y="4384800"/>
              <a:ext cx="53640" cy="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86720" y="4384800"/>
              <a:ext cx="53640" cy="2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45400" y="4379760"/>
              <a:ext cx="1440" cy="1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781320" y="4392720"/>
              <a:ext cx="63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781680" y="4379760"/>
              <a:ext cx="1800" cy="12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1680" y="4379760"/>
              <a:ext cx="637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45400" y="4379760"/>
              <a:ext cx="1440" cy="129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784920" y="4373640"/>
              <a:ext cx="58680" cy="6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784920" y="4373640"/>
              <a:ext cx="58680" cy="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3600" y="4373640"/>
              <a:ext cx="180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784560" y="4379760"/>
              <a:ext cx="58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784920" y="437328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84920" y="4373640"/>
              <a:ext cx="58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43600" y="4373640"/>
              <a:ext cx="1800" cy="6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8160" y="4338720"/>
              <a:ext cx="50760" cy="3024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88160" y="4338720"/>
              <a:ext cx="50760" cy="3024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0" y="4334040"/>
              <a:ext cx="1800" cy="3960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783120" y="4373640"/>
              <a:ext cx="6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83480" y="4334040"/>
              <a:ext cx="144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83480" y="4334040"/>
              <a:ext cx="601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43600" y="4334040"/>
              <a:ext cx="1800" cy="39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73760" y="4305240"/>
              <a:ext cx="81000" cy="2376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73760" y="4305240"/>
              <a:ext cx="81000" cy="2376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59440" y="4300560"/>
              <a:ext cx="1800" cy="3348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768720" y="4334040"/>
              <a:ext cx="90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6769080" y="4300200"/>
              <a:ext cx="144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69080" y="4300560"/>
              <a:ext cx="90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59440" y="4300560"/>
              <a:ext cx="180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28440" y="3840120"/>
              <a:ext cx="971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afd00"/>
                  </a:solidFill>
                  <a:latin typeface="Arial"/>
                </a:rPr>
                <a:t>1990s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419720" y="2057400"/>
            <a:ext cx="2057400" cy="3200400"/>
            <a:chOff x="4419720" y="2057400"/>
            <a:chExt cx="2057400" cy="3200400"/>
          </a:xfrm>
        </p:grpSpPr>
        <p:sp>
          <p:nvSpPr>
            <p:cNvPr id="258" name=""/>
            <p:cNvSpPr/>
            <p:nvPr/>
          </p:nvSpPr>
          <p:spPr>
            <a:xfrm>
              <a:off x="4419720" y="2057400"/>
              <a:ext cx="2057400" cy="251460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4648320"/>
              <a:ext cx="2057400" cy="60948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461960" y="1352880"/>
            <a:ext cx="3762360" cy="5033160"/>
            <a:chOff x="1461960" y="1352880"/>
            <a:chExt cx="3762360" cy="5033160"/>
          </a:xfrm>
        </p:grpSpPr>
        <p:sp>
          <p:nvSpPr>
            <p:cNvPr id="261" name=""/>
            <p:cNvSpPr/>
            <p:nvPr/>
          </p:nvSpPr>
          <p:spPr>
            <a:xfrm flipH="1">
              <a:off x="2301480" y="5405400"/>
              <a:ext cx="58680" cy="1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301480" y="4756320"/>
              <a:ext cx="586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301480" y="4106880"/>
              <a:ext cx="586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301480" y="3457440"/>
              <a:ext cx="58680" cy="1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301480" y="2808360"/>
              <a:ext cx="586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2301480" y="2158920"/>
              <a:ext cx="58680" cy="1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301480" y="1511280"/>
              <a:ext cx="586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360520" y="1510920"/>
              <a:ext cx="1800" cy="38941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87640" y="528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031120" y="4638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031120" y="3990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4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031120" y="3340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2031120" y="2691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8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1976040" y="2049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1976040" y="14004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12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22400" y="5564160"/>
              <a:ext cx="180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35400" y="5564160"/>
              <a:ext cx="144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46600" y="5564160"/>
              <a:ext cx="144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59240" y="5564160"/>
              <a:ext cx="180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3680" y="5564160"/>
              <a:ext cx="1440" cy="586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2400" y="5564160"/>
              <a:ext cx="2051280" cy="144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35560" y="5735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11200" y="5735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85040" y="5735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35040" y="5735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88280" y="57355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600" spc="-1" strike="noStrike">
                  <a:solidFill>
                    <a:srgbClr val="cecece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70320" y="5405400"/>
              <a:ext cx="2752560" cy="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70320" y="5405400"/>
              <a:ext cx="2752560" cy="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22880" y="5405400"/>
              <a:ext cx="14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470320" y="5405400"/>
              <a:ext cx="2752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470320" y="540540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70320" y="5405400"/>
              <a:ext cx="27525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22880" y="540540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27440" y="5373720"/>
              <a:ext cx="2041560" cy="27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27440" y="5373720"/>
              <a:ext cx="2041560" cy="2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3680" y="5369040"/>
              <a:ext cx="144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822400" y="5405400"/>
              <a:ext cx="2051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822400" y="5368680"/>
              <a:ext cx="180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22400" y="5369040"/>
              <a:ext cx="2051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73680" y="5369040"/>
              <a:ext cx="1440" cy="36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560" y="5046840"/>
              <a:ext cx="154296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76560" y="5046840"/>
              <a:ext cx="1542960" cy="31716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24560" y="5041800"/>
              <a:ext cx="1440" cy="32724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071520" y="5369040"/>
              <a:ext cx="1552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071880" y="5041440"/>
              <a:ext cx="1440" cy="32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71880" y="5041800"/>
              <a:ext cx="1552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24560" y="5041800"/>
              <a:ext cx="1440" cy="32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087720" y="5038560"/>
              <a:ext cx="1519200" cy="324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87720" y="5038560"/>
              <a:ext cx="1519200" cy="324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606920" y="5038560"/>
              <a:ext cx="1440" cy="324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087720" y="5041800"/>
              <a:ext cx="1519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087720" y="503820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87720" y="5038560"/>
              <a:ext cx="1519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06920" y="503856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9720" y="5032440"/>
              <a:ext cx="1195200" cy="14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49720" y="5032440"/>
              <a:ext cx="1195200" cy="14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49600" y="5027760"/>
              <a:ext cx="1800" cy="108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44320" y="5038560"/>
              <a:ext cx="120492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244680" y="50277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44680" y="5027760"/>
              <a:ext cx="1204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49600" y="5027760"/>
              <a:ext cx="18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9840" y="4656240"/>
              <a:ext cx="1076400" cy="36648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09840" y="4656240"/>
              <a:ext cx="1076400" cy="36648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90920" y="4651200"/>
              <a:ext cx="1800" cy="37656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305160" y="5027760"/>
              <a:ext cx="1085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305160" y="4651200"/>
              <a:ext cx="1440" cy="37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05160" y="4651200"/>
              <a:ext cx="1085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90920" y="4651200"/>
              <a:ext cx="1800" cy="376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21000" y="2011320"/>
              <a:ext cx="1052640" cy="263520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21000" y="2011320"/>
              <a:ext cx="1052640" cy="2635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78320" y="2006640"/>
              <a:ext cx="1440" cy="264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316320" y="4651200"/>
              <a:ext cx="10620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316320" y="2006640"/>
              <a:ext cx="1440" cy="2644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6320" y="2006640"/>
              <a:ext cx="10620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78320" y="2006640"/>
              <a:ext cx="1440" cy="2644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22800" y="1874880"/>
              <a:ext cx="105084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22800" y="1874880"/>
              <a:ext cx="1050840" cy="12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78320" y="1870200"/>
              <a:ext cx="144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3317760" y="2006640"/>
              <a:ext cx="1060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317760" y="1869840"/>
              <a:ext cx="180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317760" y="1870200"/>
              <a:ext cx="10605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78320" y="1870200"/>
              <a:ext cx="1440" cy="136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79760" y="1693800"/>
              <a:ext cx="736560" cy="171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79760" y="1693800"/>
              <a:ext cx="736560" cy="17136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21000" y="1689120"/>
              <a:ext cx="1800" cy="18108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475080" y="1870200"/>
              <a:ext cx="745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475080" y="1688760"/>
              <a:ext cx="1440" cy="18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475080" y="1689120"/>
              <a:ext cx="7459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21000" y="1689120"/>
              <a:ext cx="1800" cy="18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11520" y="1685880"/>
              <a:ext cx="469800" cy="324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11520" y="1685880"/>
              <a:ext cx="469800" cy="324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81320" y="1685880"/>
              <a:ext cx="1800" cy="324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611160" y="1689120"/>
              <a:ext cx="469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611520" y="168552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11520" y="1685880"/>
              <a:ext cx="469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81320" y="168588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57600" y="1631880"/>
              <a:ext cx="379440" cy="493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1631880"/>
              <a:ext cx="379440" cy="493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41720" y="1627200"/>
              <a:ext cx="1800" cy="586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652920" y="1685880"/>
              <a:ext cx="388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652920" y="1626840"/>
              <a:ext cx="1440" cy="58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52920" y="1627200"/>
              <a:ext cx="388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41720" y="1627200"/>
              <a:ext cx="1800" cy="58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5240" y="1598760"/>
              <a:ext cx="344160" cy="2376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75240" y="1598760"/>
              <a:ext cx="344160" cy="2376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24440" y="1593720"/>
              <a:ext cx="1440" cy="3348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670200" y="1627200"/>
              <a:ext cx="3542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670200" y="1593360"/>
              <a:ext cx="180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70200" y="1593720"/>
              <a:ext cx="354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24440" y="1593720"/>
              <a:ext cx="1440" cy="33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03680" y="1590840"/>
              <a:ext cx="285840" cy="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03680" y="1590840"/>
              <a:ext cx="285840" cy="2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89520" y="1590840"/>
              <a:ext cx="1440" cy="2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3703680" y="1593720"/>
              <a:ext cx="28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703680" y="1590840"/>
              <a:ext cx="14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03680" y="1590840"/>
              <a:ext cx="285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89520" y="1590840"/>
              <a:ext cx="144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11600" y="1584360"/>
              <a:ext cx="271440" cy="1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711600" y="1584360"/>
              <a:ext cx="271440" cy="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87720" y="157968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3706920" y="1590840"/>
              <a:ext cx="280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3706920" y="1579320"/>
              <a:ext cx="144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06920" y="1579680"/>
              <a:ext cx="280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987720" y="1579680"/>
              <a:ext cx="1800" cy="111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20960" y="1579680"/>
              <a:ext cx="252720" cy="144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20960" y="1579680"/>
              <a:ext cx="252720" cy="144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73680" y="1579680"/>
              <a:ext cx="1440" cy="144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3720960" y="1579680"/>
              <a:ext cx="252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20960" y="1579680"/>
              <a:ext cx="18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20960" y="1579680"/>
              <a:ext cx="252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73680" y="1579680"/>
              <a:ext cx="1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51200" y="1527120"/>
              <a:ext cx="192240" cy="4752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51200" y="1527120"/>
              <a:ext cx="192240" cy="4752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48120" y="1522440"/>
              <a:ext cx="1440" cy="5724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3746520" y="157968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746520" y="1522080"/>
              <a:ext cx="1440" cy="5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746520" y="1522440"/>
              <a:ext cx="201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48120" y="1522440"/>
              <a:ext cx="1440" cy="57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84680" y="1519200"/>
              <a:ext cx="125280" cy="32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84680" y="1519200"/>
              <a:ext cx="125280" cy="32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09960" y="1519200"/>
              <a:ext cx="1800" cy="32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784680" y="1522440"/>
              <a:ext cx="1252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3784680" y="1518840"/>
              <a:ext cx="14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4680" y="1519200"/>
              <a:ext cx="1252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09960" y="151920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794040" y="1515960"/>
              <a:ext cx="104760" cy="3240"/>
            </a:xfrm>
            <a:prstGeom prst="rect">
              <a:avLst/>
            </a:prstGeom>
            <a:solidFill>
              <a:srgbClr val="ff8000"/>
            </a:solidFill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94040" y="1515960"/>
              <a:ext cx="104760" cy="3240"/>
            </a:xfrm>
            <a:prstGeom prst="rect">
              <a:avLst/>
            </a:prstGeom>
            <a:noFill/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98800" y="1515960"/>
              <a:ext cx="1800" cy="3240"/>
            </a:xfrm>
            <a:prstGeom prst="line">
              <a:avLst/>
            </a:prstGeom>
            <a:ln w="9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793680" y="1519200"/>
              <a:ext cx="104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794040" y="151560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94040" y="1515960"/>
              <a:ext cx="104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8800" y="1515960"/>
              <a:ext cx="180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14920" y="1515960"/>
              <a:ext cx="64800" cy="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14920" y="1515960"/>
              <a:ext cx="64800" cy="1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79720" y="1515960"/>
              <a:ext cx="180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3814920" y="1515960"/>
              <a:ext cx="64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14920" y="151596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14920" y="1515960"/>
              <a:ext cx="64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79720" y="1515960"/>
              <a:ext cx="18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19600" y="1515960"/>
              <a:ext cx="57240" cy="1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19600" y="1515960"/>
              <a:ext cx="57240" cy="1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76840" y="1515960"/>
              <a:ext cx="1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3819240" y="1515960"/>
              <a:ext cx="57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19600" y="151596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19600" y="1515960"/>
              <a:ext cx="572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76840" y="151596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24280" y="1457280"/>
              <a:ext cx="46080" cy="54000"/>
            </a:xfrm>
            <a:prstGeom prst="rect">
              <a:avLst/>
            </a:prstGeom>
            <a:solidFill>
              <a:srgbClr val="004080"/>
            </a:solidFill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24280" y="1457280"/>
              <a:ext cx="46080" cy="54000"/>
            </a:xfrm>
            <a:prstGeom prst="rect">
              <a:avLst/>
            </a:prstGeom>
            <a:noFill/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75040" y="1452600"/>
              <a:ext cx="1800" cy="63360"/>
            </a:xfrm>
            <a:prstGeom prst="line">
              <a:avLst/>
            </a:prstGeom>
            <a:ln w="9360">
              <a:solidFill>
                <a:srgbClr val="0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819600" y="1515960"/>
              <a:ext cx="55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819600" y="1452600"/>
              <a:ext cx="144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19600" y="1452600"/>
              <a:ext cx="55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75040" y="1452600"/>
              <a:ext cx="180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22840" y="1450800"/>
              <a:ext cx="50760" cy="1800"/>
            </a:xfrm>
            <a:prstGeom prst="rect">
              <a:avLst/>
            </a:prstGeom>
            <a:solidFill>
              <a:srgbClr val="800040"/>
            </a:solidFill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822840" y="1450800"/>
              <a:ext cx="50760" cy="1800"/>
            </a:xfrm>
            <a:prstGeom prst="rect">
              <a:avLst/>
            </a:prstGeom>
            <a:noFill/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73600" y="1450800"/>
              <a:ext cx="1440" cy="1800"/>
            </a:xfrm>
            <a:prstGeom prst="line">
              <a:avLst/>
            </a:prstGeom>
            <a:ln w="9360">
              <a:solidFill>
                <a:srgbClr val="8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3822480" y="1452600"/>
              <a:ext cx="507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822840" y="145044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22840" y="1450800"/>
              <a:ext cx="507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73600" y="1450800"/>
              <a:ext cx="1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70120" y="6019920"/>
              <a:ext cx="2338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cecece"/>
                  </a:solidFill>
                  <a:latin typeface="Arial"/>
                </a:rPr>
                <a:t>Mean weight (kg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94680" y="3278160"/>
              <a:ext cx="3100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cecece"/>
                  </a:solidFill>
                  <a:latin typeface="Arial"/>
                </a:rPr>
                <a:t>Cpue (no./1000 hooks)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4572000" y="3422520"/>
          <a:ext cx="548640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422520"/>
                    <a:ext cx="548640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Data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640" y="259092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Palatino"/>
                <a:ea typeface="Times New Roman"/>
              </a:rPr>
              <a:t>Features</a:t>
            </a:r>
            <a:endParaRPr b="0" lang="en-US" sz="4000" spc="-1" strike="noStrike">
              <a:solidFill>
                <a:srgbClr val="fafd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Non-target species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Size of each fish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Hook number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Depth of each catch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  <a:ea typeface="Times New Roman"/>
              </a:rPr>
              <a:t>Soak time of each catch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47" name=""/>
          <p:cNvSpPr/>
          <p:nvPr/>
        </p:nvSpPr>
        <p:spPr>
          <a:xfrm>
            <a:off x="914400" y="1143000"/>
            <a:ext cx="1014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50s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28880" y="114300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1950–1958,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33640" y="1143000"/>
            <a:ext cx="6415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88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75160" y="1143000"/>
            <a:ext cx="7779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day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3120" y="1143000"/>
            <a:ext cx="2662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survey grid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4400" y="1919160"/>
            <a:ext cx="1014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0s</a:t>
            </a: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928880" y="1919160"/>
            <a:ext cx="190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1994–2002,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33640" y="1919160"/>
            <a:ext cx="6415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505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75160" y="1919160"/>
            <a:ext cx="777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day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53120" y="1919160"/>
            <a:ext cx="2662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Times New Roman"/>
              </a:rPr>
              <a:t>commercial fishing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ecec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rcRect l="0" t="10056" r="519" b="17096"/>
          <a:stretch/>
        </p:blipFill>
        <p:spPr>
          <a:xfrm>
            <a:off x="0" y="1612800"/>
            <a:ext cx="9144000" cy="3456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522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Palatino"/>
              </a:rPr>
              <a:t>Study are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800600" y="17524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Palatino"/>
              </a:rPr>
              <a:t>Hawaii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317760" y="1628640"/>
            <a:ext cx="5826240" cy="3400560"/>
            <a:chOff x="3317760" y="1628640"/>
            <a:chExt cx="5826240" cy="3400560"/>
          </a:xfrm>
        </p:grpSpPr>
        <p:pic>
          <p:nvPicPr>
            <p:cNvPr id="461" name="" descr=""/>
            <p:cNvPicPr/>
            <p:nvPr/>
          </p:nvPicPr>
          <p:blipFill>
            <a:blip r:embed="rId2"/>
            <a:stretch/>
          </p:blipFill>
          <p:spPr>
            <a:xfrm>
              <a:off x="3317760" y="1628640"/>
              <a:ext cx="5826240" cy="34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7315200" y="167652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cece"/>
                  </a:solidFill>
                  <a:latin typeface="Palatino"/>
                </a:rPr>
                <a:t>1950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15200" y="205740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Palatino"/>
                </a:rPr>
                <a:t>1990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74080" y="2209680"/>
              <a:ext cx="179280" cy="179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4080" y="1828800"/>
              <a:ext cx="179280" cy="1792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3392640" y="1447920"/>
            <a:ext cx="5903640" cy="34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1919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76440" y="504504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1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733840" y="504504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3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14920" y="504504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696360" y="504504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ecece"/>
                </a:solidFill>
                <a:latin typeface="Palatino"/>
              </a:rPr>
              <a:t>9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668440" y="502920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81280" y="5410080"/>
            <a:ext cx="24386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Palatino"/>
              </a:rPr>
              <a:t>Mont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62120" y="4952880"/>
            <a:ext cx="8076960" cy="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9040" y="716040"/>
            <a:ext cx="352440" cy="28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91160" y="639720"/>
            <a:ext cx="9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Palatino"/>
              </a:rPr>
              <a:t>195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4080" y="949320"/>
            <a:ext cx="8061480" cy="3886200"/>
          </a:xfrm>
          <a:custGeom>
            <a:avLst/>
            <a:gdLst/>
            <a:ahLst/>
            <a:rect l="l" t="t" r="r" b="b"/>
            <a:pathLst>
              <a:path w="5078" h="2448">
                <a:moveTo>
                  <a:pt x="0" y="2448"/>
                </a:moveTo>
                <a:lnTo>
                  <a:pt x="29" y="1759"/>
                </a:lnTo>
                <a:lnTo>
                  <a:pt x="57" y="1674"/>
                </a:lnTo>
                <a:lnTo>
                  <a:pt x="85" y="1596"/>
                </a:lnTo>
                <a:lnTo>
                  <a:pt x="121" y="1511"/>
                </a:lnTo>
                <a:lnTo>
                  <a:pt x="157" y="1412"/>
                </a:lnTo>
                <a:lnTo>
                  <a:pt x="192" y="1327"/>
                </a:lnTo>
                <a:lnTo>
                  <a:pt x="221" y="1234"/>
                </a:lnTo>
                <a:lnTo>
                  <a:pt x="256" y="1142"/>
                </a:lnTo>
                <a:lnTo>
                  <a:pt x="292" y="1050"/>
                </a:lnTo>
                <a:lnTo>
                  <a:pt x="320" y="972"/>
                </a:lnTo>
                <a:lnTo>
                  <a:pt x="356" y="901"/>
                </a:lnTo>
                <a:lnTo>
                  <a:pt x="391" y="844"/>
                </a:lnTo>
                <a:lnTo>
                  <a:pt x="420" y="801"/>
                </a:lnTo>
                <a:lnTo>
                  <a:pt x="455" y="773"/>
                </a:lnTo>
                <a:lnTo>
                  <a:pt x="491" y="759"/>
                </a:lnTo>
                <a:lnTo>
                  <a:pt x="526" y="766"/>
                </a:lnTo>
                <a:lnTo>
                  <a:pt x="555" y="780"/>
                </a:lnTo>
                <a:lnTo>
                  <a:pt x="590" y="816"/>
                </a:lnTo>
                <a:lnTo>
                  <a:pt x="626" y="858"/>
                </a:lnTo>
                <a:lnTo>
                  <a:pt x="654" y="915"/>
                </a:lnTo>
                <a:lnTo>
                  <a:pt x="690" y="972"/>
                </a:lnTo>
                <a:lnTo>
                  <a:pt x="726" y="1036"/>
                </a:lnTo>
                <a:lnTo>
                  <a:pt x="761" y="1099"/>
                </a:lnTo>
                <a:lnTo>
                  <a:pt x="790" y="1170"/>
                </a:lnTo>
                <a:lnTo>
                  <a:pt x="825" y="1234"/>
                </a:lnTo>
                <a:lnTo>
                  <a:pt x="861" y="1305"/>
                </a:lnTo>
                <a:lnTo>
                  <a:pt x="889" y="1369"/>
                </a:lnTo>
                <a:lnTo>
                  <a:pt x="925" y="1440"/>
                </a:lnTo>
                <a:lnTo>
                  <a:pt x="960" y="1511"/>
                </a:lnTo>
                <a:lnTo>
                  <a:pt x="989" y="1582"/>
                </a:lnTo>
                <a:lnTo>
                  <a:pt x="1024" y="1646"/>
                </a:lnTo>
                <a:lnTo>
                  <a:pt x="1060" y="1717"/>
                </a:lnTo>
                <a:lnTo>
                  <a:pt x="1095" y="1781"/>
                </a:lnTo>
                <a:lnTo>
                  <a:pt x="1124" y="1845"/>
                </a:lnTo>
                <a:lnTo>
                  <a:pt x="1152" y="1908"/>
                </a:lnTo>
                <a:lnTo>
                  <a:pt x="1188" y="1965"/>
                </a:lnTo>
                <a:lnTo>
                  <a:pt x="1223" y="2022"/>
                </a:lnTo>
                <a:lnTo>
                  <a:pt x="1259" y="2065"/>
                </a:lnTo>
                <a:lnTo>
                  <a:pt x="1287" y="2100"/>
                </a:lnTo>
                <a:lnTo>
                  <a:pt x="1323" y="2114"/>
                </a:lnTo>
                <a:lnTo>
                  <a:pt x="1359" y="2121"/>
                </a:lnTo>
                <a:lnTo>
                  <a:pt x="1387" y="2121"/>
                </a:lnTo>
                <a:lnTo>
                  <a:pt x="1423" y="2107"/>
                </a:lnTo>
                <a:lnTo>
                  <a:pt x="1458" y="2079"/>
                </a:lnTo>
                <a:lnTo>
                  <a:pt x="1487" y="2043"/>
                </a:lnTo>
                <a:lnTo>
                  <a:pt x="1522" y="1994"/>
                </a:lnTo>
                <a:lnTo>
                  <a:pt x="1558" y="1930"/>
                </a:lnTo>
                <a:lnTo>
                  <a:pt x="1593" y="1866"/>
                </a:lnTo>
                <a:lnTo>
                  <a:pt x="1622" y="1802"/>
                </a:lnTo>
                <a:lnTo>
                  <a:pt x="1657" y="1731"/>
                </a:lnTo>
                <a:lnTo>
                  <a:pt x="1693" y="1674"/>
                </a:lnTo>
                <a:lnTo>
                  <a:pt x="1721" y="1610"/>
                </a:lnTo>
                <a:lnTo>
                  <a:pt x="1757" y="1547"/>
                </a:lnTo>
                <a:lnTo>
                  <a:pt x="1792" y="1504"/>
                </a:lnTo>
                <a:lnTo>
                  <a:pt x="1828" y="1454"/>
                </a:lnTo>
                <a:lnTo>
                  <a:pt x="1856" y="1426"/>
                </a:lnTo>
                <a:lnTo>
                  <a:pt x="1892" y="1405"/>
                </a:lnTo>
                <a:lnTo>
                  <a:pt x="1928" y="1383"/>
                </a:lnTo>
                <a:lnTo>
                  <a:pt x="1956" y="1376"/>
                </a:lnTo>
                <a:lnTo>
                  <a:pt x="1992" y="1376"/>
                </a:lnTo>
                <a:lnTo>
                  <a:pt x="2027" y="1390"/>
                </a:lnTo>
                <a:lnTo>
                  <a:pt x="2056" y="1398"/>
                </a:lnTo>
                <a:lnTo>
                  <a:pt x="2091" y="1412"/>
                </a:lnTo>
                <a:lnTo>
                  <a:pt x="2127" y="1426"/>
                </a:lnTo>
                <a:lnTo>
                  <a:pt x="2162" y="1454"/>
                </a:lnTo>
                <a:lnTo>
                  <a:pt x="2191" y="1468"/>
                </a:lnTo>
                <a:lnTo>
                  <a:pt x="2219" y="1497"/>
                </a:lnTo>
                <a:lnTo>
                  <a:pt x="2262" y="1518"/>
                </a:lnTo>
                <a:lnTo>
                  <a:pt x="2290" y="1547"/>
                </a:lnTo>
                <a:lnTo>
                  <a:pt x="2326" y="1582"/>
                </a:lnTo>
                <a:lnTo>
                  <a:pt x="2354" y="1610"/>
                </a:lnTo>
                <a:lnTo>
                  <a:pt x="2390" y="1646"/>
                </a:lnTo>
                <a:lnTo>
                  <a:pt x="2425" y="1681"/>
                </a:lnTo>
                <a:lnTo>
                  <a:pt x="2454" y="1710"/>
                </a:lnTo>
                <a:lnTo>
                  <a:pt x="2489" y="1731"/>
                </a:lnTo>
                <a:lnTo>
                  <a:pt x="2525" y="1759"/>
                </a:lnTo>
                <a:lnTo>
                  <a:pt x="2553" y="1774"/>
                </a:lnTo>
                <a:lnTo>
                  <a:pt x="2589" y="1788"/>
                </a:lnTo>
                <a:lnTo>
                  <a:pt x="2625" y="1795"/>
                </a:lnTo>
                <a:lnTo>
                  <a:pt x="2660" y="1781"/>
                </a:lnTo>
                <a:lnTo>
                  <a:pt x="2689" y="1759"/>
                </a:lnTo>
                <a:lnTo>
                  <a:pt x="2724" y="1724"/>
                </a:lnTo>
                <a:lnTo>
                  <a:pt x="2760" y="1667"/>
                </a:lnTo>
                <a:lnTo>
                  <a:pt x="2788" y="1589"/>
                </a:lnTo>
                <a:lnTo>
                  <a:pt x="2824" y="1504"/>
                </a:lnTo>
                <a:lnTo>
                  <a:pt x="2859" y="1390"/>
                </a:lnTo>
                <a:lnTo>
                  <a:pt x="2895" y="1270"/>
                </a:lnTo>
                <a:lnTo>
                  <a:pt x="2923" y="1128"/>
                </a:lnTo>
                <a:lnTo>
                  <a:pt x="2959" y="979"/>
                </a:lnTo>
                <a:lnTo>
                  <a:pt x="2994" y="830"/>
                </a:lnTo>
                <a:lnTo>
                  <a:pt x="3023" y="674"/>
                </a:lnTo>
                <a:lnTo>
                  <a:pt x="3058" y="525"/>
                </a:lnTo>
                <a:lnTo>
                  <a:pt x="3094" y="390"/>
                </a:lnTo>
                <a:lnTo>
                  <a:pt x="3122" y="262"/>
                </a:lnTo>
                <a:lnTo>
                  <a:pt x="3158" y="163"/>
                </a:lnTo>
                <a:lnTo>
                  <a:pt x="3194" y="78"/>
                </a:lnTo>
                <a:lnTo>
                  <a:pt x="3229" y="28"/>
                </a:lnTo>
                <a:lnTo>
                  <a:pt x="3258" y="0"/>
                </a:lnTo>
                <a:lnTo>
                  <a:pt x="3286" y="0"/>
                </a:lnTo>
                <a:lnTo>
                  <a:pt x="3329" y="21"/>
                </a:lnTo>
                <a:lnTo>
                  <a:pt x="3357" y="70"/>
                </a:lnTo>
                <a:lnTo>
                  <a:pt x="3393" y="127"/>
                </a:lnTo>
                <a:lnTo>
                  <a:pt x="3421" y="198"/>
                </a:lnTo>
                <a:lnTo>
                  <a:pt x="3457" y="276"/>
                </a:lnTo>
                <a:lnTo>
                  <a:pt x="3492" y="361"/>
                </a:lnTo>
                <a:lnTo>
                  <a:pt x="3521" y="454"/>
                </a:lnTo>
                <a:lnTo>
                  <a:pt x="3556" y="532"/>
                </a:lnTo>
                <a:lnTo>
                  <a:pt x="3592" y="610"/>
                </a:lnTo>
                <a:lnTo>
                  <a:pt x="3620" y="674"/>
                </a:lnTo>
                <a:lnTo>
                  <a:pt x="3656" y="730"/>
                </a:lnTo>
                <a:lnTo>
                  <a:pt x="3691" y="766"/>
                </a:lnTo>
                <a:lnTo>
                  <a:pt x="3727" y="801"/>
                </a:lnTo>
                <a:lnTo>
                  <a:pt x="3755" y="830"/>
                </a:lnTo>
                <a:lnTo>
                  <a:pt x="3791" y="830"/>
                </a:lnTo>
                <a:lnTo>
                  <a:pt x="3827" y="830"/>
                </a:lnTo>
                <a:lnTo>
                  <a:pt x="3855" y="809"/>
                </a:lnTo>
                <a:lnTo>
                  <a:pt x="3891" y="780"/>
                </a:lnTo>
                <a:lnTo>
                  <a:pt x="3926" y="752"/>
                </a:lnTo>
                <a:lnTo>
                  <a:pt x="3962" y="716"/>
                </a:lnTo>
                <a:lnTo>
                  <a:pt x="3990" y="681"/>
                </a:lnTo>
                <a:lnTo>
                  <a:pt x="4026" y="638"/>
                </a:lnTo>
                <a:lnTo>
                  <a:pt x="4061" y="596"/>
                </a:lnTo>
                <a:lnTo>
                  <a:pt x="4090" y="539"/>
                </a:lnTo>
                <a:lnTo>
                  <a:pt x="4125" y="489"/>
                </a:lnTo>
                <a:lnTo>
                  <a:pt x="4161" y="440"/>
                </a:lnTo>
                <a:lnTo>
                  <a:pt x="4189" y="390"/>
                </a:lnTo>
                <a:lnTo>
                  <a:pt x="4225" y="347"/>
                </a:lnTo>
                <a:lnTo>
                  <a:pt x="4260" y="305"/>
                </a:lnTo>
                <a:lnTo>
                  <a:pt x="4296" y="255"/>
                </a:lnTo>
                <a:lnTo>
                  <a:pt x="4324" y="212"/>
                </a:lnTo>
                <a:lnTo>
                  <a:pt x="4353" y="170"/>
                </a:lnTo>
                <a:lnTo>
                  <a:pt x="4396" y="127"/>
                </a:lnTo>
                <a:lnTo>
                  <a:pt x="4424" y="99"/>
                </a:lnTo>
                <a:lnTo>
                  <a:pt x="4460" y="70"/>
                </a:lnTo>
                <a:lnTo>
                  <a:pt x="4488" y="56"/>
                </a:lnTo>
                <a:lnTo>
                  <a:pt x="4524" y="56"/>
                </a:lnTo>
                <a:lnTo>
                  <a:pt x="4559" y="63"/>
                </a:lnTo>
                <a:lnTo>
                  <a:pt x="4588" y="85"/>
                </a:lnTo>
                <a:lnTo>
                  <a:pt x="4623" y="127"/>
                </a:lnTo>
                <a:lnTo>
                  <a:pt x="4659" y="191"/>
                </a:lnTo>
                <a:lnTo>
                  <a:pt x="4687" y="276"/>
                </a:lnTo>
                <a:lnTo>
                  <a:pt x="4723" y="376"/>
                </a:lnTo>
                <a:lnTo>
                  <a:pt x="4758" y="482"/>
                </a:lnTo>
                <a:lnTo>
                  <a:pt x="4794" y="610"/>
                </a:lnTo>
                <a:lnTo>
                  <a:pt x="4822" y="745"/>
                </a:lnTo>
                <a:lnTo>
                  <a:pt x="4858" y="879"/>
                </a:lnTo>
                <a:lnTo>
                  <a:pt x="4893" y="1021"/>
                </a:lnTo>
                <a:lnTo>
                  <a:pt x="4922" y="1156"/>
                </a:lnTo>
                <a:lnTo>
                  <a:pt x="4957" y="1291"/>
                </a:lnTo>
                <a:lnTo>
                  <a:pt x="4993" y="1412"/>
                </a:lnTo>
                <a:lnTo>
                  <a:pt x="5029" y="1525"/>
                </a:lnTo>
                <a:lnTo>
                  <a:pt x="5057" y="1639"/>
                </a:lnTo>
                <a:lnTo>
                  <a:pt x="5078" y="2448"/>
                </a:lnTo>
                <a:lnTo>
                  <a:pt x="0" y="2448"/>
                </a:lnTo>
                <a:lnTo>
                  <a:pt x="0" y="2448"/>
                </a:lnTo>
                <a:close/>
              </a:path>
            </a:pathLst>
          </a:custGeom>
          <a:solidFill>
            <a:srgbClr val="fafd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0240" y="49500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49500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49500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837640" y="49500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2120" y="49500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685800" y="1143000"/>
            <a:ext cx="8159760" cy="3692520"/>
            <a:chOff x="685800" y="1143000"/>
            <a:chExt cx="8159760" cy="3692520"/>
          </a:xfrm>
        </p:grpSpPr>
        <p:sp>
          <p:nvSpPr>
            <p:cNvPr id="483" name=""/>
            <p:cNvSpPr/>
            <p:nvPr/>
          </p:nvSpPr>
          <p:spPr>
            <a:xfrm>
              <a:off x="795240" y="1230480"/>
              <a:ext cx="8039160" cy="2997000"/>
            </a:xfrm>
            <a:custGeom>
              <a:avLst/>
              <a:gdLst/>
              <a:ahLst/>
              <a:rect l="l" t="t" r="r" b="b"/>
              <a:pathLst>
                <a:path w="5064" h="1888">
                  <a:moveTo>
                    <a:pt x="0" y="575"/>
                  </a:moveTo>
                  <a:lnTo>
                    <a:pt x="36" y="525"/>
                  </a:lnTo>
                  <a:lnTo>
                    <a:pt x="71" y="475"/>
                  </a:lnTo>
                  <a:lnTo>
                    <a:pt x="100" y="433"/>
                  </a:lnTo>
                  <a:lnTo>
                    <a:pt x="135" y="397"/>
                  </a:lnTo>
                  <a:lnTo>
                    <a:pt x="164" y="369"/>
                  </a:lnTo>
                  <a:lnTo>
                    <a:pt x="206" y="341"/>
                  </a:lnTo>
                  <a:lnTo>
                    <a:pt x="235" y="319"/>
                  </a:lnTo>
                  <a:lnTo>
                    <a:pt x="263" y="305"/>
                  </a:lnTo>
                  <a:lnTo>
                    <a:pt x="299" y="298"/>
                  </a:lnTo>
                  <a:lnTo>
                    <a:pt x="334" y="298"/>
                  </a:lnTo>
                  <a:lnTo>
                    <a:pt x="363" y="298"/>
                  </a:lnTo>
                  <a:lnTo>
                    <a:pt x="398" y="319"/>
                  </a:lnTo>
                  <a:lnTo>
                    <a:pt x="434" y="348"/>
                  </a:lnTo>
                  <a:lnTo>
                    <a:pt x="462" y="390"/>
                  </a:lnTo>
                  <a:lnTo>
                    <a:pt x="498" y="454"/>
                  </a:lnTo>
                  <a:lnTo>
                    <a:pt x="534" y="525"/>
                  </a:lnTo>
                  <a:lnTo>
                    <a:pt x="562" y="610"/>
                  </a:lnTo>
                  <a:lnTo>
                    <a:pt x="598" y="702"/>
                  </a:lnTo>
                  <a:lnTo>
                    <a:pt x="633" y="809"/>
                  </a:lnTo>
                  <a:lnTo>
                    <a:pt x="662" y="915"/>
                  </a:lnTo>
                  <a:lnTo>
                    <a:pt x="697" y="1022"/>
                  </a:lnTo>
                  <a:lnTo>
                    <a:pt x="733" y="1135"/>
                  </a:lnTo>
                  <a:lnTo>
                    <a:pt x="761" y="1235"/>
                  </a:lnTo>
                  <a:lnTo>
                    <a:pt x="797" y="1334"/>
                  </a:lnTo>
                  <a:lnTo>
                    <a:pt x="825" y="1419"/>
                  </a:lnTo>
                  <a:lnTo>
                    <a:pt x="868" y="1497"/>
                  </a:lnTo>
                  <a:lnTo>
                    <a:pt x="896" y="1561"/>
                  </a:lnTo>
                  <a:lnTo>
                    <a:pt x="925" y="1618"/>
                  </a:lnTo>
                  <a:lnTo>
                    <a:pt x="960" y="1661"/>
                  </a:lnTo>
                  <a:lnTo>
                    <a:pt x="996" y="1703"/>
                  </a:lnTo>
                  <a:lnTo>
                    <a:pt x="1024" y="1724"/>
                  </a:lnTo>
                  <a:lnTo>
                    <a:pt x="1060" y="1753"/>
                  </a:lnTo>
                  <a:lnTo>
                    <a:pt x="1095" y="1767"/>
                  </a:lnTo>
                  <a:lnTo>
                    <a:pt x="1124" y="1767"/>
                  </a:lnTo>
                  <a:lnTo>
                    <a:pt x="1160" y="1774"/>
                  </a:lnTo>
                  <a:lnTo>
                    <a:pt x="1195" y="1774"/>
                  </a:lnTo>
                  <a:lnTo>
                    <a:pt x="1224" y="1774"/>
                  </a:lnTo>
                  <a:lnTo>
                    <a:pt x="1259" y="1767"/>
                  </a:lnTo>
                  <a:lnTo>
                    <a:pt x="1295" y="1760"/>
                  </a:lnTo>
                  <a:lnTo>
                    <a:pt x="1323" y="1753"/>
                  </a:lnTo>
                  <a:lnTo>
                    <a:pt x="1359" y="1739"/>
                  </a:lnTo>
                  <a:lnTo>
                    <a:pt x="1394" y="1724"/>
                  </a:lnTo>
                  <a:lnTo>
                    <a:pt x="1430" y="1710"/>
                  </a:lnTo>
                  <a:lnTo>
                    <a:pt x="1458" y="1696"/>
                  </a:lnTo>
                  <a:lnTo>
                    <a:pt x="1494" y="1682"/>
                  </a:lnTo>
                  <a:lnTo>
                    <a:pt x="1529" y="1661"/>
                  </a:lnTo>
                  <a:lnTo>
                    <a:pt x="1558" y="1639"/>
                  </a:lnTo>
                  <a:lnTo>
                    <a:pt x="1586" y="1618"/>
                  </a:lnTo>
                  <a:lnTo>
                    <a:pt x="1629" y="1590"/>
                  </a:lnTo>
                  <a:lnTo>
                    <a:pt x="1657" y="1568"/>
                  </a:lnTo>
                  <a:lnTo>
                    <a:pt x="1686" y="1540"/>
                  </a:lnTo>
                  <a:lnTo>
                    <a:pt x="1721" y="1511"/>
                  </a:lnTo>
                  <a:lnTo>
                    <a:pt x="1757" y="1483"/>
                  </a:lnTo>
                  <a:lnTo>
                    <a:pt x="1785" y="1455"/>
                  </a:lnTo>
                  <a:lnTo>
                    <a:pt x="1821" y="1419"/>
                  </a:lnTo>
                  <a:lnTo>
                    <a:pt x="1857" y="1398"/>
                  </a:lnTo>
                  <a:lnTo>
                    <a:pt x="1885" y="1362"/>
                  </a:lnTo>
                  <a:lnTo>
                    <a:pt x="1921" y="1334"/>
                  </a:lnTo>
                  <a:lnTo>
                    <a:pt x="1956" y="1299"/>
                  </a:lnTo>
                  <a:lnTo>
                    <a:pt x="1985" y="1263"/>
                  </a:lnTo>
                  <a:lnTo>
                    <a:pt x="2020" y="1228"/>
                  </a:lnTo>
                  <a:lnTo>
                    <a:pt x="2056" y="1185"/>
                  </a:lnTo>
                  <a:lnTo>
                    <a:pt x="2091" y="1142"/>
                  </a:lnTo>
                  <a:lnTo>
                    <a:pt x="2120" y="1107"/>
                  </a:lnTo>
                  <a:lnTo>
                    <a:pt x="2155" y="1072"/>
                  </a:lnTo>
                  <a:lnTo>
                    <a:pt x="2191" y="1036"/>
                  </a:lnTo>
                  <a:lnTo>
                    <a:pt x="2219" y="1008"/>
                  </a:lnTo>
                  <a:lnTo>
                    <a:pt x="2255" y="979"/>
                  </a:lnTo>
                  <a:lnTo>
                    <a:pt x="2290" y="958"/>
                  </a:lnTo>
                  <a:lnTo>
                    <a:pt x="2319" y="944"/>
                  </a:lnTo>
                  <a:lnTo>
                    <a:pt x="2347" y="930"/>
                  </a:lnTo>
                  <a:lnTo>
                    <a:pt x="2390" y="930"/>
                  </a:lnTo>
                  <a:lnTo>
                    <a:pt x="2418" y="930"/>
                  </a:lnTo>
                  <a:lnTo>
                    <a:pt x="2447" y="930"/>
                  </a:lnTo>
                  <a:lnTo>
                    <a:pt x="2482" y="922"/>
                  </a:lnTo>
                  <a:lnTo>
                    <a:pt x="2518" y="922"/>
                  </a:lnTo>
                  <a:lnTo>
                    <a:pt x="2546" y="922"/>
                  </a:lnTo>
                  <a:lnTo>
                    <a:pt x="2582" y="922"/>
                  </a:lnTo>
                  <a:lnTo>
                    <a:pt x="2618" y="915"/>
                  </a:lnTo>
                  <a:lnTo>
                    <a:pt x="2646" y="901"/>
                  </a:lnTo>
                  <a:lnTo>
                    <a:pt x="2682" y="880"/>
                  </a:lnTo>
                  <a:lnTo>
                    <a:pt x="2717" y="866"/>
                  </a:lnTo>
                  <a:lnTo>
                    <a:pt x="2753" y="837"/>
                  </a:lnTo>
                  <a:lnTo>
                    <a:pt x="2781" y="809"/>
                  </a:lnTo>
                  <a:lnTo>
                    <a:pt x="2817" y="773"/>
                  </a:lnTo>
                  <a:lnTo>
                    <a:pt x="2852" y="731"/>
                  </a:lnTo>
                  <a:lnTo>
                    <a:pt x="2881" y="688"/>
                  </a:lnTo>
                  <a:lnTo>
                    <a:pt x="2916" y="632"/>
                  </a:lnTo>
                  <a:lnTo>
                    <a:pt x="2952" y="575"/>
                  </a:lnTo>
                  <a:lnTo>
                    <a:pt x="2980" y="518"/>
                  </a:lnTo>
                  <a:lnTo>
                    <a:pt x="3009" y="461"/>
                  </a:lnTo>
                  <a:lnTo>
                    <a:pt x="3051" y="404"/>
                  </a:lnTo>
                  <a:lnTo>
                    <a:pt x="3080" y="362"/>
                  </a:lnTo>
                  <a:lnTo>
                    <a:pt x="3108" y="319"/>
                  </a:lnTo>
                  <a:lnTo>
                    <a:pt x="3144" y="298"/>
                  </a:lnTo>
                  <a:lnTo>
                    <a:pt x="3179" y="284"/>
                  </a:lnTo>
                  <a:lnTo>
                    <a:pt x="3208" y="284"/>
                  </a:lnTo>
                  <a:lnTo>
                    <a:pt x="3243" y="305"/>
                  </a:lnTo>
                  <a:lnTo>
                    <a:pt x="3279" y="355"/>
                  </a:lnTo>
                  <a:lnTo>
                    <a:pt x="3307" y="419"/>
                  </a:lnTo>
                  <a:lnTo>
                    <a:pt x="3343" y="490"/>
                  </a:lnTo>
                  <a:lnTo>
                    <a:pt x="3379" y="582"/>
                  </a:lnTo>
                  <a:lnTo>
                    <a:pt x="3414" y="667"/>
                  </a:lnTo>
                  <a:lnTo>
                    <a:pt x="3443" y="759"/>
                  </a:lnTo>
                  <a:lnTo>
                    <a:pt x="3478" y="859"/>
                  </a:lnTo>
                  <a:lnTo>
                    <a:pt x="3514" y="944"/>
                  </a:lnTo>
                  <a:lnTo>
                    <a:pt x="3542" y="1029"/>
                  </a:lnTo>
                  <a:lnTo>
                    <a:pt x="3578" y="1093"/>
                  </a:lnTo>
                  <a:lnTo>
                    <a:pt x="3613" y="1135"/>
                  </a:lnTo>
                  <a:lnTo>
                    <a:pt x="3642" y="1164"/>
                  </a:lnTo>
                  <a:lnTo>
                    <a:pt x="3677" y="1164"/>
                  </a:lnTo>
                  <a:lnTo>
                    <a:pt x="3713" y="1150"/>
                  </a:lnTo>
                  <a:lnTo>
                    <a:pt x="3741" y="1114"/>
                  </a:lnTo>
                  <a:lnTo>
                    <a:pt x="3770" y="1057"/>
                  </a:lnTo>
                  <a:lnTo>
                    <a:pt x="3812" y="979"/>
                  </a:lnTo>
                  <a:lnTo>
                    <a:pt x="3841" y="887"/>
                  </a:lnTo>
                  <a:lnTo>
                    <a:pt x="3869" y="773"/>
                  </a:lnTo>
                  <a:lnTo>
                    <a:pt x="3905" y="660"/>
                  </a:lnTo>
                  <a:lnTo>
                    <a:pt x="3940" y="539"/>
                  </a:lnTo>
                  <a:lnTo>
                    <a:pt x="3976" y="419"/>
                  </a:lnTo>
                  <a:lnTo>
                    <a:pt x="4005" y="312"/>
                  </a:lnTo>
                  <a:lnTo>
                    <a:pt x="4040" y="213"/>
                  </a:lnTo>
                  <a:lnTo>
                    <a:pt x="4076" y="128"/>
                  </a:lnTo>
                  <a:lnTo>
                    <a:pt x="4104" y="57"/>
                  </a:lnTo>
                  <a:lnTo>
                    <a:pt x="4140" y="14"/>
                  </a:lnTo>
                  <a:lnTo>
                    <a:pt x="4175" y="0"/>
                  </a:lnTo>
                  <a:lnTo>
                    <a:pt x="4204" y="0"/>
                  </a:lnTo>
                  <a:lnTo>
                    <a:pt x="4239" y="28"/>
                  </a:lnTo>
                  <a:lnTo>
                    <a:pt x="4275" y="78"/>
                  </a:lnTo>
                  <a:lnTo>
                    <a:pt x="4303" y="149"/>
                  </a:lnTo>
                  <a:lnTo>
                    <a:pt x="4339" y="220"/>
                  </a:lnTo>
                  <a:lnTo>
                    <a:pt x="4374" y="305"/>
                  </a:lnTo>
                  <a:lnTo>
                    <a:pt x="4403" y="390"/>
                  </a:lnTo>
                  <a:lnTo>
                    <a:pt x="4438" y="490"/>
                  </a:lnTo>
                  <a:lnTo>
                    <a:pt x="4474" y="575"/>
                  </a:lnTo>
                  <a:lnTo>
                    <a:pt x="4502" y="667"/>
                  </a:lnTo>
                  <a:lnTo>
                    <a:pt x="4531" y="752"/>
                  </a:lnTo>
                  <a:lnTo>
                    <a:pt x="4566" y="837"/>
                  </a:lnTo>
                  <a:lnTo>
                    <a:pt x="4602" y="922"/>
                  </a:lnTo>
                  <a:lnTo>
                    <a:pt x="4638" y="1001"/>
                  </a:lnTo>
                  <a:lnTo>
                    <a:pt x="4666" y="1079"/>
                  </a:lnTo>
                  <a:lnTo>
                    <a:pt x="4702" y="1164"/>
                  </a:lnTo>
                  <a:lnTo>
                    <a:pt x="4737" y="1242"/>
                  </a:lnTo>
                  <a:lnTo>
                    <a:pt x="4766" y="1320"/>
                  </a:lnTo>
                  <a:lnTo>
                    <a:pt x="4801" y="1398"/>
                  </a:lnTo>
                  <a:lnTo>
                    <a:pt x="4837" y="1469"/>
                  </a:lnTo>
                  <a:lnTo>
                    <a:pt x="4865" y="1547"/>
                  </a:lnTo>
                  <a:lnTo>
                    <a:pt x="4901" y="1618"/>
                  </a:lnTo>
                  <a:lnTo>
                    <a:pt x="4936" y="1682"/>
                  </a:lnTo>
                  <a:lnTo>
                    <a:pt x="4965" y="1739"/>
                  </a:lnTo>
                  <a:lnTo>
                    <a:pt x="5000" y="1795"/>
                  </a:lnTo>
                  <a:lnTo>
                    <a:pt x="5036" y="1838"/>
                  </a:lnTo>
                  <a:lnTo>
                    <a:pt x="5064" y="1888"/>
                  </a:lnTo>
                </a:path>
              </a:pathLst>
            </a:custGeom>
            <a:noFill/>
            <a:ln w="3348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45520" y="1230480"/>
              <a:ext cx="136440" cy="13464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685800" y="1219320"/>
              <a:ext cx="171360" cy="24768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68320" y="1219320"/>
              <a:ext cx="189000" cy="22212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89040" y="1219320"/>
              <a:ext cx="350640" cy="280800"/>
            </a:xfrm>
            <a:prstGeom prst="rect">
              <a:avLst/>
            </a:prstGeom>
            <a:noFill/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91160" y="1143000"/>
              <a:ext cx="953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cecece"/>
                  </a:solidFill>
                  <a:latin typeface="Palatino"/>
                </a:rPr>
                <a:t>1990s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83720" y="4689360"/>
              <a:ext cx="158760" cy="14616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4080" y="4384800"/>
              <a:ext cx="463680" cy="45072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783720" y="4068720"/>
              <a:ext cx="768600" cy="76680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84080" y="3776760"/>
              <a:ext cx="1073160" cy="105876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795240" y="3471840"/>
              <a:ext cx="1378080" cy="136368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5240" y="3156120"/>
              <a:ext cx="1683000" cy="167940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794880" y="2863440"/>
              <a:ext cx="1987560" cy="197172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5240" y="2558880"/>
              <a:ext cx="2292480" cy="227664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602080" y="4035600"/>
              <a:ext cx="790560" cy="79992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95240" y="2244240"/>
              <a:ext cx="1378080" cy="137340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85960" y="2030400"/>
              <a:ext cx="1095120" cy="109224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73520" y="4013280"/>
              <a:ext cx="823680" cy="82224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098520" y="3933360"/>
              <a:ext cx="903240" cy="90180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1020600" y="1849320"/>
              <a:ext cx="836640" cy="84456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90520" y="1725480"/>
              <a:ext cx="507960" cy="50796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290760" y="3821040"/>
              <a:ext cx="1016280" cy="101448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3460680" y="3685680"/>
              <a:ext cx="1162080" cy="114948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29160" y="3540240"/>
              <a:ext cx="1298520" cy="129528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3787920" y="3392640"/>
              <a:ext cx="1444320" cy="144288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46680" y="3246480"/>
              <a:ext cx="1590480" cy="158904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4081320" y="3078000"/>
              <a:ext cx="1773360" cy="175752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27480" y="2919240"/>
              <a:ext cx="1919160" cy="191628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4386240" y="2761920"/>
              <a:ext cx="2067120" cy="207324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622760" y="2706840"/>
              <a:ext cx="2146320" cy="212868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4916160" y="2693520"/>
              <a:ext cx="2157480" cy="214164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30720" y="2593800"/>
              <a:ext cx="2247840" cy="224172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5277960" y="2435040"/>
              <a:ext cx="2405160" cy="240012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02160" y="2255760"/>
              <a:ext cx="2586240" cy="257976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 flipV="1">
              <a:off x="5514840" y="2063520"/>
              <a:ext cx="2789280" cy="277164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38680" y="1871640"/>
              <a:ext cx="655920" cy="66528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45320" y="2976480"/>
              <a:ext cx="1863720" cy="185904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6846840" y="2773440"/>
              <a:ext cx="1998720" cy="199368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5775480" y="1703520"/>
              <a:ext cx="349200" cy="34920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15240" y="2548080"/>
              <a:ext cx="1930320" cy="191592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6994080" y="2300400"/>
              <a:ext cx="1683000" cy="169056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62840" y="2063880"/>
              <a:ext cx="1342800" cy="134136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7118280" y="1827000"/>
              <a:ext cx="1062000" cy="105876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197840" y="1601640"/>
              <a:ext cx="779400" cy="77796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 flipV="1">
              <a:off x="7287840" y="1376280"/>
              <a:ext cx="507960" cy="519120"/>
            </a:xfrm>
            <a:prstGeom prst="line">
              <a:avLst/>
            </a:prstGeom>
            <a:ln w="3348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9040" y="639720"/>
            <a:ext cx="352440" cy="281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91160" y="563400"/>
            <a:ext cx="9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Palatino"/>
              </a:rPr>
              <a:t>195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685800" y="1173240"/>
            <a:ext cx="171360" cy="247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68320" y="1173240"/>
            <a:ext cx="189000" cy="2221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9040" y="1173240"/>
            <a:ext cx="350640" cy="28080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1160" y="1096920"/>
            <a:ext cx="9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Palatino"/>
              </a:rPr>
              <a:t>199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8080" y="4673520"/>
            <a:ext cx="77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2: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91720" y="4673520"/>
            <a:ext cx="77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4: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34600" y="4673520"/>
            <a:ext cx="77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6: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0080" y="4673520"/>
            <a:ext cx="770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8: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09840" y="5181480"/>
            <a:ext cx="3962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Palatino"/>
              </a:rPr>
              <a:t>Deployment time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080" y="4495680"/>
            <a:ext cx="1800" cy="795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87720" y="4495680"/>
            <a:ext cx="1440" cy="795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89560" y="4495680"/>
            <a:ext cx="1440" cy="795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691400" y="4495680"/>
            <a:ext cx="1800" cy="795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84080" y="4495680"/>
            <a:ext cx="6907320" cy="1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5240" y="568440"/>
            <a:ext cx="7934400" cy="3886200"/>
          </a:xfrm>
          <a:custGeom>
            <a:avLst/>
            <a:gdLst/>
            <a:ahLst/>
            <a:rect l="l" t="t" r="r" b="b"/>
            <a:pathLst>
              <a:path w="4998" h="2448">
                <a:moveTo>
                  <a:pt x="0" y="2441"/>
                </a:moveTo>
                <a:lnTo>
                  <a:pt x="29" y="2441"/>
                </a:lnTo>
                <a:lnTo>
                  <a:pt x="57" y="2441"/>
                </a:lnTo>
                <a:lnTo>
                  <a:pt x="86" y="2441"/>
                </a:lnTo>
                <a:lnTo>
                  <a:pt x="114" y="2441"/>
                </a:lnTo>
                <a:lnTo>
                  <a:pt x="143" y="2441"/>
                </a:lnTo>
                <a:lnTo>
                  <a:pt x="171" y="2441"/>
                </a:lnTo>
                <a:lnTo>
                  <a:pt x="200" y="2441"/>
                </a:lnTo>
                <a:lnTo>
                  <a:pt x="228" y="2441"/>
                </a:lnTo>
                <a:lnTo>
                  <a:pt x="249" y="2441"/>
                </a:lnTo>
                <a:lnTo>
                  <a:pt x="285" y="2441"/>
                </a:lnTo>
                <a:lnTo>
                  <a:pt x="313" y="2441"/>
                </a:lnTo>
                <a:lnTo>
                  <a:pt x="335" y="2441"/>
                </a:lnTo>
                <a:lnTo>
                  <a:pt x="363" y="2441"/>
                </a:lnTo>
                <a:lnTo>
                  <a:pt x="399" y="2441"/>
                </a:lnTo>
                <a:lnTo>
                  <a:pt x="420" y="2441"/>
                </a:lnTo>
                <a:lnTo>
                  <a:pt x="448" y="2441"/>
                </a:lnTo>
                <a:lnTo>
                  <a:pt x="477" y="2441"/>
                </a:lnTo>
                <a:lnTo>
                  <a:pt x="505" y="2441"/>
                </a:lnTo>
                <a:lnTo>
                  <a:pt x="534" y="2441"/>
                </a:lnTo>
                <a:lnTo>
                  <a:pt x="562" y="2441"/>
                </a:lnTo>
                <a:lnTo>
                  <a:pt x="591" y="2441"/>
                </a:lnTo>
                <a:lnTo>
                  <a:pt x="619" y="2441"/>
                </a:lnTo>
                <a:lnTo>
                  <a:pt x="647" y="2441"/>
                </a:lnTo>
                <a:lnTo>
                  <a:pt x="676" y="2441"/>
                </a:lnTo>
                <a:lnTo>
                  <a:pt x="704" y="2441"/>
                </a:lnTo>
                <a:lnTo>
                  <a:pt x="726" y="2441"/>
                </a:lnTo>
                <a:lnTo>
                  <a:pt x="761" y="2441"/>
                </a:lnTo>
                <a:lnTo>
                  <a:pt x="790" y="2441"/>
                </a:lnTo>
                <a:lnTo>
                  <a:pt x="811" y="2448"/>
                </a:lnTo>
                <a:lnTo>
                  <a:pt x="839" y="2448"/>
                </a:lnTo>
                <a:lnTo>
                  <a:pt x="875" y="2448"/>
                </a:lnTo>
                <a:lnTo>
                  <a:pt x="896" y="2448"/>
                </a:lnTo>
                <a:lnTo>
                  <a:pt x="925" y="2448"/>
                </a:lnTo>
                <a:lnTo>
                  <a:pt x="953" y="2448"/>
                </a:lnTo>
                <a:lnTo>
                  <a:pt x="989" y="2448"/>
                </a:lnTo>
                <a:lnTo>
                  <a:pt x="1010" y="2448"/>
                </a:lnTo>
                <a:lnTo>
                  <a:pt x="1038" y="2448"/>
                </a:lnTo>
                <a:lnTo>
                  <a:pt x="1067" y="2448"/>
                </a:lnTo>
                <a:lnTo>
                  <a:pt x="1095" y="2448"/>
                </a:lnTo>
                <a:lnTo>
                  <a:pt x="1124" y="2448"/>
                </a:lnTo>
                <a:lnTo>
                  <a:pt x="1152" y="2448"/>
                </a:lnTo>
                <a:lnTo>
                  <a:pt x="1181" y="2448"/>
                </a:lnTo>
                <a:lnTo>
                  <a:pt x="1209" y="2448"/>
                </a:lnTo>
                <a:lnTo>
                  <a:pt x="1237" y="2448"/>
                </a:lnTo>
                <a:lnTo>
                  <a:pt x="1266" y="2448"/>
                </a:lnTo>
                <a:lnTo>
                  <a:pt x="1294" y="2448"/>
                </a:lnTo>
                <a:lnTo>
                  <a:pt x="1323" y="2448"/>
                </a:lnTo>
                <a:lnTo>
                  <a:pt x="1351" y="2448"/>
                </a:lnTo>
                <a:lnTo>
                  <a:pt x="1380" y="2448"/>
                </a:lnTo>
                <a:lnTo>
                  <a:pt x="1401" y="2448"/>
                </a:lnTo>
                <a:lnTo>
                  <a:pt x="1436" y="2448"/>
                </a:lnTo>
                <a:lnTo>
                  <a:pt x="1465" y="2448"/>
                </a:lnTo>
                <a:lnTo>
                  <a:pt x="1486" y="2448"/>
                </a:lnTo>
                <a:lnTo>
                  <a:pt x="1515" y="2448"/>
                </a:lnTo>
                <a:lnTo>
                  <a:pt x="1550" y="2448"/>
                </a:lnTo>
                <a:lnTo>
                  <a:pt x="1572" y="2448"/>
                </a:lnTo>
                <a:lnTo>
                  <a:pt x="1600" y="2448"/>
                </a:lnTo>
                <a:lnTo>
                  <a:pt x="1628" y="2441"/>
                </a:lnTo>
                <a:lnTo>
                  <a:pt x="1657" y="2441"/>
                </a:lnTo>
                <a:lnTo>
                  <a:pt x="1685" y="2441"/>
                </a:lnTo>
                <a:lnTo>
                  <a:pt x="1714" y="2441"/>
                </a:lnTo>
                <a:lnTo>
                  <a:pt x="1742" y="2441"/>
                </a:lnTo>
                <a:lnTo>
                  <a:pt x="1771" y="2434"/>
                </a:lnTo>
                <a:lnTo>
                  <a:pt x="1799" y="2434"/>
                </a:lnTo>
                <a:lnTo>
                  <a:pt x="1827" y="2427"/>
                </a:lnTo>
                <a:lnTo>
                  <a:pt x="1856" y="2419"/>
                </a:lnTo>
                <a:lnTo>
                  <a:pt x="1877" y="2419"/>
                </a:lnTo>
                <a:lnTo>
                  <a:pt x="1913" y="2405"/>
                </a:lnTo>
                <a:lnTo>
                  <a:pt x="1941" y="2398"/>
                </a:lnTo>
                <a:lnTo>
                  <a:pt x="1963" y="2391"/>
                </a:lnTo>
                <a:lnTo>
                  <a:pt x="1991" y="2384"/>
                </a:lnTo>
                <a:lnTo>
                  <a:pt x="2027" y="2370"/>
                </a:lnTo>
                <a:lnTo>
                  <a:pt x="2055" y="2356"/>
                </a:lnTo>
                <a:lnTo>
                  <a:pt x="2076" y="2348"/>
                </a:lnTo>
                <a:lnTo>
                  <a:pt x="2105" y="2327"/>
                </a:lnTo>
                <a:lnTo>
                  <a:pt x="2140" y="2313"/>
                </a:lnTo>
                <a:lnTo>
                  <a:pt x="2162" y="2299"/>
                </a:lnTo>
                <a:lnTo>
                  <a:pt x="2190" y="2278"/>
                </a:lnTo>
                <a:lnTo>
                  <a:pt x="2218" y="2256"/>
                </a:lnTo>
                <a:lnTo>
                  <a:pt x="2247" y="2235"/>
                </a:lnTo>
                <a:lnTo>
                  <a:pt x="2275" y="2207"/>
                </a:lnTo>
                <a:lnTo>
                  <a:pt x="2304" y="2171"/>
                </a:lnTo>
                <a:lnTo>
                  <a:pt x="2332" y="2136"/>
                </a:lnTo>
                <a:lnTo>
                  <a:pt x="2361" y="2100"/>
                </a:lnTo>
                <a:lnTo>
                  <a:pt x="2389" y="2050"/>
                </a:lnTo>
                <a:lnTo>
                  <a:pt x="2418" y="1994"/>
                </a:lnTo>
                <a:lnTo>
                  <a:pt x="2446" y="1937"/>
                </a:lnTo>
                <a:lnTo>
                  <a:pt x="2474" y="1866"/>
                </a:lnTo>
                <a:lnTo>
                  <a:pt x="2503" y="1795"/>
                </a:lnTo>
                <a:lnTo>
                  <a:pt x="2531" y="1710"/>
                </a:lnTo>
                <a:lnTo>
                  <a:pt x="2553" y="1625"/>
                </a:lnTo>
                <a:lnTo>
                  <a:pt x="2581" y="1525"/>
                </a:lnTo>
                <a:lnTo>
                  <a:pt x="2617" y="1426"/>
                </a:lnTo>
                <a:lnTo>
                  <a:pt x="2638" y="1319"/>
                </a:lnTo>
                <a:lnTo>
                  <a:pt x="2666" y="1206"/>
                </a:lnTo>
                <a:lnTo>
                  <a:pt x="2695" y="1085"/>
                </a:lnTo>
                <a:lnTo>
                  <a:pt x="2723" y="965"/>
                </a:lnTo>
                <a:lnTo>
                  <a:pt x="2752" y="851"/>
                </a:lnTo>
                <a:lnTo>
                  <a:pt x="2780" y="730"/>
                </a:lnTo>
                <a:lnTo>
                  <a:pt x="2809" y="610"/>
                </a:lnTo>
                <a:lnTo>
                  <a:pt x="2837" y="496"/>
                </a:lnTo>
                <a:lnTo>
                  <a:pt x="2865" y="397"/>
                </a:lnTo>
                <a:lnTo>
                  <a:pt x="2894" y="305"/>
                </a:lnTo>
                <a:lnTo>
                  <a:pt x="2922" y="212"/>
                </a:lnTo>
                <a:lnTo>
                  <a:pt x="2951" y="141"/>
                </a:lnTo>
                <a:lnTo>
                  <a:pt x="2979" y="78"/>
                </a:lnTo>
                <a:lnTo>
                  <a:pt x="3008" y="35"/>
                </a:lnTo>
                <a:lnTo>
                  <a:pt x="3036" y="7"/>
                </a:lnTo>
                <a:lnTo>
                  <a:pt x="3064" y="0"/>
                </a:lnTo>
                <a:lnTo>
                  <a:pt x="3093" y="7"/>
                </a:lnTo>
                <a:lnTo>
                  <a:pt x="3121" y="28"/>
                </a:lnTo>
                <a:lnTo>
                  <a:pt x="3143" y="70"/>
                </a:lnTo>
                <a:lnTo>
                  <a:pt x="3178" y="120"/>
                </a:lnTo>
                <a:lnTo>
                  <a:pt x="3207" y="191"/>
                </a:lnTo>
                <a:lnTo>
                  <a:pt x="3228" y="276"/>
                </a:lnTo>
                <a:lnTo>
                  <a:pt x="3256" y="369"/>
                </a:lnTo>
                <a:lnTo>
                  <a:pt x="3292" y="475"/>
                </a:lnTo>
                <a:lnTo>
                  <a:pt x="3313" y="589"/>
                </a:lnTo>
                <a:lnTo>
                  <a:pt x="3342" y="709"/>
                </a:lnTo>
                <a:lnTo>
                  <a:pt x="3370" y="837"/>
                </a:lnTo>
                <a:lnTo>
                  <a:pt x="3399" y="965"/>
                </a:lnTo>
                <a:lnTo>
                  <a:pt x="3427" y="1085"/>
                </a:lnTo>
                <a:lnTo>
                  <a:pt x="3455" y="1213"/>
                </a:lnTo>
                <a:lnTo>
                  <a:pt x="3484" y="1334"/>
                </a:lnTo>
                <a:lnTo>
                  <a:pt x="3512" y="1454"/>
                </a:lnTo>
                <a:lnTo>
                  <a:pt x="3541" y="1568"/>
                </a:lnTo>
                <a:lnTo>
                  <a:pt x="3569" y="1674"/>
                </a:lnTo>
                <a:lnTo>
                  <a:pt x="3598" y="1767"/>
                </a:lnTo>
                <a:lnTo>
                  <a:pt x="3619" y="1859"/>
                </a:lnTo>
                <a:lnTo>
                  <a:pt x="3654" y="1944"/>
                </a:lnTo>
                <a:lnTo>
                  <a:pt x="3683" y="2015"/>
                </a:lnTo>
                <a:lnTo>
                  <a:pt x="3704" y="2079"/>
                </a:lnTo>
                <a:lnTo>
                  <a:pt x="3733" y="2136"/>
                </a:lnTo>
                <a:lnTo>
                  <a:pt x="3768" y="2185"/>
                </a:lnTo>
                <a:lnTo>
                  <a:pt x="3790" y="2228"/>
                </a:lnTo>
                <a:lnTo>
                  <a:pt x="3818" y="2263"/>
                </a:lnTo>
                <a:lnTo>
                  <a:pt x="3846" y="2299"/>
                </a:lnTo>
                <a:lnTo>
                  <a:pt x="3882" y="2320"/>
                </a:lnTo>
                <a:lnTo>
                  <a:pt x="3903" y="2341"/>
                </a:lnTo>
                <a:lnTo>
                  <a:pt x="3932" y="2356"/>
                </a:lnTo>
                <a:lnTo>
                  <a:pt x="3960" y="2370"/>
                </a:lnTo>
                <a:lnTo>
                  <a:pt x="3989" y="2384"/>
                </a:lnTo>
                <a:lnTo>
                  <a:pt x="4017" y="2391"/>
                </a:lnTo>
                <a:lnTo>
                  <a:pt x="4045" y="2398"/>
                </a:lnTo>
                <a:lnTo>
                  <a:pt x="4074" y="2405"/>
                </a:lnTo>
                <a:lnTo>
                  <a:pt x="4102" y="2412"/>
                </a:lnTo>
                <a:lnTo>
                  <a:pt x="4131" y="2419"/>
                </a:lnTo>
                <a:lnTo>
                  <a:pt x="4159" y="2419"/>
                </a:lnTo>
                <a:lnTo>
                  <a:pt x="4188" y="2419"/>
                </a:lnTo>
                <a:lnTo>
                  <a:pt x="4216" y="2427"/>
                </a:lnTo>
                <a:lnTo>
                  <a:pt x="4245" y="2427"/>
                </a:lnTo>
                <a:lnTo>
                  <a:pt x="4273" y="2434"/>
                </a:lnTo>
                <a:lnTo>
                  <a:pt x="4294" y="2434"/>
                </a:lnTo>
                <a:lnTo>
                  <a:pt x="4330" y="2434"/>
                </a:lnTo>
                <a:lnTo>
                  <a:pt x="4358" y="2434"/>
                </a:lnTo>
                <a:lnTo>
                  <a:pt x="4380" y="2434"/>
                </a:lnTo>
                <a:lnTo>
                  <a:pt x="4408" y="2434"/>
                </a:lnTo>
                <a:lnTo>
                  <a:pt x="4444" y="2441"/>
                </a:lnTo>
                <a:lnTo>
                  <a:pt x="4465" y="2441"/>
                </a:lnTo>
                <a:lnTo>
                  <a:pt x="4493" y="2441"/>
                </a:lnTo>
                <a:lnTo>
                  <a:pt x="4522" y="2441"/>
                </a:lnTo>
                <a:lnTo>
                  <a:pt x="4550" y="2441"/>
                </a:lnTo>
                <a:lnTo>
                  <a:pt x="4579" y="2441"/>
                </a:lnTo>
                <a:lnTo>
                  <a:pt x="4607" y="2441"/>
                </a:lnTo>
                <a:lnTo>
                  <a:pt x="4636" y="2441"/>
                </a:lnTo>
                <a:lnTo>
                  <a:pt x="4664" y="2441"/>
                </a:lnTo>
                <a:lnTo>
                  <a:pt x="4692" y="2441"/>
                </a:lnTo>
                <a:lnTo>
                  <a:pt x="4721" y="2448"/>
                </a:lnTo>
                <a:lnTo>
                  <a:pt x="4749" y="2448"/>
                </a:lnTo>
                <a:lnTo>
                  <a:pt x="4771" y="2448"/>
                </a:lnTo>
                <a:lnTo>
                  <a:pt x="4806" y="2448"/>
                </a:lnTo>
                <a:lnTo>
                  <a:pt x="4835" y="2448"/>
                </a:lnTo>
                <a:lnTo>
                  <a:pt x="4856" y="2448"/>
                </a:lnTo>
                <a:lnTo>
                  <a:pt x="4884" y="2448"/>
                </a:lnTo>
                <a:lnTo>
                  <a:pt x="4920" y="2448"/>
                </a:lnTo>
                <a:lnTo>
                  <a:pt x="4948" y="2448"/>
                </a:lnTo>
                <a:lnTo>
                  <a:pt x="4970" y="2448"/>
                </a:lnTo>
                <a:lnTo>
                  <a:pt x="4998" y="2448"/>
                </a:lnTo>
                <a:lnTo>
                  <a:pt x="0" y="2441"/>
                </a:lnTo>
                <a:lnTo>
                  <a:pt x="0" y="2441"/>
                </a:lnTo>
                <a:close/>
              </a:path>
            </a:pathLst>
          </a:custGeom>
          <a:solidFill>
            <a:srgbClr val="fafd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942840" y="4443120"/>
            <a:ext cx="1800" cy="111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236600" y="4443480"/>
            <a:ext cx="11160" cy="111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1541520" y="4432320"/>
            <a:ext cx="22320" cy="22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846440" y="4432320"/>
            <a:ext cx="21960" cy="22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2151000" y="4432320"/>
            <a:ext cx="22320" cy="22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421000" y="4397400"/>
            <a:ext cx="57240" cy="572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2725200" y="4386240"/>
            <a:ext cx="57240" cy="684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041640" y="4397400"/>
            <a:ext cx="46080" cy="572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3357360" y="4408560"/>
            <a:ext cx="34920" cy="460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73440" y="4421160"/>
            <a:ext cx="34920" cy="334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3978000" y="4432320"/>
            <a:ext cx="34920" cy="22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72120" y="4408560"/>
            <a:ext cx="44280" cy="460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4532040" y="4363920"/>
            <a:ext cx="88920" cy="907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768920" y="4295880"/>
            <a:ext cx="156960" cy="1587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 flipV="1">
            <a:off x="5005080" y="4229280"/>
            <a:ext cx="236520" cy="2253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219640" y="4127400"/>
            <a:ext cx="327240" cy="3272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 flipV="1">
            <a:off x="5389200" y="3992400"/>
            <a:ext cx="461880" cy="4622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24560" y="3822840"/>
            <a:ext cx="631800" cy="631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5636880" y="3631680"/>
            <a:ext cx="824040" cy="8226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27600" y="3417840"/>
            <a:ext cx="1038240" cy="1036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flipV="1">
            <a:off x="5807160" y="3192480"/>
            <a:ext cx="1263600" cy="12621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86360" y="2955960"/>
            <a:ext cx="1489320" cy="14986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5952600" y="2719440"/>
            <a:ext cx="1738440" cy="1735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021360" y="2482920"/>
            <a:ext cx="1974960" cy="19717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6076800" y="2234880"/>
            <a:ext cx="2224080" cy="22194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45200" y="1998720"/>
            <a:ext cx="1603440" cy="15876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605800" y="4454640"/>
            <a:ext cx="1800" cy="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6213600" y="1762200"/>
            <a:ext cx="1296720" cy="12952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1536840"/>
            <a:ext cx="992160" cy="9903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405120" y="1333080"/>
            <a:ext cx="676440" cy="676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585120" y="1220760"/>
            <a:ext cx="214200" cy="2034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5240" y="1209600"/>
            <a:ext cx="7832880" cy="3245040"/>
          </a:xfrm>
          <a:custGeom>
            <a:avLst/>
            <a:gdLst/>
            <a:ahLst/>
            <a:rect l="l" t="t" r="r" b="b"/>
            <a:pathLst>
              <a:path w="4934" h="2044">
                <a:moveTo>
                  <a:pt x="0" y="2044"/>
                </a:moveTo>
                <a:lnTo>
                  <a:pt x="29" y="2044"/>
                </a:lnTo>
                <a:lnTo>
                  <a:pt x="50" y="2037"/>
                </a:lnTo>
                <a:lnTo>
                  <a:pt x="79" y="2037"/>
                </a:lnTo>
                <a:lnTo>
                  <a:pt x="100" y="2037"/>
                </a:lnTo>
                <a:lnTo>
                  <a:pt x="128" y="2037"/>
                </a:lnTo>
                <a:lnTo>
                  <a:pt x="150" y="2037"/>
                </a:lnTo>
                <a:lnTo>
                  <a:pt x="178" y="2037"/>
                </a:lnTo>
                <a:lnTo>
                  <a:pt x="207" y="2037"/>
                </a:lnTo>
                <a:lnTo>
                  <a:pt x="235" y="2037"/>
                </a:lnTo>
                <a:lnTo>
                  <a:pt x="264" y="2037"/>
                </a:lnTo>
                <a:lnTo>
                  <a:pt x="285" y="2037"/>
                </a:lnTo>
                <a:lnTo>
                  <a:pt x="313" y="2030"/>
                </a:lnTo>
                <a:lnTo>
                  <a:pt x="335" y="2030"/>
                </a:lnTo>
                <a:lnTo>
                  <a:pt x="363" y="2030"/>
                </a:lnTo>
                <a:lnTo>
                  <a:pt x="384" y="2030"/>
                </a:lnTo>
                <a:lnTo>
                  <a:pt x="413" y="2030"/>
                </a:lnTo>
                <a:lnTo>
                  <a:pt x="441" y="2030"/>
                </a:lnTo>
                <a:lnTo>
                  <a:pt x="470" y="2030"/>
                </a:lnTo>
                <a:lnTo>
                  <a:pt x="491" y="2030"/>
                </a:lnTo>
                <a:lnTo>
                  <a:pt x="519" y="2030"/>
                </a:lnTo>
                <a:lnTo>
                  <a:pt x="541" y="2030"/>
                </a:lnTo>
                <a:lnTo>
                  <a:pt x="569" y="2030"/>
                </a:lnTo>
                <a:lnTo>
                  <a:pt x="598" y="2030"/>
                </a:lnTo>
                <a:lnTo>
                  <a:pt x="619" y="2030"/>
                </a:lnTo>
                <a:lnTo>
                  <a:pt x="647" y="2030"/>
                </a:lnTo>
                <a:lnTo>
                  <a:pt x="676" y="2030"/>
                </a:lnTo>
                <a:lnTo>
                  <a:pt x="704" y="2030"/>
                </a:lnTo>
                <a:lnTo>
                  <a:pt x="726" y="2030"/>
                </a:lnTo>
                <a:lnTo>
                  <a:pt x="754" y="2030"/>
                </a:lnTo>
                <a:lnTo>
                  <a:pt x="775" y="2030"/>
                </a:lnTo>
                <a:lnTo>
                  <a:pt x="804" y="2030"/>
                </a:lnTo>
                <a:lnTo>
                  <a:pt x="832" y="2030"/>
                </a:lnTo>
                <a:lnTo>
                  <a:pt x="854" y="2030"/>
                </a:lnTo>
                <a:lnTo>
                  <a:pt x="882" y="2023"/>
                </a:lnTo>
                <a:lnTo>
                  <a:pt x="910" y="2023"/>
                </a:lnTo>
                <a:lnTo>
                  <a:pt x="939" y="2015"/>
                </a:lnTo>
                <a:lnTo>
                  <a:pt x="960" y="2015"/>
                </a:lnTo>
                <a:lnTo>
                  <a:pt x="989" y="2015"/>
                </a:lnTo>
                <a:lnTo>
                  <a:pt x="1010" y="2008"/>
                </a:lnTo>
                <a:lnTo>
                  <a:pt x="1038" y="2008"/>
                </a:lnTo>
                <a:lnTo>
                  <a:pt x="1067" y="2001"/>
                </a:lnTo>
                <a:lnTo>
                  <a:pt x="1088" y="2001"/>
                </a:lnTo>
                <a:lnTo>
                  <a:pt x="1117" y="2001"/>
                </a:lnTo>
                <a:lnTo>
                  <a:pt x="1145" y="2001"/>
                </a:lnTo>
                <a:lnTo>
                  <a:pt x="1166" y="2001"/>
                </a:lnTo>
                <a:lnTo>
                  <a:pt x="1195" y="2001"/>
                </a:lnTo>
                <a:lnTo>
                  <a:pt x="1216" y="2001"/>
                </a:lnTo>
                <a:lnTo>
                  <a:pt x="1245" y="2001"/>
                </a:lnTo>
                <a:lnTo>
                  <a:pt x="1273" y="2001"/>
                </a:lnTo>
                <a:lnTo>
                  <a:pt x="1301" y="2001"/>
                </a:lnTo>
                <a:lnTo>
                  <a:pt x="1323" y="2008"/>
                </a:lnTo>
                <a:lnTo>
                  <a:pt x="1351" y="2008"/>
                </a:lnTo>
                <a:lnTo>
                  <a:pt x="1380" y="2008"/>
                </a:lnTo>
                <a:lnTo>
                  <a:pt x="1401" y="2008"/>
                </a:lnTo>
                <a:lnTo>
                  <a:pt x="1429" y="2015"/>
                </a:lnTo>
                <a:lnTo>
                  <a:pt x="1451" y="2015"/>
                </a:lnTo>
                <a:lnTo>
                  <a:pt x="1479" y="2015"/>
                </a:lnTo>
                <a:lnTo>
                  <a:pt x="1508" y="2015"/>
                </a:lnTo>
                <a:lnTo>
                  <a:pt x="1536" y="2015"/>
                </a:lnTo>
                <a:lnTo>
                  <a:pt x="1557" y="2015"/>
                </a:lnTo>
                <a:lnTo>
                  <a:pt x="1586" y="2015"/>
                </a:lnTo>
                <a:lnTo>
                  <a:pt x="1607" y="2015"/>
                </a:lnTo>
                <a:lnTo>
                  <a:pt x="1636" y="2015"/>
                </a:lnTo>
                <a:lnTo>
                  <a:pt x="1657" y="2015"/>
                </a:lnTo>
                <a:lnTo>
                  <a:pt x="1685" y="2023"/>
                </a:lnTo>
                <a:lnTo>
                  <a:pt x="1714" y="2023"/>
                </a:lnTo>
                <a:lnTo>
                  <a:pt x="1742" y="2023"/>
                </a:lnTo>
                <a:lnTo>
                  <a:pt x="1771" y="2023"/>
                </a:lnTo>
                <a:lnTo>
                  <a:pt x="1792" y="2023"/>
                </a:lnTo>
                <a:lnTo>
                  <a:pt x="1820" y="2023"/>
                </a:lnTo>
                <a:lnTo>
                  <a:pt x="1842" y="2023"/>
                </a:lnTo>
                <a:lnTo>
                  <a:pt x="1870" y="2023"/>
                </a:lnTo>
                <a:lnTo>
                  <a:pt x="1891" y="2030"/>
                </a:lnTo>
                <a:lnTo>
                  <a:pt x="1920" y="2030"/>
                </a:lnTo>
                <a:lnTo>
                  <a:pt x="1948" y="2030"/>
                </a:lnTo>
                <a:lnTo>
                  <a:pt x="1977" y="2030"/>
                </a:lnTo>
                <a:lnTo>
                  <a:pt x="1998" y="2030"/>
                </a:lnTo>
                <a:lnTo>
                  <a:pt x="2027" y="2030"/>
                </a:lnTo>
                <a:lnTo>
                  <a:pt x="2055" y="2023"/>
                </a:lnTo>
                <a:lnTo>
                  <a:pt x="2076" y="2023"/>
                </a:lnTo>
                <a:lnTo>
                  <a:pt x="2105" y="2023"/>
                </a:lnTo>
                <a:lnTo>
                  <a:pt x="2126" y="2023"/>
                </a:lnTo>
                <a:lnTo>
                  <a:pt x="2154" y="2015"/>
                </a:lnTo>
                <a:lnTo>
                  <a:pt x="2183" y="2015"/>
                </a:lnTo>
                <a:lnTo>
                  <a:pt x="2211" y="2015"/>
                </a:lnTo>
                <a:lnTo>
                  <a:pt x="2233" y="2008"/>
                </a:lnTo>
                <a:lnTo>
                  <a:pt x="2261" y="2001"/>
                </a:lnTo>
                <a:lnTo>
                  <a:pt x="2282" y="2001"/>
                </a:lnTo>
                <a:lnTo>
                  <a:pt x="2311" y="1994"/>
                </a:lnTo>
                <a:lnTo>
                  <a:pt x="2339" y="1987"/>
                </a:lnTo>
                <a:lnTo>
                  <a:pt x="2361" y="1980"/>
                </a:lnTo>
                <a:lnTo>
                  <a:pt x="2389" y="1980"/>
                </a:lnTo>
                <a:lnTo>
                  <a:pt x="2418" y="1973"/>
                </a:lnTo>
                <a:lnTo>
                  <a:pt x="2446" y="1966"/>
                </a:lnTo>
                <a:lnTo>
                  <a:pt x="2467" y="1952"/>
                </a:lnTo>
                <a:lnTo>
                  <a:pt x="2496" y="1952"/>
                </a:lnTo>
                <a:lnTo>
                  <a:pt x="2517" y="1944"/>
                </a:lnTo>
                <a:lnTo>
                  <a:pt x="2545" y="1937"/>
                </a:lnTo>
                <a:lnTo>
                  <a:pt x="2574" y="1930"/>
                </a:lnTo>
                <a:lnTo>
                  <a:pt x="2595" y="1916"/>
                </a:lnTo>
                <a:lnTo>
                  <a:pt x="2624" y="1909"/>
                </a:lnTo>
                <a:lnTo>
                  <a:pt x="2652" y="1902"/>
                </a:lnTo>
                <a:lnTo>
                  <a:pt x="2681" y="1895"/>
                </a:lnTo>
                <a:lnTo>
                  <a:pt x="2702" y="1881"/>
                </a:lnTo>
                <a:lnTo>
                  <a:pt x="2723" y="1866"/>
                </a:lnTo>
                <a:lnTo>
                  <a:pt x="2752" y="1859"/>
                </a:lnTo>
                <a:lnTo>
                  <a:pt x="2780" y="1845"/>
                </a:lnTo>
                <a:lnTo>
                  <a:pt x="2809" y="1831"/>
                </a:lnTo>
                <a:lnTo>
                  <a:pt x="2830" y="1810"/>
                </a:lnTo>
                <a:lnTo>
                  <a:pt x="2858" y="1788"/>
                </a:lnTo>
                <a:lnTo>
                  <a:pt x="2887" y="1767"/>
                </a:lnTo>
                <a:lnTo>
                  <a:pt x="2908" y="1739"/>
                </a:lnTo>
                <a:lnTo>
                  <a:pt x="2936" y="1710"/>
                </a:lnTo>
                <a:lnTo>
                  <a:pt x="2958" y="1675"/>
                </a:lnTo>
                <a:lnTo>
                  <a:pt x="2986" y="1632"/>
                </a:lnTo>
                <a:lnTo>
                  <a:pt x="3015" y="1590"/>
                </a:lnTo>
                <a:lnTo>
                  <a:pt x="3043" y="1540"/>
                </a:lnTo>
                <a:lnTo>
                  <a:pt x="3064" y="1490"/>
                </a:lnTo>
                <a:lnTo>
                  <a:pt x="3093" y="1426"/>
                </a:lnTo>
                <a:lnTo>
                  <a:pt x="3121" y="1363"/>
                </a:lnTo>
                <a:lnTo>
                  <a:pt x="3143" y="1292"/>
                </a:lnTo>
                <a:lnTo>
                  <a:pt x="3164" y="1214"/>
                </a:lnTo>
                <a:lnTo>
                  <a:pt x="3192" y="1128"/>
                </a:lnTo>
                <a:lnTo>
                  <a:pt x="3221" y="1036"/>
                </a:lnTo>
                <a:lnTo>
                  <a:pt x="3249" y="951"/>
                </a:lnTo>
                <a:lnTo>
                  <a:pt x="3271" y="852"/>
                </a:lnTo>
                <a:lnTo>
                  <a:pt x="3299" y="752"/>
                </a:lnTo>
                <a:lnTo>
                  <a:pt x="3327" y="660"/>
                </a:lnTo>
                <a:lnTo>
                  <a:pt x="3349" y="568"/>
                </a:lnTo>
                <a:lnTo>
                  <a:pt x="3377" y="475"/>
                </a:lnTo>
                <a:lnTo>
                  <a:pt x="3399" y="383"/>
                </a:lnTo>
                <a:lnTo>
                  <a:pt x="3427" y="305"/>
                </a:lnTo>
                <a:lnTo>
                  <a:pt x="3455" y="234"/>
                </a:lnTo>
                <a:lnTo>
                  <a:pt x="3484" y="170"/>
                </a:lnTo>
                <a:lnTo>
                  <a:pt x="3505" y="121"/>
                </a:lnTo>
                <a:lnTo>
                  <a:pt x="3534" y="71"/>
                </a:lnTo>
                <a:lnTo>
                  <a:pt x="3562" y="36"/>
                </a:lnTo>
                <a:lnTo>
                  <a:pt x="3583" y="14"/>
                </a:lnTo>
                <a:lnTo>
                  <a:pt x="3612" y="7"/>
                </a:lnTo>
                <a:lnTo>
                  <a:pt x="3633" y="0"/>
                </a:lnTo>
                <a:lnTo>
                  <a:pt x="3662" y="7"/>
                </a:lnTo>
                <a:lnTo>
                  <a:pt x="3690" y="21"/>
                </a:lnTo>
                <a:lnTo>
                  <a:pt x="3718" y="43"/>
                </a:lnTo>
                <a:lnTo>
                  <a:pt x="3740" y="78"/>
                </a:lnTo>
                <a:lnTo>
                  <a:pt x="3768" y="114"/>
                </a:lnTo>
                <a:lnTo>
                  <a:pt x="3790" y="156"/>
                </a:lnTo>
                <a:lnTo>
                  <a:pt x="3818" y="206"/>
                </a:lnTo>
                <a:lnTo>
                  <a:pt x="3846" y="255"/>
                </a:lnTo>
                <a:lnTo>
                  <a:pt x="3868" y="305"/>
                </a:lnTo>
                <a:lnTo>
                  <a:pt x="3896" y="362"/>
                </a:lnTo>
                <a:lnTo>
                  <a:pt x="3925" y="426"/>
                </a:lnTo>
                <a:lnTo>
                  <a:pt x="3953" y="483"/>
                </a:lnTo>
                <a:lnTo>
                  <a:pt x="3974" y="546"/>
                </a:lnTo>
                <a:lnTo>
                  <a:pt x="4003" y="610"/>
                </a:lnTo>
                <a:lnTo>
                  <a:pt x="4024" y="667"/>
                </a:lnTo>
                <a:lnTo>
                  <a:pt x="4053" y="738"/>
                </a:lnTo>
                <a:lnTo>
                  <a:pt x="4081" y="802"/>
                </a:lnTo>
                <a:lnTo>
                  <a:pt x="4102" y="866"/>
                </a:lnTo>
                <a:lnTo>
                  <a:pt x="4131" y="923"/>
                </a:lnTo>
                <a:lnTo>
                  <a:pt x="4159" y="986"/>
                </a:lnTo>
                <a:lnTo>
                  <a:pt x="4188" y="1050"/>
                </a:lnTo>
                <a:lnTo>
                  <a:pt x="4209" y="1107"/>
                </a:lnTo>
                <a:lnTo>
                  <a:pt x="4237" y="1171"/>
                </a:lnTo>
                <a:lnTo>
                  <a:pt x="4259" y="1228"/>
                </a:lnTo>
                <a:lnTo>
                  <a:pt x="4287" y="1292"/>
                </a:lnTo>
                <a:lnTo>
                  <a:pt x="4316" y="1355"/>
                </a:lnTo>
                <a:lnTo>
                  <a:pt x="4337" y="1412"/>
                </a:lnTo>
                <a:lnTo>
                  <a:pt x="4365" y="1476"/>
                </a:lnTo>
                <a:lnTo>
                  <a:pt x="4394" y="1533"/>
                </a:lnTo>
                <a:lnTo>
                  <a:pt x="4415" y="1590"/>
                </a:lnTo>
                <a:lnTo>
                  <a:pt x="4444" y="1646"/>
                </a:lnTo>
                <a:lnTo>
                  <a:pt x="4465" y="1696"/>
                </a:lnTo>
                <a:lnTo>
                  <a:pt x="4493" y="1746"/>
                </a:lnTo>
                <a:lnTo>
                  <a:pt x="4522" y="1788"/>
                </a:lnTo>
                <a:lnTo>
                  <a:pt x="4543" y="1831"/>
                </a:lnTo>
                <a:lnTo>
                  <a:pt x="4572" y="1866"/>
                </a:lnTo>
                <a:lnTo>
                  <a:pt x="4600" y="1902"/>
                </a:lnTo>
                <a:lnTo>
                  <a:pt x="4628" y="1930"/>
                </a:lnTo>
                <a:lnTo>
                  <a:pt x="4650" y="1952"/>
                </a:lnTo>
                <a:lnTo>
                  <a:pt x="4678" y="1973"/>
                </a:lnTo>
                <a:lnTo>
                  <a:pt x="4699" y="1987"/>
                </a:lnTo>
                <a:lnTo>
                  <a:pt x="4728" y="2001"/>
                </a:lnTo>
                <a:lnTo>
                  <a:pt x="4756" y="2015"/>
                </a:lnTo>
                <a:lnTo>
                  <a:pt x="4778" y="2023"/>
                </a:lnTo>
                <a:lnTo>
                  <a:pt x="4806" y="2030"/>
                </a:lnTo>
                <a:lnTo>
                  <a:pt x="4835" y="2037"/>
                </a:lnTo>
                <a:lnTo>
                  <a:pt x="4856" y="2037"/>
                </a:lnTo>
                <a:lnTo>
                  <a:pt x="4884" y="2037"/>
                </a:lnTo>
                <a:lnTo>
                  <a:pt x="4906" y="2037"/>
                </a:lnTo>
                <a:lnTo>
                  <a:pt x="4934" y="2044"/>
                </a:lnTo>
              </a:path>
            </a:pathLst>
          </a:custGeom>
          <a:noFill/>
          <a:ln w="334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2843280" y="5562720"/>
            <a:ext cx="33289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Palatino"/>
              </a:rPr>
              <a:t>Soak time (hr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89040" y="966960"/>
            <a:ext cx="352440" cy="2808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91160" y="890640"/>
            <a:ext cx="9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Palatino"/>
              </a:rPr>
              <a:t>195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685800" y="1469880"/>
            <a:ext cx="171360" cy="247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68320" y="1469880"/>
            <a:ext cx="189000" cy="2224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89040" y="1469880"/>
            <a:ext cx="350640" cy="28116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91160" y="1393920"/>
            <a:ext cx="9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Palatino"/>
              </a:rPr>
              <a:t>199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47840" y="519732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67160" y="519732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10160" y="519732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4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953160" y="519732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6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96160" y="519732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8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53840" y="519732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75960" y="519732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439840" y="519732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4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5480" y="5110200"/>
            <a:ext cx="180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08200" y="51102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859120" y="51102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10040" y="51102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162400" y="5110200"/>
            <a:ext cx="180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13320" y="5110200"/>
            <a:ext cx="180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66040" y="51102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8616960" y="51102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5480" y="5110200"/>
            <a:ext cx="8061480" cy="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85760" y="1114560"/>
            <a:ext cx="3997440" cy="3916080"/>
          </a:xfrm>
          <a:custGeom>
            <a:avLst/>
            <a:gdLst/>
            <a:ahLst/>
            <a:rect l="l" t="t" r="r" b="b"/>
            <a:pathLst>
              <a:path w="2518" h="2467">
                <a:moveTo>
                  <a:pt x="0" y="2467"/>
                </a:moveTo>
                <a:lnTo>
                  <a:pt x="7" y="2467"/>
                </a:lnTo>
                <a:lnTo>
                  <a:pt x="22" y="2467"/>
                </a:lnTo>
                <a:lnTo>
                  <a:pt x="36" y="2467"/>
                </a:lnTo>
                <a:lnTo>
                  <a:pt x="50" y="2467"/>
                </a:lnTo>
                <a:lnTo>
                  <a:pt x="64" y="2467"/>
                </a:lnTo>
                <a:lnTo>
                  <a:pt x="71" y="2460"/>
                </a:lnTo>
                <a:lnTo>
                  <a:pt x="86" y="2460"/>
                </a:lnTo>
                <a:lnTo>
                  <a:pt x="100" y="2460"/>
                </a:lnTo>
                <a:lnTo>
                  <a:pt x="114" y="2460"/>
                </a:lnTo>
                <a:lnTo>
                  <a:pt x="128" y="2453"/>
                </a:lnTo>
                <a:lnTo>
                  <a:pt x="135" y="2453"/>
                </a:lnTo>
                <a:lnTo>
                  <a:pt x="150" y="2446"/>
                </a:lnTo>
                <a:lnTo>
                  <a:pt x="164" y="2439"/>
                </a:lnTo>
                <a:lnTo>
                  <a:pt x="178" y="2431"/>
                </a:lnTo>
                <a:lnTo>
                  <a:pt x="192" y="2424"/>
                </a:lnTo>
                <a:lnTo>
                  <a:pt x="199" y="2417"/>
                </a:lnTo>
                <a:lnTo>
                  <a:pt x="214" y="2403"/>
                </a:lnTo>
                <a:lnTo>
                  <a:pt x="228" y="2396"/>
                </a:lnTo>
                <a:lnTo>
                  <a:pt x="242" y="2389"/>
                </a:lnTo>
                <a:lnTo>
                  <a:pt x="256" y="2374"/>
                </a:lnTo>
                <a:lnTo>
                  <a:pt x="263" y="2367"/>
                </a:lnTo>
                <a:lnTo>
                  <a:pt x="278" y="2353"/>
                </a:lnTo>
                <a:lnTo>
                  <a:pt x="292" y="2346"/>
                </a:lnTo>
                <a:lnTo>
                  <a:pt x="306" y="2339"/>
                </a:lnTo>
                <a:lnTo>
                  <a:pt x="313" y="2331"/>
                </a:lnTo>
                <a:lnTo>
                  <a:pt x="327" y="2331"/>
                </a:lnTo>
                <a:lnTo>
                  <a:pt x="342" y="2324"/>
                </a:lnTo>
                <a:lnTo>
                  <a:pt x="349" y="2324"/>
                </a:lnTo>
                <a:lnTo>
                  <a:pt x="363" y="2331"/>
                </a:lnTo>
                <a:lnTo>
                  <a:pt x="377" y="2331"/>
                </a:lnTo>
                <a:lnTo>
                  <a:pt x="392" y="2339"/>
                </a:lnTo>
                <a:lnTo>
                  <a:pt x="399" y="2346"/>
                </a:lnTo>
                <a:lnTo>
                  <a:pt x="413" y="2353"/>
                </a:lnTo>
                <a:lnTo>
                  <a:pt x="427" y="2367"/>
                </a:lnTo>
                <a:lnTo>
                  <a:pt x="441" y="2374"/>
                </a:lnTo>
                <a:lnTo>
                  <a:pt x="456" y="2381"/>
                </a:lnTo>
                <a:lnTo>
                  <a:pt x="463" y="2389"/>
                </a:lnTo>
                <a:lnTo>
                  <a:pt x="477" y="2403"/>
                </a:lnTo>
                <a:lnTo>
                  <a:pt x="491" y="2403"/>
                </a:lnTo>
                <a:lnTo>
                  <a:pt x="505" y="2417"/>
                </a:lnTo>
                <a:lnTo>
                  <a:pt x="520" y="2417"/>
                </a:lnTo>
                <a:lnTo>
                  <a:pt x="534" y="2424"/>
                </a:lnTo>
                <a:lnTo>
                  <a:pt x="541" y="2424"/>
                </a:lnTo>
                <a:lnTo>
                  <a:pt x="555" y="2424"/>
                </a:lnTo>
                <a:lnTo>
                  <a:pt x="569" y="2424"/>
                </a:lnTo>
                <a:lnTo>
                  <a:pt x="584" y="2417"/>
                </a:lnTo>
                <a:lnTo>
                  <a:pt x="598" y="2417"/>
                </a:lnTo>
                <a:lnTo>
                  <a:pt x="605" y="2403"/>
                </a:lnTo>
                <a:lnTo>
                  <a:pt x="619" y="2396"/>
                </a:lnTo>
                <a:lnTo>
                  <a:pt x="633" y="2389"/>
                </a:lnTo>
                <a:lnTo>
                  <a:pt x="648" y="2367"/>
                </a:lnTo>
                <a:lnTo>
                  <a:pt x="662" y="2353"/>
                </a:lnTo>
                <a:lnTo>
                  <a:pt x="669" y="2331"/>
                </a:lnTo>
                <a:lnTo>
                  <a:pt x="683" y="2317"/>
                </a:lnTo>
                <a:lnTo>
                  <a:pt x="697" y="2288"/>
                </a:lnTo>
                <a:lnTo>
                  <a:pt x="704" y="2260"/>
                </a:lnTo>
                <a:lnTo>
                  <a:pt x="719" y="2231"/>
                </a:lnTo>
                <a:lnTo>
                  <a:pt x="733" y="2195"/>
                </a:lnTo>
                <a:lnTo>
                  <a:pt x="747" y="2167"/>
                </a:lnTo>
                <a:lnTo>
                  <a:pt x="754" y="2124"/>
                </a:lnTo>
                <a:lnTo>
                  <a:pt x="768" y="2088"/>
                </a:lnTo>
                <a:lnTo>
                  <a:pt x="783" y="2045"/>
                </a:lnTo>
                <a:lnTo>
                  <a:pt x="790" y="2002"/>
                </a:lnTo>
                <a:lnTo>
                  <a:pt x="804" y="1959"/>
                </a:lnTo>
                <a:lnTo>
                  <a:pt x="818" y="1909"/>
                </a:lnTo>
                <a:lnTo>
                  <a:pt x="832" y="1866"/>
                </a:lnTo>
                <a:lnTo>
                  <a:pt x="847" y="1824"/>
                </a:lnTo>
                <a:lnTo>
                  <a:pt x="861" y="1773"/>
                </a:lnTo>
                <a:lnTo>
                  <a:pt x="868" y="1731"/>
                </a:lnTo>
                <a:lnTo>
                  <a:pt x="882" y="1688"/>
                </a:lnTo>
                <a:lnTo>
                  <a:pt x="896" y="1652"/>
                </a:lnTo>
                <a:lnTo>
                  <a:pt x="911" y="1616"/>
                </a:lnTo>
                <a:lnTo>
                  <a:pt x="925" y="1580"/>
                </a:lnTo>
                <a:lnTo>
                  <a:pt x="932" y="1552"/>
                </a:lnTo>
                <a:lnTo>
                  <a:pt x="946" y="1523"/>
                </a:lnTo>
                <a:lnTo>
                  <a:pt x="961" y="1502"/>
                </a:lnTo>
                <a:lnTo>
                  <a:pt x="975" y="1480"/>
                </a:lnTo>
                <a:lnTo>
                  <a:pt x="989" y="1459"/>
                </a:lnTo>
                <a:lnTo>
                  <a:pt x="996" y="1437"/>
                </a:lnTo>
                <a:lnTo>
                  <a:pt x="1010" y="1416"/>
                </a:lnTo>
                <a:lnTo>
                  <a:pt x="1025" y="1401"/>
                </a:lnTo>
                <a:lnTo>
                  <a:pt x="1039" y="1380"/>
                </a:lnTo>
                <a:lnTo>
                  <a:pt x="1053" y="1366"/>
                </a:lnTo>
                <a:lnTo>
                  <a:pt x="1060" y="1344"/>
                </a:lnTo>
                <a:lnTo>
                  <a:pt x="1074" y="1330"/>
                </a:lnTo>
                <a:lnTo>
                  <a:pt x="1089" y="1309"/>
                </a:lnTo>
                <a:lnTo>
                  <a:pt x="1103" y="1287"/>
                </a:lnTo>
                <a:lnTo>
                  <a:pt x="1110" y="1266"/>
                </a:lnTo>
                <a:lnTo>
                  <a:pt x="1124" y="1244"/>
                </a:lnTo>
                <a:lnTo>
                  <a:pt x="1138" y="1230"/>
                </a:lnTo>
                <a:lnTo>
                  <a:pt x="1145" y="1208"/>
                </a:lnTo>
                <a:lnTo>
                  <a:pt x="1160" y="1180"/>
                </a:lnTo>
                <a:lnTo>
                  <a:pt x="1174" y="1158"/>
                </a:lnTo>
                <a:lnTo>
                  <a:pt x="1188" y="1130"/>
                </a:lnTo>
                <a:lnTo>
                  <a:pt x="1195" y="1108"/>
                </a:lnTo>
                <a:lnTo>
                  <a:pt x="1209" y="1080"/>
                </a:lnTo>
                <a:lnTo>
                  <a:pt x="1224" y="1044"/>
                </a:lnTo>
                <a:lnTo>
                  <a:pt x="1238" y="1008"/>
                </a:lnTo>
                <a:lnTo>
                  <a:pt x="1252" y="972"/>
                </a:lnTo>
                <a:lnTo>
                  <a:pt x="1259" y="937"/>
                </a:lnTo>
                <a:lnTo>
                  <a:pt x="1273" y="886"/>
                </a:lnTo>
                <a:lnTo>
                  <a:pt x="1288" y="844"/>
                </a:lnTo>
                <a:lnTo>
                  <a:pt x="1302" y="794"/>
                </a:lnTo>
                <a:lnTo>
                  <a:pt x="1316" y="736"/>
                </a:lnTo>
                <a:lnTo>
                  <a:pt x="1323" y="679"/>
                </a:lnTo>
                <a:lnTo>
                  <a:pt x="1337" y="615"/>
                </a:lnTo>
                <a:lnTo>
                  <a:pt x="1352" y="550"/>
                </a:lnTo>
                <a:lnTo>
                  <a:pt x="1366" y="493"/>
                </a:lnTo>
                <a:lnTo>
                  <a:pt x="1380" y="422"/>
                </a:lnTo>
                <a:lnTo>
                  <a:pt x="1394" y="357"/>
                </a:lnTo>
                <a:lnTo>
                  <a:pt x="1401" y="286"/>
                </a:lnTo>
                <a:lnTo>
                  <a:pt x="1416" y="228"/>
                </a:lnTo>
                <a:lnTo>
                  <a:pt x="1430" y="171"/>
                </a:lnTo>
                <a:lnTo>
                  <a:pt x="1444" y="114"/>
                </a:lnTo>
                <a:lnTo>
                  <a:pt x="1458" y="71"/>
                </a:lnTo>
                <a:lnTo>
                  <a:pt x="1465" y="35"/>
                </a:lnTo>
                <a:lnTo>
                  <a:pt x="1480" y="7"/>
                </a:lnTo>
                <a:lnTo>
                  <a:pt x="1494" y="0"/>
                </a:lnTo>
                <a:lnTo>
                  <a:pt x="1508" y="0"/>
                </a:lnTo>
                <a:lnTo>
                  <a:pt x="1515" y="14"/>
                </a:lnTo>
                <a:lnTo>
                  <a:pt x="1530" y="42"/>
                </a:lnTo>
                <a:lnTo>
                  <a:pt x="1544" y="85"/>
                </a:lnTo>
                <a:lnTo>
                  <a:pt x="1551" y="143"/>
                </a:lnTo>
                <a:lnTo>
                  <a:pt x="1565" y="207"/>
                </a:lnTo>
                <a:lnTo>
                  <a:pt x="1579" y="278"/>
                </a:lnTo>
                <a:lnTo>
                  <a:pt x="1594" y="364"/>
                </a:lnTo>
                <a:lnTo>
                  <a:pt x="1601" y="457"/>
                </a:lnTo>
                <a:lnTo>
                  <a:pt x="1615" y="550"/>
                </a:lnTo>
                <a:lnTo>
                  <a:pt x="1629" y="650"/>
                </a:lnTo>
                <a:lnTo>
                  <a:pt x="1643" y="758"/>
                </a:lnTo>
                <a:lnTo>
                  <a:pt x="1658" y="858"/>
                </a:lnTo>
                <a:lnTo>
                  <a:pt x="1665" y="972"/>
                </a:lnTo>
                <a:lnTo>
                  <a:pt x="1679" y="1072"/>
                </a:lnTo>
                <a:lnTo>
                  <a:pt x="1693" y="1173"/>
                </a:lnTo>
                <a:lnTo>
                  <a:pt x="1707" y="1266"/>
                </a:lnTo>
                <a:lnTo>
                  <a:pt x="1722" y="1366"/>
                </a:lnTo>
                <a:lnTo>
                  <a:pt x="1729" y="1452"/>
                </a:lnTo>
                <a:lnTo>
                  <a:pt x="1743" y="1537"/>
                </a:lnTo>
                <a:lnTo>
                  <a:pt x="1757" y="1616"/>
                </a:lnTo>
                <a:lnTo>
                  <a:pt x="1771" y="1688"/>
                </a:lnTo>
                <a:lnTo>
                  <a:pt x="1786" y="1759"/>
                </a:lnTo>
                <a:lnTo>
                  <a:pt x="1793" y="1824"/>
                </a:lnTo>
                <a:lnTo>
                  <a:pt x="1807" y="1881"/>
                </a:lnTo>
                <a:lnTo>
                  <a:pt x="1821" y="1931"/>
                </a:lnTo>
                <a:lnTo>
                  <a:pt x="1835" y="1981"/>
                </a:lnTo>
                <a:lnTo>
                  <a:pt x="1850" y="2024"/>
                </a:lnTo>
                <a:lnTo>
                  <a:pt x="1857" y="2060"/>
                </a:lnTo>
                <a:lnTo>
                  <a:pt x="1871" y="2095"/>
                </a:lnTo>
                <a:lnTo>
                  <a:pt x="1885" y="2131"/>
                </a:lnTo>
                <a:lnTo>
                  <a:pt x="1899" y="2160"/>
                </a:lnTo>
                <a:lnTo>
                  <a:pt x="1906" y="2188"/>
                </a:lnTo>
                <a:lnTo>
                  <a:pt x="1921" y="2210"/>
                </a:lnTo>
                <a:lnTo>
                  <a:pt x="1935" y="2231"/>
                </a:lnTo>
                <a:lnTo>
                  <a:pt x="1949" y="2253"/>
                </a:lnTo>
                <a:lnTo>
                  <a:pt x="1956" y="2274"/>
                </a:lnTo>
                <a:lnTo>
                  <a:pt x="1970" y="2288"/>
                </a:lnTo>
                <a:lnTo>
                  <a:pt x="1985" y="2303"/>
                </a:lnTo>
                <a:lnTo>
                  <a:pt x="1992" y="2317"/>
                </a:lnTo>
                <a:lnTo>
                  <a:pt x="2006" y="2331"/>
                </a:lnTo>
                <a:lnTo>
                  <a:pt x="2020" y="2339"/>
                </a:lnTo>
                <a:lnTo>
                  <a:pt x="2034" y="2346"/>
                </a:lnTo>
                <a:lnTo>
                  <a:pt x="2049" y="2353"/>
                </a:lnTo>
                <a:lnTo>
                  <a:pt x="2056" y="2367"/>
                </a:lnTo>
                <a:lnTo>
                  <a:pt x="2070" y="2374"/>
                </a:lnTo>
                <a:lnTo>
                  <a:pt x="2084" y="2374"/>
                </a:lnTo>
                <a:lnTo>
                  <a:pt x="2099" y="2389"/>
                </a:lnTo>
                <a:lnTo>
                  <a:pt x="2113" y="2389"/>
                </a:lnTo>
                <a:lnTo>
                  <a:pt x="2120" y="2396"/>
                </a:lnTo>
                <a:lnTo>
                  <a:pt x="2134" y="2403"/>
                </a:lnTo>
                <a:lnTo>
                  <a:pt x="2148" y="2410"/>
                </a:lnTo>
                <a:lnTo>
                  <a:pt x="2163" y="2417"/>
                </a:lnTo>
                <a:lnTo>
                  <a:pt x="2177" y="2417"/>
                </a:lnTo>
                <a:lnTo>
                  <a:pt x="2191" y="2424"/>
                </a:lnTo>
                <a:lnTo>
                  <a:pt x="2198" y="2424"/>
                </a:lnTo>
                <a:lnTo>
                  <a:pt x="2212" y="2431"/>
                </a:lnTo>
                <a:lnTo>
                  <a:pt x="2227" y="2431"/>
                </a:lnTo>
                <a:lnTo>
                  <a:pt x="2241" y="2439"/>
                </a:lnTo>
                <a:lnTo>
                  <a:pt x="2255" y="2439"/>
                </a:lnTo>
                <a:lnTo>
                  <a:pt x="2262" y="2446"/>
                </a:lnTo>
                <a:lnTo>
                  <a:pt x="2276" y="2446"/>
                </a:lnTo>
                <a:lnTo>
                  <a:pt x="2291" y="2453"/>
                </a:lnTo>
                <a:lnTo>
                  <a:pt x="2305" y="2453"/>
                </a:lnTo>
                <a:lnTo>
                  <a:pt x="2312" y="2453"/>
                </a:lnTo>
                <a:lnTo>
                  <a:pt x="2326" y="2460"/>
                </a:lnTo>
                <a:lnTo>
                  <a:pt x="2340" y="2460"/>
                </a:lnTo>
                <a:lnTo>
                  <a:pt x="2355" y="2460"/>
                </a:lnTo>
                <a:lnTo>
                  <a:pt x="2362" y="2460"/>
                </a:lnTo>
                <a:lnTo>
                  <a:pt x="2376" y="2460"/>
                </a:lnTo>
                <a:lnTo>
                  <a:pt x="2390" y="2460"/>
                </a:lnTo>
                <a:lnTo>
                  <a:pt x="2397" y="2460"/>
                </a:lnTo>
                <a:lnTo>
                  <a:pt x="2411" y="2467"/>
                </a:lnTo>
                <a:lnTo>
                  <a:pt x="2426" y="2467"/>
                </a:lnTo>
                <a:lnTo>
                  <a:pt x="2440" y="2467"/>
                </a:lnTo>
                <a:lnTo>
                  <a:pt x="2447" y="2467"/>
                </a:lnTo>
                <a:lnTo>
                  <a:pt x="2461" y="2467"/>
                </a:lnTo>
                <a:lnTo>
                  <a:pt x="2475" y="2467"/>
                </a:lnTo>
                <a:lnTo>
                  <a:pt x="2490" y="2467"/>
                </a:lnTo>
                <a:lnTo>
                  <a:pt x="2504" y="2467"/>
                </a:lnTo>
                <a:lnTo>
                  <a:pt x="2518" y="2467"/>
                </a:lnTo>
                <a:lnTo>
                  <a:pt x="0" y="2467"/>
                </a:lnTo>
                <a:lnTo>
                  <a:pt x="0" y="2467"/>
                </a:lnTo>
                <a:close/>
              </a:path>
            </a:pathLst>
          </a:custGeom>
          <a:solidFill>
            <a:srgbClr val="fafd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690120" y="4986360"/>
            <a:ext cx="11160" cy="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008000" y="4986360"/>
            <a:ext cx="1800" cy="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1312920" y="4986000"/>
            <a:ext cx="22320" cy="111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628640" y="4986360"/>
            <a:ext cx="11160" cy="22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1933200" y="4986360"/>
            <a:ext cx="11160" cy="22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38480" y="4997520"/>
            <a:ext cx="11160" cy="111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554200" y="4997520"/>
            <a:ext cx="22320" cy="22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59120" y="4997520"/>
            <a:ext cx="22320" cy="22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 flipV="1">
            <a:off x="3163680" y="4997520"/>
            <a:ext cx="21960" cy="22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479760" y="5008680"/>
            <a:ext cx="11160" cy="111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3784320" y="5008680"/>
            <a:ext cx="11160" cy="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78440" y="4997520"/>
            <a:ext cx="10800" cy="111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4327560" y="4940280"/>
            <a:ext cx="77760" cy="684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19440" y="4815000"/>
            <a:ext cx="190800" cy="1936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4665600" y="4655880"/>
            <a:ext cx="349200" cy="352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78280" y="4475160"/>
            <a:ext cx="542880" cy="5335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4879800" y="4258800"/>
            <a:ext cx="757440" cy="7606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70520" y="4043520"/>
            <a:ext cx="971640" cy="976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5060520" y="3816000"/>
            <a:ext cx="1197000" cy="12034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40440" y="3600360"/>
            <a:ext cx="1422360" cy="14194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30800" y="3362400"/>
            <a:ext cx="1636560" cy="1657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308560" y="3146400"/>
            <a:ext cx="1863720" cy="1873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5398920" y="2930400"/>
            <a:ext cx="2089440" cy="2089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11960" y="2736720"/>
            <a:ext cx="1152360" cy="11588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13720" y="4951440"/>
            <a:ext cx="7920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8097480" y="5019840"/>
            <a:ext cx="11160" cy="10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5692320" y="2612880"/>
            <a:ext cx="452520" cy="454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88960" y="2602080"/>
            <a:ext cx="7893000" cy="2428560"/>
          </a:xfrm>
          <a:custGeom>
            <a:avLst/>
            <a:gdLst/>
            <a:ahLst/>
            <a:rect l="l" t="t" r="r" b="b"/>
            <a:pathLst>
              <a:path w="4972" h="1530">
                <a:moveTo>
                  <a:pt x="0" y="1502"/>
                </a:moveTo>
                <a:lnTo>
                  <a:pt x="29" y="1502"/>
                </a:lnTo>
                <a:lnTo>
                  <a:pt x="57" y="1502"/>
                </a:lnTo>
                <a:lnTo>
                  <a:pt x="86" y="1502"/>
                </a:lnTo>
                <a:lnTo>
                  <a:pt x="114" y="1502"/>
                </a:lnTo>
                <a:lnTo>
                  <a:pt x="143" y="1502"/>
                </a:lnTo>
                <a:lnTo>
                  <a:pt x="171" y="1502"/>
                </a:lnTo>
                <a:lnTo>
                  <a:pt x="200" y="1502"/>
                </a:lnTo>
                <a:lnTo>
                  <a:pt x="228" y="1502"/>
                </a:lnTo>
                <a:lnTo>
                  <a:pt x="256" y="1502"/>
                </a:lnTo>
                <a:lnTo>
                  <a:pt x="285" y="1502"/>
                </a:lnTo>
                <a:lnTo>
                  <a:pt x="313" y="1502"/>
                </a:lnTo>
                <a:lnTo>
                  <a:pt x="342" y="1502"/>
                </a:lnTo>
                <a:lnTo>
                  <a:pt x="370" y="1509"/>
                </a:lnTo>
                <a:lnTo>
                  <a:pt x="392" y="1509"/>
                </a:lnTo>
                <a:lnTo>
                  <a:pt x="427" y="1509"/>
                </a:lnTo>
                <a:lnTo>
                  <a:pt x="456" y="1509"/>
                </a:lnTo>
                <a:lnTo>
                  <a:pt x="484" y="1516"/>
                </a:lnTo>
                <a:lnTo>
                  <a:pt x="505" y="1516"/>
                </a:lnTo>
                <a:lnTo>
                  <a:pt x="534" y="1516"/>
                </a:lnTo>
                <a:lnTo>
                  <a:pt x="569" y="1516"/>
                </a:lnTo>
                <a:lnTo>
                  <a:pt x="591" y="1516"/>
                </a:lnTo>
                <a:lnTo>
                  <a:pt x="619" y="1516"/>
                </a:lnTo>
                <a:lnTo>
                  <a:pt x="648" y="1516"/>
                </a:lnTo>
                <a:lnTo>
                  <a:pt x="676" y="1516"/>
                </a:lnTo>
                <a:lnTo>
                  <a:pt x="705" y="1516"/>
                </a:lnTo>
                <a:lnTo>
                  <a:pt x="733" y="1516"/>
                </a:lnTo>
                <a:lnTo>
                  <a:pt x="761" y="1516"/>
                </a:lnTo>
                <a:lnTo>
                  <a:pt x="790" y="1516"/>
                </a:lnTo>
                <a:lnTo>
                  <a:pt x="818" y="1516"/>
                </a:lnTo>
                <a:lnTo>
                  <a:pt x="847" y="1516"/>
                </a:lnTo>
                <a:lnTo>
                  <a:pt x="875" y="1516"/>
                </a:lnTo>
                <a:lnTo>
                  <a:pt x="904" y="1516"/>
                </a:lnTo>
                <a:lnTo>
                  <a:pt x="932" y="1516"/>
                </a:lnTo>
                <a:lnTo>
                  <a:pt x="961" y="1516"/>
                </a:lnTo>
                <a:lnTo>
                  <a:pt x="982" y="1516"/>
                </a:lnTo>
                <a:lnTo>
                  <a:pt x="1010" y="1516"/>
                </a:lnTo>
                <a:lnTo>
                  <a:pt x="1046" y="1516"/>
                </a:lnTo>
                <a:lnTo>
                  <a:pt x="1067" y="1516"/>
                </a:lnTo>
                <a:lnTo>
                  <a:pt x="1096" y="1516"/>
                </a:lnTo>
                <a:lnTo>
                  <a:pt x="1124" y="1516"/>
                </a:lnTo>
                <a:lnTo>
                  <a:pt x="1153" y="1516"/>
                </a:lnTo>
                <a:lnTo>
                  <a:pt x="1181" y="1516"/>
                </a:lnTo>
                <a:lnTo>
                  <a:pt x="1209" y="1523"/>
                </a:lnTo>
                <a:lnTo>
                  <a:pt x="1238" y="1523"/>
                </a:lnTo>
                <a:lnTo>
                  <a:pt x="1266" y="1523"/>
                </a:lnTo>
                <a:lnTo>
                  <a:pt x="1295" y="1523"/>
                </a:lnTo>
                <a:lnTo>
                  <a:pt x="1323" y="1523"/>
                </a:lnTo>
                <a:lnTo>
                  <a:pt x="1352" y="1523"/>
                </a:lnTo>
                <a:lnTo>
                  <a:pt x="1380" y="1523"/>
                </a:lnTo>
                <a:lnTo>
                  <a:pt x="1409" y="1523"/>
                </a:lnTo>
                <a:lnTo>
                  <a:pt x="1437" y="1523"/>
                </a:lnTo>
                <a:lnTo>
                  <a:pt x="1458" y="1523"/>
                </a:lnTo>
                <a:lnTo>
                  <a:pt x="1487" y="1523"/>
                </a:lnTo>
                <a:lnTo>
                  <a:pt x="1522" y="1523"/>
                </a:lnTo>
                <a:lnTo>
                  <a:pt x="1551" y="1523"/>
                </a:lnTo>
                <a:lnTo>
                  <a:pt x="1572" y="1523"/>
                </a:lnTo>
                <a:lnTo>
                  <a:pt x="1601" y="1523"/>
                </a:lnTo>
                <a:lnTo>
                  <a:pt x="1636" y="1523"/>
                </a:lnTo>
                <a:lnTo>
                  <a:pt x="1658" y="1523"/>
                </a:lnTo>
                <a:lnTo>
                  <a:pt x="1686" y="1523"/>
                </a:lnTo>
                <a:lnTo>
                  <a:pt x="1714" y="1523"/>
                </a:lnTo>
                <a:lnTo>
                  <a:pt x="1743" y="1523"/>
                </a:lnTo>
                <a:lnTo>
                  <a:pt x="1771" y="1523"/>
                </a:lnTo>
                <a:lnTo>
                  <a:pt x="1800" y="1523"/>
                </a:lnTo>
                <a:lnTo>
                  <a:pt x="1828" y="1523"/>
                </a:lnTo>
                <a:lnTo>
                  <a:pt x="1857" y="1523"/>
                </a:lnTo>
                <a:lnTo>
                  <a:pt x="1885" y="1523"/>
                </a:lnTo>
                <a:lnTo>
                  <a:pt x="1914" y="1523"/>
                </a:lnTo>
                <a:lnTo>
                  <a:pt x="1942" y="1523"/>
                </a:lnTo>
                <a:lnTo>
                  <a:pt x="1963" y="1523"/>
                </a:lnTo>
                <a:lnTo>
                  <a:pt x="1999" y="1523"/>
                </a:lnTo>
                <a:lnTo>
                  <a:pt x="2027" y="1516"/>
                </a:lnTo>
                <a:lnTo>
                  <a:pt x="2049" y="1516"/>
                </a:lnTo>
                <a:lnTo>
                  <a:pt x="2077" y="1516"/>
                </a:lnTo>
                <a:lnTo>
                  <a:pt x="2113" y="1516"/>
                </a:lnTo>
                <a:lnTo>
                  <a:pt x="2134" y="1516"/>
                </a:lnTo>
                <a:lnTo>
                  <a:pt x="2163" y="1516"/>
                </a:lnTo>
                <a:lnTo>
                  <a:pt x="2191" y="1516"/>
                </a:lnTo>
                <a:lnTo>
                  <a:pt x="2219" y="1509"/>
                </a:lnTo>
                <a:lnTo>
                  <a:pt x="2248" y="1502"/>
                </a:lnTo>
                <a:lnTo>
                  <a:pt x="2276" y="1502"/>
                </a:lnTo>
                <a:lnTo>
                  <a:pt x="2305" y="1487"/>
                </a:lnTo>
                <a:lnTo>
                  <a:pt x="2333" y="1480"/>
                </a:lnTo>
                <a:lnTo>
                  <a:pt x="2362" y="1473"/>
                </a:lnTo>
                <a:lnTo>
                  <a:pt x="2390" y="1459"/>
                </a:lnTo>
                <a:lnTo>
                  <a:pt x="2419" y="1437"/>
                </a:lnTo>
                <a:lnTo>
                  <a:pt x="2440" y="1423"/>
                </a:lnTo>
                <a:lnTo>
                  <a:pt x="2476" y="1402"/>
                </a:lnTo>
                <a:lnTo>
                  <a:pt x="2504" y="1373"/>
                </a:lnTo>
                <a:lnTo>
                  <a:pt x="2532" y="1344"/>
                </a:lnTo>
                <a:lnTo>
                  <a:pt x="2554" y="1309"/>
                </a:lnTo>
                <a:lnTo>
                  <a:pt x="2589" y="1266"/>
                </a:lnTo>
                <a:lnTo>
                  <a:pt x="2618" y="1230"/>
                </a:lnTo>
                <a:lnTo>
                  <a:pt x="2639" y="1180"/>
                </a:lnTo>
                <a:lnTo>
                  <a:pt x="2668" y="1123"/>
                </a:lnTo>
                <a:lnTo>
                  <a:pt x="2703" y="1065"/>
                </a:lnTo>
                <a:lnTo>
                  <a:pt x="2724" y="1001"/>
                </a:lnTo>
                <a:lnTo>
                  <a:pt x="2753" y="937"/>
                </a:lnTo>
                <a:lnTo>
                  <a:pt x="2781" y="858"/>
                </a:lnTo>
                <a:lnTo>
                  <a:pt x="2810" y="786"/>
                </a:lnTo>
                <a:lnTo>
                  <a:pt x="2838" y="708"/>
                </a:lnTo>
                <a:lnTo>
                  <a:pt x="2867" y="629"/>
                </a:lnTo>
                <a:lnTo>
                  <a:pt x="2895" y="550"/>
                </a:lnTo>
                <a:lnTo>
                  <a:pt x="2924" y="472"/>
                </a:lnTo>
                <a:lnTo>
                  <a:pt x="2952" y="393"/>
                </a:lnTo>
                <a:lnTo>
                  <a:pt x="2981" y="321"/>
                </a:lnTo>
                <a:lnTo>
                  <a:pt x="3009" y="257"/>
                </a:lnTo>
                <a:lnTo>
                  <a:pt x="3030" y="193"/>
                </a:lnTo>
                <a:lnTo>
                  <a:pt x="3066" y="143"/>
                </a:lnTo>
                <a:lnTo>
                  <a:pt x="3094" y="93"/>
                </a:lnTo>
                <a:lnTo>
                  <a:pt x="3116" y="57"/>
                </a:lnTo>
                <a:lnTo>
                  <a:pt x="3144" y="35"/>
                </a:lnTo>
                <a:lnTo>
                  <a:pt x="3180" y="14"/>
                </a:lnTo>
                <a:lnTo>
                  <a:pt x="3201" y="7"/>
                </a:lnTo>
                <a:lnTo>
                  <a:pt x="3229" y="0"/>
                </a:lnTo>
                <a:lnTo>
                  <a:pt x="3258" y="7"/>
                </a:lnTo>
                <a:lnTo>
                  <a:pt x="3286" y="21"/>
                </a:lnTo>
                <a:lnTo>
                  <a:pt x="3315" y="42"/>
                </a:lnTo>
                <a:lnTo>
                  <a:pt x="3343" y="71"/>
                </a:lnTo>
                <a:lnTo>
                  <a:pt x="3372" y="100"/>
                </a:lnTo>
                <a:lnTo>
                  <a:pt x="3400" y="135"/>
                </a:lnTo>
                <a:lnTo>
                  <a:pt x="3429" y="178"/>
                </a:lnTo>
                <a:lnTo>
                  <a:pt x="3457" y="221"/>
                </a:lnTo>
                <a:lnTo>
                  <a:pt x="3485" y="264"/>
                </a:lnTo>
                <a:lnTo>
                  <a:pt x="3507" y="307"/>
                </a:lnTo>
                <a:lnTo>
                  <a:pt x="3542" y="357"/>
                </a:lnTo>
                <a:lnTo>
                  <a:pt x="3571" y="400"/>
                </a:lnTo>
                <a:lnTo>
                  <a:pt x="3599" y="443"/>
                </a:lnTo>
                <a:lnTo>
                  <a:pt x="3621" y="493"/>
                </a:lnTo>
                <a:lnTo>
                  <a:pt x="3656" y="543"/>
                </a:lnTo>
                <a:lnTo>
                  <a:pt x="3685" y="586"/>
                </a:lnTo>
                <a:lnTo>
                  <a:pt x="3706" y="629"/>
                </a:lnTo>
                <a:lnTo>
                  <a:pt x="3734" y="672"/>
                </a:lnTo>
                <a:lnTo>
                  <a:pt x="3763" y="715"/>
                </a:lnTo>
                <a:lnTo>
                  <a:pt x="3791" y="765"/>
                </a:lnTo>
                <a:lnTo>
                  <a:pt x="3820" y="801"/>
                </a:lnTo>
                <a:lnTo>
                  <a:pt x="3848" y="844"/>
                </a:lnTo>
                <a:lnTo>
                  <a:pt x="3877" y="887"/>
                </a:lnTo>
                <a:lnTo>
                  <a:pt x="3905" y="922"/>
                </a:lnTo>
                <a:lnTo>
                  <a:pt x="3934" y="965"/>
                </a:lnTo>
                <a:lnTo>
                  <a:pt x="3962" y="1008"/>
                </a:lnTo>
                <a:lnTo>
                  <a:pt x="3990" y="1044"/>
                </a:lnTo>
                <a:lnTo>
                  <a:pt x="4019" y="1080"/>
                </a:lnTo>
                <a:lnTo>
                  <a:pt x="4047" y="1123"/>
                </a:lnTo>
                <a:lnTo>
                  <a:pt x="4076" y="1151"/>
                </a:lnTo>
                <a:lnTo>
                  <a:pt x="4097" y="1187"/>
                </a:lnTo>
                <a:lnTo>
                  <a:pt x="4133" y="1216"/>
                </a:lnTo>
                <a:lnTo>
                  <a:pt x="4161" y="1251"/>
                </a:lnTo>
                <a:lnTo>
                  <a:pt x="4183" y="1280"/>
                </a:lnTo>
                <a:lnTo>
                  <a:pt x="4211" y="1301"/>
                </a:lnTo>
                <a:lnTo>
                  <a:pt x="4239" y="1330"/>
                </a:lnTo>
                <a:lnTo>
                  <a:pt x="4268" y="1351"/>
                </a:lnTo>
                <a:lnTo>
                  <a:pt x="4296" y="1380"/>
                </a:lnTo>
                <a:lnTo>
                  <a:pt x="4325" y="1394"/>
                </a:lnTo>
                <a:lnTo>
                  <a:pt x="4353" y="1416"/>
                </a:lnTo>
                <a:lnTo>
                  <a:pt x="4382" y="1430"/>
                </a:lnTo>
                <a:lnTo>
                  <a:pt x="4410" y="1444"/>
                </a:lnTo>
                <a:lnTo>
                  <a:pt x="4439" y="1459"/>
                </a:lnTo>
                <a:lnTo>
                  <a:pt x="4467" y="1473"/>
                </a:lnTo>
                <a:lnTo>
                  <a:pt x="4495" y="1480"/>
                </a:lnTo>
                <a:lnTo>
                  <a:pt x="4524" y="1487"/>
                </a:lnTo>
                <a:lnTo>
                  <a:pt x="4552" y="1502"/>
                </a:lnTo>
                <a:lnTo>
                  <a:pt x="4581" y="1502"/>
                </a:lnTo>
                <a:lnTo>
                  <a:pt x="4609" y="1516"/>
                </a:lnTo>
                <a:lnTo>
                  <a:pt x="4638" y="1516"/>
                </a:lnTo>
                <a:lnTo>
                  <a:pt x="4666" y="1516"/>
                </a:lnTo>
                <a:lnTo>
                  <a:pt x="4688" y="1523"/>
                </a:lnTo>
                <a:lnTo>
                  <a:pt x="4716" y="1523"/>
                </a:lnTo>
                <a:lnTo>
                  <a:pt x="4752" y="1523"/>
                </a:lnTo>
                <a:lnTo>
                  <a:pt x="4773" y="1523"/>
                </a:lnTo>
                <a:lnTo>
                  <a:pt x="4801" y="1530"/>
                </a:lnTo>
                <a:lnTo>
                  <a:pt x="4830" y="1530"/>
                </a:lnTo>
                <a:lnTo>
                  <a:pt x="4858" y="1530"/>
                </a:lnTo>
                <a:lnTo>
                  <a:pt x="4887" y="1530"/>
                </a:lnTo>
                <a:lnTo>
                  <a:pt x="4915" y="1530"/>
                </a:lnTo>
                <a:lnTo>
                  <a:pt x="4944" y="1530"/>
                </a:lnTo>
                <a:lnTo>
                  <a:pt x="4972" y="1530"/>
                </a:lnTo>
              </a:path>
            </a:pathLst>
          </a:custGeom>
          <a:noFill/>
          <a:ln w="334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-762120" y="-914400"/>
            <a:ext cx="19423080" cy="251395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32640" y="19819800"/>
            <a:ext cx="145008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Depth (m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149480" y="13925520"/>
            <a:ext cx="7111800" cy="483228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403280" y="18770760"/>
            <a:ext cx="180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72412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4496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6580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68664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00748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03280" y="18770760"/>
            <a:ext cx="660420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20840" y="19141920"/>
            <a:ext cx="17136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47000" y="19141920"/>
            <a:ext cx="34200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774600" y="19141920"/>
            <a:ext cx="512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095080" y="19141920"/>
            <a:ext cx="512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15920" y="19141920"/>
            <a:ext cx="512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736760" y="19141920"/>
            <a:ext cx="512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5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275120" y="14420880"/>
            <a:ext cx="27698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Thermocline dept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120760" y="17378280"/>
            <a:ext cx="6369120" cy="1211400"/>
          </a:xfrm>
          <a:custGeom>
            <a:avLst/>
            <a:gdLst/>
            <a:ahLst/>
            <a:rect l="l" t="t" r="r" b="b"/>
            <a:pathLst>
              <a:path w="4012" h="763">
                <a:moveTo>
                  <a:pt x="0" y="763"/>
                </a:moveTo>
                <a:lnTo>
                  <a:pt x="22" y="763"/>
                </a:lnTo>
                <a:lnTo>
                  <a:pt x="41" y="763"/>
                </a:lnTo>
                <a:lnTo>
                  <a:pt x="60" y="763"/>
                </a:lnTo>
                <a:lnTo>
                  <a:pt x="82" y="763"/>
                </a:lnTo>
                <a:lnTo>
                  <a:pt x="101" y="763"/>
                </a:lnTo>
                <a:lnTo>
                  <a:pt x="120" y="763"/>
                </a:lnTo>
                <a:lnTo>
                  <a:pt x="142" y="763"/>
                </a:lnTo>
                <a:lnTo>
                  <a:pt x="161" y="763"/>
                </a:lnTo>
                <a:lnTo>
                  <a:pt x="184" y="763"/>
                </a:lnTo>
                <a:lnTo>
                  <a:pt x="203" y="763"/>
                </a:lnTo>
                <a:lnTo>
                  <a:pt x="222" y="760"/>
                </a:lnTo>
                <a:lnTo>
                  <a:pt x="244" y="760"/>
                </a:lnTo>
                <a:lnTo>
                  <a:pt x="263" y="760"/>
                </a:lnTo>
                <a:lnTo>
                  <a:pt x="282" y="760"/>
                </a:lnTo>
                <a:lnTo>
                  <a:pt x="304" y="760"/>
                </a:lnTo>
                <a:lnTo>
                  <a:pt x="323" y="757"/>
                </a:lnTo>
                <a:lnTo>
                  <a:pt x="342" y="757"/>
                </a:lnTo>
                <a:lnTo>
                  <a:pt x="364" y="757"/>
                </a:lnTo>
                <a:lnTo>
                  <a:pt x="383" y="753"/>
                </a:lnTo>
                <a:lnTo>
                  <a:pt x="405" y="753"/>
                </a:lnTo>
                <a:lnTo>
                  <a:pt x="424" y="750"/>
                </a:lnTo>
                <a:lnTo>
                  <a:pt x="443" y="750"/>
                </a:lnTo>
                <a:lnTo>
                  <a:pt x="465" y="747"/>
                </a:lnTo>
                <a:lnTo>
                  <a:pt x="484" y="747"/>
                </a:lnTo>
                <a:lnTo>
                  <a:pt x="503" y="744"/>
                </a:lnTo>
                <a:lnTo>
                  <a:pt x="525" y="741"/>
                </a:lnTo>
                <a:lnTo>
                  <a:pt x="544" y="738"/>
                </a:lnTo>
                <a:lnTo>
                  <a:pt x="566" y="734"/>
                </a:lnTo>
                <a:lnTo>
                  <a:pt x="585" y="731"/>
                </a:lnTo>
                <a:lnTo>
                  <a:pt x="604" y="728"/>
                </a:lnTo>
                <a:lnTo>
                  <a:pt x="627" y="725"/>
                </a:lnTo>
                <a:lnTo>
                  <a:pt x="646" y="722"/>
                </a:lnTo>
                <a:lnTo>
                  <a:pt x="665" y="719"/>
                </a:lnTo>
                <a:lnTo>
                  <a:pt x="687" y="715"/>
                </a:lnTo>
                <a:lnTo>
                  <a:pt x="706" y="709"/>
                </a:lnTo>
                <a:lnTo>
                  <a:pt x="728" y="706"/>
                </a:lnTo>
                <a:lnTo>
                  <a:pt x="747" y="700"/>
                </a:lnTo>
                <a:lnTo>
                  <a:pt x="766" y="693"/>
                </a:lnTo>
                <a:lnTo>
                  <a:pt x="788" y="687"/>
                </a:lnTo>
                <a:lnTo>
                  <a:pt x="807" y="681"/>
                </a:lnTo>
                <a:lnTo>
                  <a:pt x="826" y="674"/>
                </a:lnTo>
                <a:lnTo>
                  <a:pt x="848" y="665"/>
                </a:lnTo>
                <a:lnTo>
                  <a:pt x="867" y="659"/>
                </a:lnTo>
                <a:lnTo>
                  <a:pt x="886" y="649"/>
                </a:lnTo>
                <a:lnTo>
                  <a:pt x="908" y="643"/>
                </a:lnTo>
                <a:lnTo>
                  <a:pt x="927" y="633"/>
                </a:lnTo>
                <a:lnTo>
                  <a:pt x="949" y="624"/>
                </a:lnTo>
                <a:lnTo>
                  <a:pt x="968" y="614"/>
                </a:lnTo>
                <a:lnTo>
                  <a:pt x="987" y="605"/>
                </a:lnTo>
                <a:lnTo>
                  <a:pt x="1009" y="598"/>
                </a:lnTo>
                <a:lnTo>
                  <a:pt x="1028" y="589"/>
                </a:lnTo>
                <a:lnTo>
                  <a:pt x="1047" y="579"/>
                </a:lnTo>
                <a:lnTo>
                  <a:pt x="1070" y="570"/>
                </a:lnTo>
                <a:lnTo>
                  <a:pt x="1089" y="560"/>
                </a:lnTo>
                <a:lnTo>
                  <a:pt x="1111" y="551"/>
                </a:lnTo>
                <a:lnTo>
                  <a:pt x="1130" y="541"/>
                </a:lnTo>
                <a:lnTo>
                  <a:pt x="1149" y="532"/>
                </a:lnTo>
                <a:lnTo>
                  <a:pt x="1171" y="522"/>
                </a:lnTo>
                <a:lnTo>
                  <a:pt x="1190" y="513"/>
                </a:lnTo>
                <a:lnTo>
                  <a:pt x="1209" y="507"/>
                </a:lnTo>
                <a:lnTo>
                  <a:pt x="1231" y="497"/>
                </a:lnTo>
                <a:lnTo>
                  <a:pt x="1250" y="488"/>
                </a:lnTo>
                <a:lnTo>
                  <a:pt x="1272" y="481"/>
                </a:lnTo>
                <a:lnTo>
                  <a:pt x="1291" y="472"/>
                </a:lnTo>
                <a:lnTo>
                  <a:pt x="1310" y="466"/>
                </a:lnTo>
                <a:lnTo>
                  <a:pt x="1332" y="459"/>
                </a:lnTo>
                <a:lnTo>
                  <a:pt x="1351" y="453"/>
                </a:lnTo>
                <a:lnTo>
                  <a:pt x="1370" y="450"/>
                </a:lnTo>
                <a:lnTo>
                  <a:pt x="1392" y="443"/>
                </a:lnTo>
                <a:lnTo>
                  <a:pt x="1411" y="437"/>
                </a:lnTo>
                <a:lnTo>
                  <a:pt x="1433" y="431"/>
                </a:lnTo>
                <a:lnTo>
                  <a:pt x="1452" y="428"/>
                </a:lnTo>
                <a:lnTo>
                  <a:pt x="1471" y="421"/>
                </a:lnTo>
                <a:lnTo>
                  <a:pt x="1493" y="412"/>
                </a:lnTo>
                <a:lnTo>
                  <a:pt x="1512" y="405"/>
                </a:lnTo>
                <a:lnTo>
                  <a:pt x="1531" y="393"/>
                </a:lnTo>
                <a:lnTo>
                  <a:pt x="1554" y="383"/>
                </a:lnTo>
                <a:lnTo>
                  <a:pt x="1573" y="367"/>
                </a:lnTo>
                <a:lnTo>
                  <a:pt x="1592" y="348"/>
                </a:lnTo>
                <a:lnTo>
                  <a:pt x="1614" y="329"/>
                </a:lnTo>
                <a:lnTo>
                  <a:pt x="1633" y="307"/>
                </a:lnTo>
                <a:lnTo>
                  <a:pt x="1655" y="282"/>
                </a:lnTo>
                <a:lnTo>
                  <a:pt x="1674" y="257"/>
                </a:lnTo>
                <a:lnTo>
                  <a:pt x="1693" y="228"/>
                </a:lnTo>
                <a:lnTo>
                  <a:pt x="1715" y="197"/>
                </a:lnTo>
                <a:lnTo>
                  <a:pt x="1734" y="168"/>
                </a:lnTo>
                <a:lnTo>
                  <a:pt x="1753" y="140"/>
                </a:lnTo>
                <a:lnTo>
                  <a:pt x="1775" y="111"/>
                </a:lnTo>
                <a:lnTo>
                  <a:pt x="1794" y="83"/>
                </a:lnTo>
                <a:lnTo>
                  <a:pt x="1816" y="61"/>
                </a:lnTo>
                <a:lnTo>
                  <a:pt x="1835" y="38"/>
                </a:lnTo>
                <a:lnTo>
                  <a:pt x="1854" y="23"/>
                </a:lnTo>
                <a:lnTo>
                  <a:pt x="1876" y="10"/>
                </a:lnTo>
                <a:lnTo>
                  <a:pt x="1895" y="4"/>
                </a:lnTo>
                <a:lnTo>
                  <a:pt x="1914" y="0"/>
                </a:lnTo>
                <a:lnTo>
                  <a:pt x="1936" y="0"/>
                </a:lnTo>
                <a:lnTo>
                  <a:pt x="1955" y="7"/>
                </a:lnTo>
                <a:lnTo>
                  <a:pt x="1978" y="19"/>
                </a:lnTo>
                <a:lnTo>
                  <a:pt x="1997" y="32"/>
                </a:lnTo>
                <a:lnTo>
                  <a:pt x="2016" y="51"/>
                </a:lnTo>
                <a:lnTo>
                  <a:pt x="2038" y="73"/>
                </a:lnTo>
                <a:lnTo>
                  <a:pt x="2057" y="95"/>
                </a:lnTo>
                <a:lnTo>
                  <a:pt x="2076" y="124"/>
                </a:lnTo>
                <a:lnTo>
                  <a:pt x="2098" y="152"/>
                </a:lnTo>
                <a:lnTo>
                  <a:pt x="2117" y="181"/>
                </a:lnTo>
                <a:lnTo>
                  <a:pt x="2136" y="212"/>
                </a:lnTo>
                <a:lnTo>
                  <a:pt x="2158" y="244"/>
                </a:lnTo>
                <a:lnTo>
                  <a:pt x="2177" y="273"/>
                </a:lnTo>
                <a:lnTo>
                  <a:pt x="2199" y="304"/>
                </a:lnTo>
                <a:lnTo>
                  <a:pt x="2218" y="336"/>
                </a:lnTo>
                <a:lnTo>
                  <a:pt x="2237" y="364"/>
                </a:lnTo>
                <a:lnTo>
                  <a:pt x="2259" y="390"/>
                </a:lnTo>
                <a:lnTo>
                  <a:pt x="2278" y="418"/>
                </a:lnTo>
                <a:lnTo>
                  <a:pt x="2297" y="440"/>
                </a:lnTo>
                <a:lnTo>
                  <a:pt x="2319" y="462"/>
                </a:lnTo>
                <a:lnTo>
                  <a:pt x="2338" y="485"/>
                </a:lnTo>
                <a:lnTo>
                  <a:pt x="2360" y="504"/>
                </a:lnTo>
                <a:lnTo>
                  <a:pt x="2379" y="519"/>
                </a:lnTo>
                <a:lnTo>
                  <a:pt x="2398" y="535"/>
                </a:lnTo>
                <a:lnTo>
                  <a:pt x="2421" y="548"/>
                </a:lnTo>
                <a:lnTo>
                  <a:pt x="2440" y="560"/>
                </a:lnTo>
                <a:lnTo>
                  <a:pt x="2458" y="570"/>
                </a:lnTo>
                <a:lnTo>
                  <a:pt x="2481" y="583"/>
                </a:lnTo>
                <a:lnTo>
                  <a:pt x="2500" y="592"/>
                </a:lnTo>
                <a:lnTo>
                  <a:pt x="2522" y="602"/>
                </a:lnTo>
                <a:lnTo>
                  <a:pt x="2541" y="611"/>
                </a:lnTo>
                <a:lnTo>
                  <a:pt x="2560" y="617"/>
                </a:lnTo>
                <a:lnTo>
                  <a:pt x="2582" y="627"/>
                </a:lnTo>
                <a:lnTo>
                  <a:pt x="2601" y="636"/>
                </a:lnTo>
                <a:lnTo>
                  <a:pt x="2620" y="643"/>
                </a:lnTo>
                <a:lnTo>
                  <a:pt x="2642" y="652"/>
                </a:lnTo>
                <a:lnTo>
                  <a:pt x="2661" y="662"/>
                </a:lnTo>
                <a:lnTo>
                  <a:pt x="2683" y="668"/>
                </a:lnTo>
                <a:lnTo>
                  <a:pt x="2702" y="678"/>
                </a:lnTo>
                <a:lnTo>
                  <a:pt x="2721" y="684"/>
                </a:lnTo>
                <a:lnTo>
                  <a:pt x="2743" y="693"/>
                </a:lnTo>
                <a:lnTo>
                  <a:pt x="2762" y="700"/>
                </a:lnTo>
                <a:lnTo>
                  <a:pt x="2781" y="706"/>
                </a:lnTo>
                <a:lnTo>
                  <a:pt x="2803" y="712"/>
                </a:lnTo>
                <a:lnTo>
                  <a:pt x="2822" y="719"/>
                </a:lnTo>
                <a:lnTo>
                  <a:pt x="2841" y="722"/>
                </a:lnTo>
                <a:lnTo>
                  <a:pt x="2863" y="728"/>
                </a:lnTo>
                <a:lnTo>
                  <a:pt x="2882" y="731"/>
                </a:lnTo>
                <a:lnTo>
                  <a:pt x="2905" y="734"/>
                </a:lnTo>
                <a:lnTo>
                  <a:pt x="2924" y="738"/>
                </a:lnTo>
                <a:lnTo>
                  <a:pt x="2943" y="738"/>
                </a:lnTo>
                <a:lnTo>
                  <a:pt x="2965" y="741"/>
                </a:lnTo>
                <a:lnTo>
                  <a:pt x="2984" y="741"/>
                </a:lnTo>
                <a:lnTo>
                  <a:pt x="3003" y="744"/>
                </a:lnTo>
                <a:lnTo>
                  <a:pt x="3025" y="744"/>
                </a:lnTo>
                <a:lnTo>
                  <a:pt x="3044" y="744"/>
                </a:lnTo>
                <a:lnTo>
                  <a:pt x="3066" y="744"/>
                </a:lnTo>
                <a:lnTo>
                  <a:pt x="3085" y="744"/>
                </a:lnTo>
                <a:lnTo>
                  <a:pt x="3104" y="744"/>
                </a:lnTo>
                <a:lnTo>
                  <a:pt x="3126" y="744"/>
                </a:lnTo>
                <a:lnTo>
                  <a:pt x="3145" y="744"/>
                </a:lnTo>
                <a:lnTo>
                  <a:pt x="3164" y="744"/>
                </a:lnTo>
                <a:lnTo>
                  <a:pt x="3186" y="744"/>
                </a:lnTo>
                <a:lnTo>
                  <a:pt x="3205" y="744"/>
                </a:lnTo>
                <a:lnTo>
                  <a:pt x="3227" y="744"/>
                </a:lnTo>
                <a:lnTo>
                  <a:pt x="3246" y="744"/>
                </a:lnTo>
                <a:lnTo>
                  <a:pt x="3265" y="744"/>
                </a:lnTo>
                <a:lnTo>
                  <a:pt x="3287" y="744"/>
                </a:lnTo>
                <a:lnTo>
                  <a:pt x="3306" y="744"/>
                </a:lnTo>
                <a:lnTo>
                  <a:pt x="3325" y="744"/>
                </a:lnTo>
                <a:lnTo>
                  <a:pt x="3348" y="747"/>
                </a:lnTo>
                <a:lnTo>
                  <a:pt x="3367" y="747"/>
                </a:lnTo>
                <a:lnTo>
                  <a:pt x="3386" y="747"/>
                </a:lnTo>
                <a:lnTo>
                  <a:pt x="3408" y="747"/>
                </a:lnTo>
                <a:lnTo>
                  <a:pt x="3427" y="747"/>
                </a:lnTo>
                <a:lnTo>
                  <a:pt x="3449" y="747"/>
                </a:lnTo>
                <a:lnTo>
                  <a:pt x="3468" y="747"/>
                </a:lnTo>
                <a:lnTo>
                  <a:pt x="3487" y="750"/>
                </a:lnTo>
                <a:lnTo>
                  <a:pt x="3509" y="750"/>
                </a:lnTo>
                <a:lnTo>
                  <a:pt x="3528" y="750"/>
                </a:lnTo>
                <a:lnTo>
                  <a:pt x="3547" y="750"/>
                </a:lnTo>
                <a:lnTo>
                  <a:pt x="3569" y="753"/>
                </a:lnTo>
                <a:lnTo>
                  <a:pt x="3588" y="753"/>
                </a:lnTo>
                <a:lnTo>
                  <a:pt x="3610" y="753"/>
                </a:lnTo>
                <a:lnTo>
                  <a:pt x="3629" y="753"/>
                </a:lnTo>
                <a:lnTo>
                  <a:pt x="3648" y="757"/>
                </a:lnTo>
                <a:lnTo>
                  <a:pt x="3670" y="757"/>
                </a:lnTo>
                <a:lnTo>
                  <a:pt x="3689" y="757"/>
                </a:lnTo>
                <a:lnTo>
                  <a:pt x="3708" y="760"/>
                </a:lnTo>
                <a:lnTo>
                  <a:pt x="3730" y="760"/>
                </a:lnTo>
                <a:lnTo>
                  <a:pt x="3749" y="760"/>
                </a:lnTo>
                <a:lnTo>
                  <a:pt x="3772" y="760"/>
                </a:lnTo>
                <a:lnTo>
                  <a:pt x="3791" y="760"/>
                </a:lnTo>
                <a:lnTo>
                  <a:pt x="3810" y="763"/>
                </a:lnTo>
                <a:lnTo>
                  <a:pt x="3832" y="763"/>
                </a:lnTo>
                <a:lnTo>
                  <a:pt x="3851" y="763"/>
                </a:lnTo>
                <a:lnTo>
                  <a:pt x="3870" y="763"/>
                </a:lnTo>
                <a:lnTo>
                  <a:pt x="3892" y="763"/>
                </a:lnTo>
                <a:lnTo>
                  <a:pt x="3911" y="763"/>
                </a:lnTo>
                <a:lnTo>
                  <a:pt x="3930" y="763"/>
                </a:lnTo>
                <a:lnTo>
                  <a:pt x="3952" y="763"/>
                </a:lnTo>
                <a:lnTo>
                  <a:pt x="3971" y="763"/>
                </a:lnTo>
                <a:lnTo>
                  <a:pt x="3993" y="763"/>
                </a:lnTo>
                <a:lnTo>
                  <a:pt x="4012" y="763"/>
                </a:lnTo>
                <a:lnTo>
                  <a:pt x="0" y="763"/>
                </a:lnTo>
                <a:close/>
              </a:path>
            </a:pathLst>
          </a:custGeom>
          <a:solidFill>
            <a:srgbClr val="c8ffc8"/>
          </a:solidFill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20760" y="17378280"/>
            <a:ext cx="6153120" cy="1211400"/>
          </a:xfrm>
          <a:custGeom>
            <a:avLst/>
            <a:gdLst/>
            <a:ahLst/>
            <a:rect l="l" t="t" r="r" b="b"/>
            <a:pathLst>
              <a:path w="3876" h="763">
                <a:moveTo>
                  <a:pt x="0" y="763"/>
                </a:moveTo>
                <a:lnTo>
                  <a:pt x="22" y="763"/>
                </a:lnTo>
                <a:lnTo>
                  <a:pt x="41" y="763"/>
                </a:lnTo>
                <a:lnTo>
                  <a:pt x="60" y="763"/>
                </a:lnTo>
                <a:lnTo>
                  <a:pt x="82" y="763"/>
                </a:lnTo>
                <a:lnTo>
                  <a:pt x="101" y="763"/>
                </a:lnTo>
                <a:lnTo>
                  <a:pt x="120" y="763"/>
                </a:lnTo>
                <a:lnTo>
                  <a:pt x="142" y="763"/>
                </a:lnTo>
                <a:lnTo>
                  <a:pt x="161" y="763"/>
                </a:lnTo>
                <a:lnTo>
                  <a:pt x="184" y="763"/>
                </a:lnTo>
                <a:lnTo>
                  <a:pt x="203" y="763"/>
                </a:lnTo>
                <a:lnTo>
                  <a:pt x="222" y="760"/>
                </a:lnTo>
                <a:lnTo>
                  <a:pt x="244" y="760"/>
                </a:lnTo>
                <a:lnTo>
                  <a:pt x="263" y="760"/>
                </a:lnTo>
                <a:lnTo>
                  <a:pt x="282" y="760"/>
                </a:lnTo>
                <a:lnTo>
                  <a:pt x="304" y="760"/>
                </a:lnTo>
                <a:lnTo>
                  <a:pt x="323" y="757"/>
                </a:lnTo>
                <a:lnTo>
                  <a:pt x="342" y="757"/>
                </a:lnTo>
                <a:lnTo>
                  <a:pt x="364" y="757"/>
                </a:lnTo>
                <a:lnTo>
                  <a:pt x="383" y="753"/>
                </a:lnTo>
                <a:lnTo>
                  <a:pt x="405" y="753"/>
                </a:lnTo>
                <a:lnTo>
                  <a:pt x="424" y="750"/>
                </a:lnTo>
                <a:lnTo>
                  <a:pt x="443" y="750"/>
                </a:lnTo>
                <a:lnTo>
                  <a:pt x="465" y="747"/>
                </a:lnTo>
                <a:lnTo>
                  <a:pt x="484" y="747"/>
                </a:lnTo>
                <a:lnTo>
                  <a:pt x="503" y="744"/>
                </a:lnTo>
                <a:lnTo>
                  <a:pt x="525" y="741"/>
                </a:lnTo>
                <a:lnTo>
                  <a:pt x="544" y="738"/>
                </a:lnTo>
                <a:lnTo>
                  <a:pt x="566" y="734"/>
                </a:lnTo>
                <a:lnTo>
                  <a:pt x="585" y="731"/>
                </a:lnTo>
                <a:lnTo>
                  <a:pt x="604" y="728"/>
                </a:lnTo>
                <a:lnTo>
                  <a:pt x="627" y="725"/>
                </a:lnTo>
                <a:lnTo>
                  <a:pt x="646" y="722"/>
                </a:lnTo>
                <a:lnTo>
                  <a:pt x="665" y="719"/>
                </a:lnTo>
                <a:lnTo>
                  <a:pt x="687" y="715"/>
                </a:lnTo>
                <a:lnTo>
                  <a:pt x="706" y="709"/>
                </a:lnTo>
                <a:lnTo>
                  <a:pt x="728" y="706"/>
                </a:lnTo>
                <a:lnTo>
                  <a:pt x="747" y="700"/>
                </a:lnTo>
                <a:lnTo>
                  <a:pt x="766" y="693"/>
                </a:lnTo>
                <a:lnTo>
                  <a:pt x="788" y="687"/>
                </a:lnTo>
                <a:lnTo>
                  <a:pt x="807" y="681"/>
                </a:lnTo>
                <a:lnTo>
                  <a:pt x="826" y="674"/>
                </a:lnTo>
                <a:lnTo>
                  <a:pt x="848" y="665"/>
                </a:lnTo>
                <a:lnTo>
                  <a:pt x="867" y="659"/>
                </a:lnTo>
                <a:lnTo>
                  <a:pt x="886" y="649"/>
                </a:lnTo>
                <a:lnTo>
                  <a:pt x="908" y="643"/>
                </a:lnTo>
                <a:lnTo>
                  <a:pt x="927" y="633"/>
                </a:lnTo>
                <a:lnTo>
                  <a:pt x="949" y="624"/>
                </a:lnTo>
                <a:lnTo>
                  <a:pt x="968" y="614"/>
                </a:lnTo>
                <a:lnTo>
                  <a:pt x="987" y="605"/>
                </a:lnTo>
                <a:lnTo>
                  <a:pt x="1009" y="598"/>
                </a:lnTo>
                <a:lnTo>
                  <a:pt x="1028" y="589"/>
                </a:lnTo>
                <a:lnTo>
                  <a:pt x="1047" y="579"/>
                </a:lnTo>
                <a:lnTo>
                  <a:pt x="1070" y="570"/>
                </a:lnTo>
                <a:lnTo>
                  <a:pt x="1089" y="560"/>
                </a:lnTo>
                <a:lnTo>
                  <a:pt x="1111" y="551"/>
                </a:lnTo>
                <a:lnTo>
                  <a:pt x="1130" y="541"/>
                </a:lnTo>
                <a:lnTo>
                  <a:pt x="1149" y="532"/>
                </a:lnTo>
                <a:lnTo>
                  <a:pt x="1171" y="522"/>
                </a:lnTo>
                <a:lnTo>
                  <a:pt x="1190" y="513"/>
                </a:lnTo>
                <a:lnTo>
                  <a:pt x="1209" y="507"/>
                </a:lnTo>
                <a:lnTo>
                  <a:pt x="1231" y="497"/>
                </a:lnTo>
                <a:lnTo>
                  <a:pt x="1250" y="488"/>
                </a:lnTo>
                <a:lnTo>
                  <a:pt x="1272" y="481"/>
                </a:lnTo>
                <a:lnTo>
                  <a:pt x="1291" y="472"/>
                </a:lnTo>
                <a:lnTo>
                  <a:pt x="1310" y="466"/>
                </a:lnTo>
                <a:lnTo>
                  <a:pt x="1332" y="459"/>
                </a:lnTo>
                <a:lnTo>
                  <a:pt x="1351" y="453"/>
                </a:lnTo>
                <a:lnTo>
                  <a:pt x="1370" y="450"/>
                </a:lnTo>
                <a:lnTo>
                  <a:pt x="1392" y="443"/>
                </a:lnTo>
                <a:lnTo>
                  <a:pt x="1411" y="437"/>
                </a:lnTo>
                <a:lnTo>
                  <a:pt x="1433" y="431"/>
                </a:lnTo>
                <a:lnTo>
                  <a:pt x="1452" y="428"/>
                </a:lnTo>
                <a:lnTo>
                  <a:pt x="1471" y="421"/>
                </a:lnTo>
                <a:lnTo>
                  <a:pt x="1493" y="412"/>
                </a:lnTo>
                <a:lnTo>
                  <a:pt x="1512" y="405"/>
                </a:lnTo>
                <a:lnTo>
                  <a:pt x="1531" y="393"/>
                </a:lnTo>
                <a:lnTo>
                  <a:pt x="1554" y="383"/>
                </a:lnTo>
                <a:lnTo>
                  <a:pt x="1573" y="367"/>
                </a:lnTo>
                <a:lnTo>
                  <a:pt x="1592" y="348"/>
                </a:lnTo>
                <a:lnTo>
                  <a:pt x="1614" y="329"/>
                </a:lnTo>
                <a:lnTo>
                  <a:pt x="1633" y="307"/>
                </a:lnTo>
                <a:lnTo>
                  <a:pt x="1655" y="282"/>
                </a:lnTo>
                <a:lnTo>
                  <a:pt x="1674" y="257"/>
                </a:lnTo>
                <a:lnTo>
                  <a:pt x="1693" y="228"/>
                </a:lnTo>
                <a:lnTo>
                  <a:pt x="1715" y="197"/>
                </a:lnTo>
                <a:lnTo>
                  <a:pt x="1734" y="168"/>
                </a:lnTo>
                <a:lnTo>
                  <a:pt x="1753" y="140"/>
                </a:lnTo>
                <a:lnTo>
                  <a:pt x="1775" y="111"/>
                </a:lnTo>
                <a:lnTo>
                  <a:pt x="1794" y="83"/>
                </a:lnTo>
                <a:lnTo>
                  <a:pt x="1816" y="61"/>
                </a:lnTo>
                <a:lnTo>
                  <a:pt x="1835" y="38"/>
                </a:lnTo>
                <a:lnTo>
                  <a:pt x="1854" y="23"/>
                </a:lnTo>
                <a:lnTo>
                  <a:pt x="1876" y="10"/>
                </a:lnTo>
                <a:lnTo>
                  <a:pt x="1895" y="4"/>
                </a:lnTo>
                <a:lnTo>
                  <a:pt x="1914" y="0"/>
                </a:lnTo>
                <a:lnTo>
                  <a:pt x="1936" y="0"/>
                </a:lnTo>
                <a:lnTo>
                  <a:pt x="1955" y="7"/>
                </a:lnTo>
                <a:lnTo>
                  <a:pt x="1978" y="19"/>
                </a:lnTo>
                <a:lnTo>
                  <a:pt x="1997" y="32"/>
                </a:lnTo>
                <a:lnTo>
                  <a:pt x="2016" y="51"/>
                </a:lnTo>
                <a:lnTo>
                  <a:pt x="2038" y="73"/>
                </a:lnTo>
                <a:lnTo>
                  <a:pt x="2057" y="95"/>
                </a:lnTo>
                <a:lnTo>
                  <a:pt x="2076" y="124"/>
                </a:lnTo>
                <a:lnTo>
                  <a:pt x="2098" y="152"/>
                </a:lnTo>
                <a:lnTo>
                  <a:pt x="2117" y="181"/>
                </a:lnTo>
                <a:lnTo>
                  <a:pt x="2136" y="212"/>
                </a:lnTo>
                <a:lnTo>
                  <a:pt x="2158" y="244"/>
                </a:lnTo>
                <a:lnTo>
                  <a:pt x="2177" y="273"/>
                </a:lnTo>
                <a:lnTo>
                  <a:pt x="2199" y="304"/>
                </a:lnTo>
                <a:lnTo>
                  <a:pt x="2218" y="336"/>
                </a:lnTo>
                <a:lnTo>
                  <a:pt x="2237" y="364"/>
                </a:lnTo>
                <a:lnTo>
                  <a:pt x="2259" y="390"/>
                </a:lnTo>
                <a:lnTo>
                  <a:pt x="2278" y="418"/>
                </a:lnTo>
                <a:lnTo>
                  <a:pt x="2297" y="440"/>
                </a:lnTo>
                <a:lnTo>
                  <a:pt x="2319" y="462"/>
                </a:lnTo>
                <a:lnTo>
                  <a:pt x="2338" y="485"/>
                </a:lnTo>
                <a:lnTo>
                  <a:pt x="2360" y="504"/>
                </a:lnTo>
                <a:lnTo>
                  <a:pt x="2379" y="519"/>
                </a:lnTo>
                <a:lnTo>
                  <a:pt x="2398" y="535"/>
                </a:lnTo>
                <a:lnTo>
                  <a:pt x="2421" y="548"/>
                </a:lnTo>
                <a:lnTo>
                  <a:pt x="2440" y="560"/>
                </a:lnTo>
                <a:lnTo>
                  <a:pt x="2458" y="570"/>
                </a:lnTo>
                <a:lnTo>
                  <a:pt x="2481" y="583"/>
                </a:lnTo>
                <a:lnTo>
                  <a:pt x="2500" y="592"/>
                </a:lnTo>
                <a:lnTo>
                  <a:pt x="2522" y="602"/>
                </a:lnTo>
                <a:lnTo>
                  <a:pt x="2541" y="611"/>
                </a:lnTo>
                <a:lnTo>
                  <a:pt x="2560" y="617"/>
                </a:lnTo>
                <a:lnTo>
                  <a:pt x="2582" y="627"/>
                </a:lnTo>
                <a:lnTo>
                  <a:pt x="2601" y="636"/>
                </a:lnTo>
                <a:lnTo>
                  <a:pt x="2620" y="643"/>
                </a:lnTo>
                <a:lnTo>
                  <a:pt x="2642" y="652"/>
                </a:lnTo>
                <a:lnTo>
                  <a:pt x="2661" y="662"/>
                </a:lnTo>
                <a:lnTo>
                  <a:pt x="2683" y="668"/>
                </a:lnTo>
                <a:lnTo>
                  <a:pt x="2702" y="678"/>
                </a:lnTo>
                <a:lnTo>
                  <a:pt x="2721" y="684"/>
                </a:lnTo>
                <a:lnTo>
                  <a:pt x="2743" y="693"/>
                </a:lnTo>
                <a:lnTo>
                  <a:pt x="2762" y="700"/>
                </a:lnTo>
                <a:lnTo>
                  <a:pt x="2781" y="706"/>
                </a:lnTo>
                <a:lnTo>
                  <a:pt x="2803" y="712"/>
                </a:lnTo>
                <a:lnTo>
                  <a:pt x="2822" y="719"/>
                </a:lnTo>
                <a:lnTo>
                  <a:pt x="2841" y="722"/>
                </a:lnTo>
                <a:lnTo>
                  <a:pt x="2863" y="728"/>
                </a:lnTo>
                <a:lnTo>
                  <a:pt x="2882" y="731"/>
                </a:lnTo>
                <a:lnTo>
                  <a:pt x="2905" y="734"/>
                </a:lnTo>
                <a:lnTo>
                  <a:pt x="2924" y="738"/>
                </a:lnTo>
                <a:lnTo>
                  <a:pt x="2943" y="738"/>
                </a:lnTo>
                <a:lnTo>
                  <a:pt x="2965" y="741"/>
                </a:lnTo>
                <a:lnTo>
                  <a:pt x="2984" y="741"/>
                </a:lnTo>
                <a:lnTo>
                  <a:pt x="3003" y="744"/>
                </a:lnTo>
                <a:lnTo>
                  <a:pt x="3025" y="744"/>
                </a:lnTo>
                <a:lnTo>
                  <a:pt x="3044" y="744"/>
                </a:lnTo>
                <a:lnTo>
                  <a:pt x="3066" y="744"/>
                </a:lnTo>
                <a:lnTo>
                  <a:pt x="3085" y="744"/>
                </a:lnTo>
                <a:lnTo>
                  <a:pt x="3104" y="744"/>
                </a:lnTo>
                <a:lnTo>
                  <a:pt x="3126" y="744"/>
                </a:lnTo>
                <a:lnTo>
                  <a:pt x="3145" y="744"/>
                </a:lnTo>
                <a:lnTo>
                  <a:pt x="3164" y="744"/>
                </a:lnTo>
                <a:lnTo>
                  <a:pt x="3186" y="744"/>
                </a:lnTo>
                <a:lnTo>
                  <a:pt x="3205" y="744"/>
                </a:lnTo>
                <a:lnTo>
                  <a:pt x="3227" y="744"/>
                </a:lnTo>
                <a:lnTo>
                  <a:pt x="3246" y="744"/>
                </a:lnTo>
                <a:lnTo>
                  <a:pt x="3265" y="744"/>
                </a:lnTo>
                <a:lnTo>
                  <a:pt x="3287" y="744"/>
                </a:lnTo>
                <a:lnTo>
                  <a:pt x="3306" y="744"/>
                </a:lnTo>
                <a:lnTo>
                  <a:pt x="3325" y="744"/>
                </a:lnTo>
                <a:lnTo>
                  <a:pt x="3348" y="747"/>
                </a:lnTo>
                <a:lnTo>
                  <a:pt x="3367" y="747"/>
                </a:lnTo>
                <a:lnTo>
                  <a:pt x="3386" y="747"/>
                </a:lnTo>
                <a:lnTo>
                  <a:pt x="3408" y="747"/>
                </a:lnTo>
                <a:lnTo>
                  <a:pt x="3427" y="747"/>
                </a:lnTo>
                <a:lnTo>
                  <a:pt x="3449" y="747"/>
                </a:lnTo>
                <a:lnTo>
                  <a:pt x="3468" y="747"/>
                </a:lnTo>
                <a:lnTo>
                  <a:pt x="3487" y="750"/>
                </a:lnTo>
                <a:lnTo>
                  <a:pt x="3509" y="750"/>
                </a:lnTo>
                <a:lnTo>
                  <a:pt x="3528" y="750"/>
                </a:lnTo>
                <a:lnTo>
                  <a:pt x="3547" y="750"/>
                </a:lnTo>
                <a:lnTo>
                  <a:pt x="3569" y="753"/>
                </a:lnTo>
                <a:lnTo>
                  <a:pt x="3588" y="753"/>
                </a:lnTo>
                <a:lnTo>
                  <a:pt x="3610" y="753"/>
                </a:lnTo>
                <a:lnTo>
                  <a:pt x="3629" y="753"/>
                </a:lnTo>
                <a:lnTo>
                  <a:pt x="3648" y="757"/>
                </a:lnTo>
                <a:lnTo>
                  <a:pt x="3670" y="757"/>
                </a:lnTo>
                <a:lnTo>
                  <a:pt x="3689" y="757"/>
                </a:lnTo>
                <a:lnTo>
                  <a:pt x="3708" y="760"/>
                </a:lnTo>
                <a:lnTo>
                  <a:pt x="3730" y="760"/>
                </a:lnTo>
                <a:lnTo>
                  <a:pt x="3749" y="760"/>
                </a:lnTo>
                <a:lnTo>
                  <a:pt x="3772" y="760"/>
                </a:lnTo>
                <a:lnTo>
                  <a:pt x="3791" y="760"/>
                </a:lnTo>
                <a:lnTo>
                  <a:pt x="3810" y="763"/>
                </a:lnTo>
                <a:lnTo>
                  <a:pt x="3832" y="763"/>
                </a:lnTo>
                <a:lnTo>
                  <a:pt x="3851" y="763"/>
                </a:lnTo>
                <a:lnTo>
                  <a:pt x="3870" y="763"/>
                </a:lnTo>
                <a:lnTo>
                  <a:pt x="3876" y="763"/>
                </a:lnTo>
              </a:path>
            </a:pathLst>
          </a:custGeom>
          <a:noFill/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19440" y="18589680"/>
            <a:ext cx="14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24280" y="18579960"/>
            <a:ext cx="11160" cy="9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3120840" y="18559440"/>
            <a:ext cx="29880" cy="302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341520" y="18564120"/>
            <a:ext cx="25560" cy="255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3578040" y="18584640"/>
            <a:ext cx="4680" cy="4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230720" y="18589680"/>
            <a:ext cx="14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4432320" y="18573840"/>
            <a:ext cx="14400" cy="15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6680" y="18504000"/>
            <a:ext cx="81000" cy="85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4648320" y="18357840"/>
            <a:ext cx="225360" cy="231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92600" y="18192600"/>
            <a:ext cx="397080" cy="3970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4722840" y="18006480"/>
            <a:ext cx="582480" cy="582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748040" y="17816400"/>
            <a:ext cx="773280" cy="7732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5702040" y="18554400"/>
            <a:ext cx="34920" cy="349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4773240" y="17624160"/>
            <a:ext cx="677880" cy="679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788000" y="17424360"/>
            <a:ext cx="608040" cy="608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73760" y="18513360"/>
            <a:ext cx="79200" cy="76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6138720" y="18559440"/>
            <a:ext cx="30240" cy="302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4808160" y="17227080"/>
            <a:ext cx="552600" cy="554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22920" y="17027640"/>
            <a:ext cx="512640" cy="5126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84960" y="18589680"/>
            <a:ext cx="14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 flipV="1">
            <a:off x="4833720" y="16825680"/>
            <a:ext cx="476280" cy="477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48120" y="16625880"/>
            <a:ext cx="443160" cy="4413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 flipV="1">
            <a:off x="4863600" y="16423920"/>
            <a:ext cx="411480" cy="4129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73680" y="16219440"/>
            <a:ext cx="387360" cy="3808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4888080" y="16017480"/>
            <a:ext cx="352080" cy="3510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98880" y="15811560"/>
            <a:ext cx="325440" cy="3268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 flipV="1">
            <a:off x="4912920" y="15611400"/>
            <a:ext cx="297000" cy="2952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29120" y="15409800"/>
            <a:ext cx="265320" cy="27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938840" y="15209640"/>
            <a:ext cx="241200" cy="2394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4680" y="15008400"/>
            <a:ext cx="209520" cy="2062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4968360" y="14806440"/>
            <a:ext cx="181080" cy="1764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89600" y="14611320"/>
            <a:ext cx="139680" cy="1350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5014800" y="14420880"/>
            <a:ext cx="84240" cy="85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12880" y="14314320"/>
            <a:ext cx="3797280" cy="4275360"/>
          </a:xfrm>
          <a:custGeom>
            <a:avLst/>
            <a:gdLst/>
            <a:ahLst/>
            <a:rect l="l" t="t" r="r" b="b"/>
            <a:pathLst>
              <a:path w="2392" h="2693">
                <a:moveTo>
                  <a:pt x="0" y="2693"/>
                </a:moveTo>
                <a:lnTo>
                  <a:pt x="13" y="2693"/>
                </a:lnTo>
                <a:lnTo>
                  <a:pt x="25" y="2693"/>
                </a:lnTo>
                <a:lnTo>
                  <a:pt x="35" y="2693"/>
                </a:lnTo>
                <a:lnTo>
                  <a:pt x="48" y="2693"/>
                </a:lnTo>
                <a:lnTo>
                  <a:pt x="60" y="2693"/>
                </a:lnTo>
                <a:lnTo>
                  <a:pt x="73" y="2693"/>
                </a:lnTo>
                <a:lnTo>
                  <a:pt x="86" y="2693"/>
                </a:lnTo>
                <a:lnTo>
                  <a:pt x="95" y="2693"/>
                </a:lnTo>
                <a:lnTo>
                  <a:pt x="108" y="2690"/>
                </a:lnTo>
                <a:lnTo>
                  <a:pt x="120" y="2690"/>
                </a:lnTo>
                <a:lnTo>
                  <a:pt x="133" y="2690"/>
                </a:lnTo>
                <a:lnTo>
                  <a:pt x="146" y="2690"/>
                </a:lnTo>
                <a:lnTo>
                  <a:pt x="155" y="2690"/>
                </a:lnTo>
                <a:lnTo>
                  <a:pt x="168" y="2687"/>
                </a:lnTo>
                <a:lnTo>
                  <a:pt x="181" y="2687"/>
                </a:lnTo>
                <a:lnTo>
                  <a:pt x="193" y="2687"/>
                </a:lnTo>
                <a:lnTo>
                  <a:pt x="206" y="2683"/>
                </a:lnTo>
                <a:lnTo>
                  <a:pt x="215" y="2683"/>
                </a:lnTo>
                <a:lnTo>
                  <a:pt x="228" y="2683"/>
                </a:lnTo>
                <a:lnTo>
                  <a:pt x="241" y="2680"/>
                </a:lnTo>
                <a:lnTo>
                  <a:pt x="253" y="2680"/>
                </a:lnTo>
                <a:lnTo>
                  <a:pt x="266" y="2680"/>
                </a:lnTo>
                <a:lnTo>
                  <a:pt x="275" y="2677"/>
                </a:lnTo>
                <a:lnTo>
                  <a:pt x="288" y="2677"/>
                </a:lnTo>
                <a:lnTo>
                  <a:pt x="301" y="2677"/>
                </a:lnTo>
                <a:lnTo>
                  <a:pt x="313" y="2674"/>
                </a:lnTo>
                <a:lnTo>
                  <a:pt x="326" y="2674"/>
                </a:lnTo>
                <a:lnTo>
                  <a:pt x="336" y="2674"/>
                </a:lnTo>
                <a:lnTo>
                  <a:pt x="348" y="2674"/>
                </a:lnTo>
                <a:lnTo>
                  <a:pt x="361" y="2674"/>
                </a:lnTo>
                <a:lnTo>
                  <a:pt x="374" y="2674"/>
                </a:lnTo>
                <a:lnTo>
                  <a:pt x="386" y="2674"/>
                </a:lnTo>
                <a:lnTo>
                  <a:pt x="396" y="2674"/>
                </a:lnTo>
                <a:lnTo>
                  <a:pt x="408" y="2674"/>
                </a:lnTo>
                <a:lnTo>
                  <a:pt x="421" y="2674"/>
                </a:lnTo>
                <a:lnTo>
                  <a:pt x="434" y="2674"/>
                </a:lnTo>
                <a:lnTo>
                  <a:pt x="443" y="2677"/>
                </a:lnTo>
                <a:lnTo>
                  <a:pt x="456" y="2677"/>
                </a:lnTo>
                <a:lnTo>
                  <a:pt x="468" y="2677"/>
                </a:lnTo>
                <a:lnTo>
                  <a:pt x="481" y="2680"/>
                </a:lnTo>
                <a:lnTo>
                  <a:pt x="494" y="2680"/>
                </a:lnTo>
                <a:lnTo>
                  <a:pt x="503" y="2680"/>
                </a:lnTo>
                <a:lnTo>
                  <a:pt x="516" y="2683"/>
                </a:lnTo>
                <a:lnTo>
                  <a:pt x="529" y="2683"/>
                </a:lnTo>
                <a:lnTo>
                  <a:pt x="541" y="2683"/>
                </a:lnTo>
                <a:lnTo>
                  <a:pt x="554" y="2687"/>
                </a:lnTo>
                <a:lnTo>
                  <a:pt x="563" y="2687"/>
                </a:lnTo>
                <a:lnTo>
                  <a:pt x="576" y="2687"/>
                </a:lnTo>
                <a:lnTo>
                  <a:pt x="589" y="2690"/>
                </a:lnTo>
                <a:lnTo>
                  <a:pt x="601" y="2690"/>
                </a:lnTo>
                <a:lnTo>
                  <a:pt x="614" y="2690"/>
                </a:lnTo>
                <a:lnTo>
                  <a:pt x="623" y="2690"/>
                </a:lnTo>
                <a:lnTo>
                  <a:pt x="636" y="2690"/>
                </a:lnTo>
                <a:lnTo>
                  <a:pt x="649" y="2693"/>
                </a:lnTo>
                <a:lnTo>
                  <a:pt x="661" y="2693"/>
                </a:lnTo>
                <a:lnTo>
                  <a:pt x="674" y="2693"/>
                </a:lnTo>
                <a:lnTo>
                  <a:pt x="684" y="2693"/>
                </a:lnTo>
                <a:lnTo>
                  <a:pt x="696" y="2693"/>
                </a:lnTo>
                <a:lnTo>
                  <a:pt x="709" y="2693"/>
                </a:lnTo>
                <a:lnTo>
                  <a:pt x="722" y="2693"/>
                </a:lnTo>
                <a:lnTo>
                  <a:pt x="734" y="2693"/>
                </a:lnTo>
                <a:lnTo>
                  <a:pt x="744" y="2693"/>
                </a:lnTo>
                <a:lnTo>
                  <a:pt x="756" y="2693"/>
                </a:lnTo>
                <a:lnTo>
                  <a:pt x="769" y="2693"/>
                </a:lnTo>
                <a:lnTo>
                  <a:pt x="782" y="2693"/>
                </a:lnTo>
                <a:lnTo>
                  <a:pt x="794" y="2693"/>
                </a:lnTo>
                <a:lnTo>
                  <a:pt x="804" y="2693"/>
                </a:lnTo>
                <a:lnTo>
                  <a:pt x="816" y="2693"/>
                </a:lnTo>
                <a:lnTo>
                  <a:pt x="829" y="2693"/>
                </a:lnTo>
                <a:lnTo>
                  <a:pt x="842" y="2693"/>
                </a:lnTo>
                <a:lnTo>
                  <a:pt x="854" y="2693"/>
                </a:lnTo>
                <a:lnTo>
                  <a:pt x="864" y="2693"/>
                </a:lnTo>
                <a:lnTo>
                  <a:pt x="877" y="2693"/>
                </a:lnTo>
                <a:lnTo>
                  <a:pt x="889" y="2693"/>
                </a:lnTo>
                <a:lnTo>
                  <a:pt x="902" y="2693"/>
                </a:lnTo>
                <a:lnTo>
                  <a:pt x="915" y="2693"/>
                </a:lnTo>
                <a:lnTo>
                  <a:pt x="924" y="2693"/>
                </a:lnTo>
                <a:lnTo>
                  <a:pt x="937" y="2693"/>
                </a:lnTo>
                <a:lnTo>
                  <a:pt x="949" y="2693"/>
                </a:lnTo>
                <a:lnTo>
                  <a:pt x="962" y="2693"/>
                </a:lnTo>
                <a:lnTo>
                  <a:pt x="975" y="2693"/>
                </a:lnTo>
                <a:lnTo>
                  <a:pt x="984" y="2693"/>
                </a:lnTo>
                <a:lnTo>
                  <a:pt x="997" y="2693"/>
                </a:lnTo>
                <a:lnTo>
                  <a:pt x="1009" y="2693"/>
                </a:lnTo>
                <a:lnTo>
                  <a:pt x="1022" y="2693"/>
                </a:lnTo>
                <a:lnTo>
                  <a:pt x="1035" y="2693"/>
                </a:lnTo>
                <a:lnTo>
                  <a:pt x="1044" y="2693"/>
                </a:lnTo>
                <a:lnTo>
                  <a:pt x="1057" y="2693"/>
                </a:lnTo>
                <a:lnTo>
                  <a:pt x="1070" y="2693"/>
                </a:lnTo>
                <a:lnTo>
                  <a:pt x="1082" y="2690"/>
                </a:lnTo>
                <a:lnTo>
                  <a:pt x="1095" y="2690"/>
                </a:lnTo>
                <a:lnTo>
                  <a:pt x="1104" y="2690"/>
                </a:lnTo>
                <a:lnTo>
                  <a:pt x="1117" y="2687"/>
                </a:lnTo>
                <a:lnTo>
                  <a:pt x="1130" y="2687"/>
                </a:lnTo>
                <a:lnTo>
                  <a:pt x="1142" y="2683"/>
                </a:lnTo>
                <a:lnTo>
                  <a:pt x="1155" y="2683"/>
                </a:lnTo>
                <a:lnTo>
                  <a:pt x="1165" y="2680"/>
                </a:lnTo>
                <a:lnTo>
                  <a:pt x="1177" y="2677"/>
                </a:lnTo>
                <a:lnTo>
                  <a:pt x="1190" y="2674"/>
                </a:lnTo>
                <a:lnTo>
                  <a:pt x="1202" y="2671"/>
                </a:lnTo>
                <a:lnTo>
                  <a:pt x="1215" y="2668"/>
                </a:lnTo>
                <a:lnTo>
                  <a:pt x="1225" y="2655"/>
                </a:lnTo>
                <a:lnTo>
                  <a:pt x="1237" y="2639"/>
                </a:lnTo>
                <a:lnTo>
                  <a:pt x="1250" y="2617"/>
                </a:lnTo>
                <a:lnTo>
                  <a:pt x="1263" y="2595"/>
                </a:lnTo>
                <a:lnTo>
                  <a:pt x="1275" y="2570"/>
                </a:lnTo>
                <a:lnTo>
                  <a:pt x="1285" y="2535"/>
                </a:lnTo>
                <a:lnTo>
                  <a:pt x="1297" y="2494"/>
                </a:lnTo>
                <a:lnTo>
                  <a:pt x="1310" y="2443"/>
                </a:lnTo>
                <a:lnTo>
                  <a:pt x="1323" y="2380"/>
                </a:lnTo>
                <a:lnTo>
                  <a:pt x="1335" y="2301"/>
                </a:lnTo>
                <a:lnTo>
                  <a:pt x="1345" y="2206"/>
                </a:lnTo>
                <a:lnTo>
                  <a:pt x="1358" y="2098"/>
                </a:lnTo>
                <a:lnTo>
                  <a:pt x="1370" y="1972"/>
                </a:lnTo>
                <a:lnTo>
                  <a:pt x="1383" y="1829"/>
                </a:lnTo>
                <a:lnTo>
                  <a:pt x="1395" y="1668"/>
                </a:lnTo>
                <a:lnTo>
                  <a:pt x="1405" y="1497"/>
                </a:lnTo>
                <a:lnTo>
                  <a:pt x="1418" y="1313"/>
                </a:lnTo>
                <a:lnTo>
                  <a:pt x="1430" y="1124"/>
                </a:lnTo>
                <a:lnTo>
                  <a:pt x="1443" y="931"/>
                </a:lnTo>
                <a:lnTo>
                  <a:pt x="1456" y="741"/>
                </a:lnTo>
                <a:lnTo>
                  <a:pt x="1465" y="560"/>
                </a:lnTo>
                <a:lnTo>
                  <a:pt x="1478" y="396"/>
                </a:lnTo>
                <a:lnTo>
                  <a:pt x="1490" y="253"/>
                </a:lnTo>
                <a:lnTo>
                  <a:pt x="1503" y="140"/>
                </a:lnTo>
                <a:lnTo>
                  <a:pt x="1516" y="57"/>
                </a:lnTo>
                <a:lnTo>
                  <a:pt x="1525" y="10"/>
                </a:lnTo>
                <a:lnTo>
                  <a:pt x="1538" y="0"/>
                </a:lnTo>
                <a:lnTo>
                  <a:pt x="1551" y="23"/>
                </a:lnTo>
                <a:lnTo>
                  <a:pt x="1563" y="79"/>
                </a:lnTo>
                <a:lnTo>
                  <a:pt x="1576" y="174"/>
                </a:lnTo>
                <a:lnTo>
                  <a:pt x="1585" y="295"/>
                </a:lnTo>
                <a:lnTo>
                  <a:pt x="1598" y="440"/>
                </a:lnTo>
                <a:lnTo>
                  <a:pt x="1611" y="605"/>
                </a:lnTo>
                <a:lnTo>
                  <a:pt x="1623" y="782"/>
                </a:lnTo>
                <a:lnTo>
                  <a:pt x="1636" y="962"/>
                </a:lnTo>
                <a:lnTo>
                  <a:pt x="1645" y="1149"/>
                </a:lnTo>
                <a:lnTo>
                  <a:pt x="1658" y="1329"/>
                </a:lnTo>
                <a:lnTo>
                  <a:pt x="1671" y="1503"/>
                </a:lnTo>
                <a:lnTo>
                  <a:pt x="1683" y="1668"/>
                </a:lnTo>
                <a:lnTo>
                  <a:pt x="1696" y="1817"/>
                </a:lnTo>
                <a:lnTo>
                  <a:pt x="1706" y="1956"/>
                </a:lnTo>
                <a:lnTo>
                  <a:pt x="1718" y="2076"/>
                </a:lnTo>
                <a:lnTo>
                  <a:pt x="1731" y="2184"/>
                </a:lnTo>
                <a:lnTo>
                  <a:pt x="1744" y="2278"/>
                </a:lnTo>
                <a:lnTo>
                  <a:pt x="1753" y="2358"/>
                </a:lnTo>
                <a:lnTo>
                  <a:pt x="1766" y="2421"/>
                </a:lnTo>
                <a:lnTo>
                  <a:pt x="1778" y="2478"/>
                </a:lnTo>
                <a:lnTo>
                  <a:pt x="1791" y="2525"/>
                </a:lnTo>
                <a:lnTo>
                  <a:pt x="1804" y="2563"/>
                </a:lnTo>
                <a:lnTo>
                  <a:pt x="1813" y="2601"/>
                </a:lnTo>
                <a:lnTo>
                  <a:pt x="1826" y="2627"/>
                </a:lnTo>
                <a:lnTo>
                  <a:pt x="1838" y="2642"/>
                </a:lnTo>
                <a:lnTo>
                  <a:pt x="1851" y="2652"/>
                </a:lnTo>
                <a:lnTo>
                  <a:pt x="1864" y="2658"/>
                </a:lnTo>
                <a:lnTo>
                  <a:pt x="1873" y="2664"/>
                </a:lnTo>
                <a:lnTo>
                  <a:pt x="1886" y="2668"/>
                </a:lnTo>
                <a:lnTo>
                  <a:pt x="1899" y="2671"/>
                </a:lnTo>
                <a:lnTo>
                  <a:pt x="1911" y="2671"/>
                </a:lnTo>
                <a:lnTo>
                  <a:pt x="1924" y="2671"/>
                </a:lnTo>
                <a:lnTo>
                  <a:pt x="1933" y="2671"/>
                </a:lnTo>
                <a:lnTo>
                  <a:pt x="1946" y="2671"/>
                </a:lnTo>
                <a:lnTo>
                  <a:pt x="1959" y="2668"/>
                </a:lnTo>
                <a:lnTo>
                  <a:pt x="1971" y="2664"/>
                </a:lnTo>
                <a:lnTo>
                  <a:pt x="1984" y="2661"/>
                </a:lnTo>
                <a:lnTo>
                  <a:pt x="1993" y="2658"/>
                </a:lnTo>
                <a:lnTo>
                  <a:pt x="2006" y="2655"/>
                </a:lnTo>
                <a:lnTo>
                  <a:pt x="2019" y="2652"/>
                </a:lnTo>
                <a:lnTo>
                  <a:pt x="2031" y="2649"/>
                </a:lnTo>
                <a:lnTo>
                  <a:pt x="2044" y="2645"/>
                </a:lnTo>
                <a:lnTo>
                  <a:pt x="2054" y="2645"/>
                </a:lnTo>
                <a:lnTo>
                  <a:pt x="2066" y="2642"/>
                </a:lnTo>
                <a:lnTo>
                  <a:pt x="2079" y="2642"/>
                </a:lnTo>
                <a:lnTo>
                  <a:pt x="2092" y="2642"/>
                </a:lnTo>
                <a:lnTo>
                  <a:pt x="2104" y="2642"/>
                </a:lnTo>
                <a:lnTo>
                  <a:pt x="2114" y="2645"/>
                </a:lnTo>
                <a:lnTo>
                  <a:pt x="2126" y="2649"/>
                </a:lnTo>
                <a:lnTo>
                  <a:pt x="2139" y="2652"/>
                </a:lnTo>
                <a:lnTo>
                  <a:pt x="2152" y="2655"/>
                </a:lnTo>
                <a:lnTo>
                  <a:pt x="2164" y="2658"/>
                </a:lnTo>
                <a:lnTo>
                  <a:pt x="2174" y="2661"/>
                </a:lnTo>
                <a:lnTo>
                  <a:pt x="2186" y="2664"/>
                </a:lnTo>
                <a:lnTo>
                  <a:pt x="2199" y="2668"/>
                </a:lnTo>
                <a:lnTo>
                  <a:pt x="2212" y="2671"/>
                </a:lnTo>
                <a:lnTo>
                  <a:pt x="2224" y="2674"/>
                </a:lnTo>
                <a:lnTo>
                  <a:pt x="2234" y="2677"/>
                </a:lnTo>
                <a:lnTo>
                  <a:pt x="2247" y="2680"/>
                </a:lnTo>
                <a:lnTo>
                  <a:pt x="2259" y="2683"/>
                </a:lnTo>
                <a:lnTo>
                  <a:pt x="2272" y="2687"/>
                </a:lnTo>
                <a:lnTo>
                  <a:pt x="2285" y="2687"/>
                </a:lnTo>
                <a:lnTo>
                  <a:pt x="2294" y="2690"/>
                </a:lnTo>
                <a:lnTo>
                  <a:pt x="2307" y="2690"/>
                </a:lnTo>
                <a:lnTo>
                  <a:pt x="2319" y="2690"/>
                </a:lnTo>
                <a:lnTo>
                  <a:pt x="2332" y="2690"/>
                </a:lnTo>
                <a:lnTo>
                  <a:pt x="2345" y="2693"/>
                </a:lnTo>
                <a:lnTo>
                  <a:pt x="2354" y="2693"/>
                </a:lnTo>
                <a:lnTo>
                  <a:pt x="2367" y="2693"/>
                </a:lnTo>
                <a:lnTo>
                  <a:pt x="2379" y="2693"/>
                </a:lnTo>
                <a:lnTo>
                  <a:pt x="2392" y="2693"/>
                </a:lnTo>
              </a:path>
            </a:pathLst>
          </a:custGeom>
          <a:noFill/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2715560" y="19819800"/>
            <a:ext cx="90900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Hook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642600" y="13925520"/>
            <a:ext cx="7107120" cy="483228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89172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80944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728600" y="18770760"/>
            <a:ext cx="180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5648120" y="18770760"/>
            <a:ext cx="1440" cy="9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891720" y="18770760"/>
            <a:ext cx="575640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809280" y="19141920"/>
            <a:ext cx="17136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1444040" y="19141920"/>
            <a:ext cx="683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363200" y="19141920"/>
            <a:ext cx="683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80920" y="19141920"/>
            <a:ext cx="683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30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229280" y="14420880"/>
            <a:ext cx="297864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Hooks per operatio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759960" y="14309640"/>
            <a:ext cx="1995480" cy="4280040"/>
          </a:xfrm>
          <a:custGeom>
            <a:avLst/>
            <a:gdLst/>
            <a:ahLst/>
            <a:rect l="l" t="t" r="r" b="b"/>
            <a:pathLst>
              <a:path w="1257" h="2696">
                <a:moveTo>
                  <a:pt x="0" y="2696"/>
                </a:moveTo>
                <a:lnTo>
                  <a:pt x="7" y="2696"/>
                </a:lnTo>
                <a:lnTo>
                  <a:pt x="13" y="2696"/>
                </a:lnTo>
                <a:lnTo>
                  <a:pt x="19" y="2696"/>
                </a:lnTo>
                <a:lnTo>
                  <a:pt x="26" y="2696"/>
                </a:lnTo>
                <a:lnTo>
                  <a:pt x="32" y="2696"/>
                </a:lnTo>
                <a:lnTo>
                  <a:pt x="38" y="2693"/>
                </a:lnTo>
                <a:lnTo>
                  <a:pt x="45" y="2693"/>
                </a:lnTo>
                <a:lnTo>
                  <a:pt x="51" y="2693"/>
                </a:lnTo>
                <a:lnTo>
                  <a:pt x="57" y="2693"/>
                </a:lnTo>
                <a:lnTo>
                  <a:pt x="64" y="2693"/>
                </a:lnTo>
                <a:lnTo>
                  <a:pt x="70" y="2690"/>
                </a:lnTo>
                <a:lnTo>
                  <a:pt x="76" y="2690"/>
                </a:lnTo>
                <a:lnTo>
                  <a:pt x="83" y="2686"/>
                </a:lnTo>
                <a:lnTo>
                  <a:pt x="89" y="2686"/>
                </a:lnTo>
                <a:lnTo>
                  <a:pt x="95" y="2683"/>
                </a:lnTo>
                <a:lnTo>
                  <a:pt x="102" y="2680"/>
                </a:lnTo>
                <a:lnTo>
                  <a:pt x="108" y="2677"/>
                </a:lnTo>
                <a:lnTo>
                  <a:pt x="114" y="2674"/>
                </a:lnTo>
                <a:lnTo>
                  <a:pt x="121" y="2671"/>
                </a:lnTo>
                <a:lnTo>
                  <a:pt x="127" y="2667"/>
                </a:lnTo>
                <a:lnTo>
                  <a:pt x="133" y="2664"/>
                </a:lnTo>
                <a:lnTo>
                  <a:pt x="140" y="2658"/>
                </a:lnTo>
                <a:lnTo>
                  <a:pt x="146" y="2648"/>
                </a:lnTo>
                <a:lnTo>
                  <a:pt x="152" y="2639"/>
                </a:lnTo>
                <a:lnTo>
                  <a:pt x="159" y="2630"/>
                </a:lnTo>
                <a:lnTo>
                  <a:pt x="165" y="2620"/>
                </a:lnTo>
                <a:lnTo>
                  <a:pt x="171" y="2607"/>
                </a:lnTo>
                <a:lnTo>
                  <a:pt x="178" y="2592"/>
                </a:lnTo>
                <a:lnTo>
                  <a:pt x="181" y="2573"/>
                </a:lnTo>
                <a:lnTo>
                  <a:pt x="187" y="2550"/>
                </a:lnTo>
                <a:lnTo>
                  <a:pt x="193" y="2525"/>
                </a:lnTo>
                <a:lnTo>
                  <a:pt x="200" y="2500"/>
                </a:lnTo>
                <a:lnTo>
                  <a:pt x="206" y="2468"/>
                </a:lnTo>
                <a:lnTo>
                  <a:pt x="212" y="2427"/>
                </a:lnTo>
                <a:lnTo>
                  <a:pt x="219" y="2380"/>
                </a:lnTo>
                <a:lnTo>
                  <a:pt x="225" y="2326"/>
                </a:lnTo>
                <a:lnTo>
                  <a:pt x="231" y="2272"/>
                </a:lnTo>
                <a:lnTo>
                  <a:pt x="238" y="2215"/>
                </a:lnTo>
                <a:lnTo>
                  <a:pt x="244" y="2149"/>
                </a:lnTo>
                <a:lnTo>
                  <a:pt x="250" y="2079"/>
                </a:lnTo>
                <a:lnTo>
                  <a:pt x="257" y="2003"/>
                </a:lnTo>
                <a:lnTo>
                  <a:pt x="263" y="1921"/>
                </a:lnTo>
                <a:lnTo>
                  <a:pt x="269" y="1835"/>
                </a:lnTo>
                <a:lnTo>
                  <a:pt x="276" y="1740"/>
                </a:lnTo>
                <a:lnTo>
                  <a:pt x="282" y="1639"/>
                </a:lnTo>
                <a:lnTo>
                  <a:pt x="288" y="1528"/>
                </a:lnTo>
                <a:lnTo>
                  <a:pt x="295" y="1411"/>
                </a:lnTo>
                <a:lnTo>
                  <a:pt x="301" y="1288"/>
                </a:lnTo>
                <a:lnTo>
                  <a:pt x="307" y="1158"/>
                </a:lnTo>
                <a:lnTo>
                  <a:pt x="314" y="1025"/>
                </a:lnTo>
                <a:lnTo>
                  <a:pt x="320" y="889"/>
                </a:lnTo>
                <a:lnTo>
                  <a:pt x="326" y="753"/>
                </a:lnTo>
                <a:lnTo>
                  <a:pt x="333" y="617"/>
                </a:lnTo>
                <a:lnTo>
                  <a:pt x="339" y="491"/>
                </a:lnTo>
                <a:lnTo>
                  <a:pt x="345" y="370"/>
                </a:lnTo>
                <a:lnTo>
                  <a:pt x="352" y="263"/>
                </a:lnTo>
                <a:lnTo>
                  <a:pt x="358" y="168"/>
                </a:lnTo>
                <a:lnTo>
                  <a:pt x="364" y="92"/>
                </a:lnTo>
                <a:lnTo>
                  <a:pt x="371" y="38"/>
                </a:lnTo>
                <a:lnTo>
                  <a:pt x="377" y="10"/>
                </a:lnTo>
                <a:lnTo>
                  <a:pt x="383" y="0"/>
                </a:lnTo>
                <a:lnTo>
                  <a:pt x="390" y="13"/>
                </a:lnTo>
                <a:lnTo>
                  <a:pt x="396" y="44"/>
                </a:lnTo>
                <a:lnTo>
                  <a:pt x="402" y="95"/>
                </a:lnTo>
                <a:lnTo>
                  <a:pt x="409" y="162"/>
                </a:lnTo>
                <a:lnTo>
                  <a:pt x="415" y="237"/>
                </a:lnTo>
                <a:lnTo>
                  <a:pt x="421" y="323"/>
                </a:lnTo>
                <a:lnTo>
                  <a:pt x="428" y="412"/>
                </a:lnTo>
                <a:lnTo>
                  <a:pt x="434" y="503"/>
                </a:lnTo>
                <a:lnTo>
                  <a:pt x="440" y="595"/>
                </a:lnTo>
                <a:lnTo>
                  <a:pt x="447" y="684"/>
                </a:lnTo>
                <a:lnTo>
                  <a:pt x="453" y="769"/>
                </a:lnTo>
                <a:lnTo>
                  <a:pt x="459" y="845"/>
                </a:lnTo>
                <a:lnTo>
                  <a:pt x="466" y="918"/>
                </a:lnTo>
                <a:lnTo>
                  <a:pt x="472" y="981"/>
                </a:lnTo>
                <a:lnTo>
                  <a:pt x="478" y="1044"/>
                </a:lnTo>
                <a:lnTo>
                  <a:pt x="485" y="1101"/>
                </a:lnTo>
                <a:lnTo>
                  <a:pt x="491" y="1158"/>
                </a:lnTo>
                <a:lnTo>
                  <a:pt x="497" y="1212"/>
                </a:lnTo>
                <a:lnTo>
                  <a:pt x="504" y="1269"/>
                </a:lnTo>
                <a:lnTo>
                  <a:pt x="510" y="1326"/>
                </a:lnTo>
                <a:lnTo>
                  <a:pt x="516" y="1386"/>
                </a:lnTo>
                <a:lnTo>
                  <a:pt x="523" y="1449"/>
                </a:lnTo>
                <a:lnTo>
                  <a:pt x="529" y="1516"/>
                </a:lnTo>
                <a:lnTo>
                  <a:pt x="535" y="1589"/>
                </a:lnTo>
                <a:lnTo>
                  <a:pt x="542" y="1661"/>
                </a:lnTo>
                <a:lnTo>
                  <a:pt x="548" y="1728"/>
                </a:lnTo>
                <a:lnTo>
                  <a:pt x="554" y="1797"/>
                </a:lnTo>
                <a:lnTo>
                  <a:pt x="560" y="1867"/>
                </a:lnTo>
                <a:lnTo>
                  <a:pt x="567" y="1937"/>
                </a:lnTo>
                <a:lnTo>
                  <a:pt x="573" y="2003"/>
                </a:lnTo>
                <a:lnTo>
                  <a:pt x="579" y="2060"/>
                </a:lnTo>
                <a:lnTo>
                  <a:pt x="586" y="2117"/>
                </a:lnTo>
                <a:lnTo>
                  <a:pt x="592" y="2168"/>
                </a:lnTo>
                <a:lnTo>
                  <a:pt x="598" y="2212"/>
                </a:lnTo>
                <a:lnTo>
                  <a:pt x="605" y="2253"/>
                </a:lnTo>
                <a:lnTo>
                  <a:pt x="611" y="2281"/>
                </a:lnTo>
                <a:lnTo>
                  <a:pt x="617" y="2304"/>
                </a:lnTo>
                <a:lnTo>
                  <a:pt x="624" y="2316"/>
                </a:lnTo>
                <a:lnTo>
                  <a:pt x="630" y="2319"/>
                </a:lnTo>
                <a:lnTo>
                  <a:pt x="636" y="2316"/>
                </a:lnTo>
                <a:lnTo>
                  <a:pt x="643" y="2307"/>
                </a:lnTo>
                <a:lnTo>
                  <a:pt x="649" y="2288"/>
                </a:lnTo>
                <a:lnTo>
                  <a:pt x="655" y="2262"/>
                </a:lnTo>
                <a:lnTo>
                  <a:pt x="662" y="2231"/>
                </a:lnTo>
                <a:lnTo>
                  <a:pt x="668" y="2193"/>
                </a:lnTo>
                <a:lnTo>
                  <a:pt x="674" y="2149"/>
                </a:lnTo>
                <a:lnTo>
                  <a:pt x="681" y="2104"/>
                </a:lnTo>
                <a:lnTo>
                  <a:pt x="687" y="2057"/>
                </a:lnTo>
                <a:lnTo>
                  <a:pt x="693" y="2009"/>
                </a:lnTo>
                <a:lnTo>
                  <a:pt x="700" y="1962"/>
                </a:lnTo>
                <a:lnTo>
                  <a:pt x="706" y="1921"/>
                </a:lnTo>
                <a:lnTo>
                  <a:pt x="712" y="1883"/>
                </a:lnTo>
                <a:lnTo>
                  <a:pt x="719" y="1851"/>
                </a:lnTo>
                <a:lnTo>
                  <a:pt x="725" y="1829"/>
                </a:lnTo>
                <a:lnTo>
                  <a:pt x="731" y="1810"/>
                </a:lnTo>
                <a:lnTo>
                  <a:pt x="738" y="1801"/>
                </a:lnTo>
                <a:lnTo>
                  <a:pt x="744" y="1801"/>
                </a:lnTo>
                <a:lnTo>
                  <a:pt x="750" y="1804"/>
                </a:lnTo>
                <a:lnTo>
                  <a:pt x="757" y="1816"/>
                </a:lnTo>
                <a:lnTo>
                  <a:pt x="763" y="1835"/>
                </a:lnTo>
                <a:lnTo>
                  <a:pt x="769" y="1857"/>
                </a:lnTo>
                <a:lnTo>
                  <a:pt x="776" y="1886"/>
                </a:lnTo>
                <a:lnTo>
                  <a:pt x="782" y="1918"/>
                </a:lnTo>
                <a:lnTo>
                  <a:pt x="788" y="1949"/>
                </a:lnTo>
                <a:lnTo>
                  <a:pt x="795" y="1984"/>
                </a:lnTo>
                <a:lnTo>
                  <a:pt x="801" y="2022"/>
                </a:lnTo>
                <a:lnTo>
                  <a:pt x="807" y="2057"/>
                </a:lnTo>
                <a:lnTo>
                  <a:pt x="814" y="2095"/>
                </a:lnTo>
                <a:lnTo>
                  <a:pt x="820" y="2130"/>
                </a:lnTo>
                <a:lnTo>
                  <a:pt x="826" y="2164"/>
                </a:lnTo>
                <a:lnTo>
                  <a:pt x="833" y="2199"/>
                </a:lnTo>
                <a:lnTo>
                  <a:pt x="839" y="2234"/>
                </a:lnTo>
                <a:lnTo>
                  <a:pt x="845" y="2266"/>
                </a:lnTo>
                <a:lnTo>
                  <a:pt x="852" y="2297"/>
                </a:lnTo>
                <a:lnTo>
                  <a:pt x="858" y="2326"/>
                </a:lnTo>
                <a:lnTo>
                  <a:pt x="864" y="2354"/>
                </a:lnTo>
                <a:lnTo>
                  <a:pt x="871" y="2380"/>
                </a:lnTo>
                <a:lnTo>
                  <a:pt x="877" y="2405"/>
                </a:lnTo>
                <a:lnTo>
                  <a:pt x="883" y="2427"/>
                </a:lnTo>
                <a:lnTo>
                  <a:pt x="890" y="2452"/>
                </a:lnTo>
                <a:lnTo>
                  <a:pt x="896" y="2471"/>
                </a:lnTo>
                <a:lnTo>
                  <a:pt x="902" y="2490"/>
                </a:lnTo>
                <a:lnTo>
                  <a:pt x="909" y="2503"/>
                </a:lnTo>
                <a:lnTo>
                  <a:pt x="915" y="2516"/>
                </a:lnTo>
                <a:lnTo>
                  <a:pt x="921" y="2528"/>
                </a:lnTo>
                <a:lnTo>
                  <a:pt x="928" y="2541"/>
                </a:lnTo>
                <a:lnTo>
                  <a:pt x="934" y="2550"/>
                </a:lnTo>
                <a:lnTo>
                  <a:pt x="940" y="2557"/>
                </a:lnTo>
                <a:lnTo>
                  <a:pt x="946" y="2566"/>
                </a:lnTo>
                <a:lnTo>
                  <a:pt x="953" y="2573"/>
                </a:lnTo>
                <a:lnTo>
                  <a:pt x="959" y="2579"/>
                </a:lnTo>
                <a:lnTo>
                  <a:pt x="965" y="2585"/>
                </a:lnTo>
                <a:lnTo>
                  <a:pt x="972" y="2592"/>
                </a:lnTo>
                <a:lnTo>
                  <a:pt x="978" y="2598"/>
                </a:lnTo>
                <a:lnTo>
                  <a:pt x="984" y="2601"/>
                </a:lnTo>
                <a:lnTo>
                  <a:pt x="991" y="2604"/>
                </a:lnTo>
                <a:lnTo>
                  <a:pt x="997" y="2607"/>
                </a:lnTo>
                <a:lnTo>
                  <a:pt x="1003" y="2611"/>
                </a:lnTo>
                <a:lnTo>
                  <a:pt x="1010" y="2614"/>
                </a:lnTo>
                <a:lnTo>
                  <a:pt x="1016" y="2617"/>
                </a:lnTo>
                <a:lnTo>
                  <a:pt x="1022" y="2620"/>
                </a:lnTo>
                <a:lnTo>
                  <a:pt x="1029" y="2623"/>
                </a:lnTo>
                <a:lnTo>
                  <a:pt x="1035" y="2626"/>
                </a:lnTo>
                <a:lnTo>
                  <a:pt x="1041" y="2630"/>
                </a:lnTo>
                <a:lnTo>
                  <a:pt x="1048" y="2633"/>
                </a:lnTo>
                <a:lnTo>
                  <a:pt x="1054" y="2636"/>
                </a:lnTo>
                <a:lnTo>
                  <a:pt x="1060" y="2639"/>
                </a:lnTo>
                <a:lnTo>
                  <a:pt x="1067" y="2642"/>
                </a:lnTo>
                <a:lnTo>
                  <a:pt x="1073" y="2642"/>
                </a:lnTo>
                <a:lnTo>
                  <a:pt x="1079" y="2645"/>
                </a:lnTo>
                <a:lnTo>
                  <a:pt x="1086" y="2648"/>
                </a:lnTo>
                <a:lnTo>
                  <a:pt x="1092" y="2652"/>
                </a:lnTo>
                <a:lnTo>
                  <a:pt x="1098" y="2655"/>
                </a:lnTo>
                <a:lnTo>
                  <a:pt x="1105" y="2658"/>
                </a:lnTo>
                <a:lnTo>
                  <a:pt x="1111" y="2661"/>
                </a:lnTo>
                <a:lnTo>
                  <a:pt x="1117" y="2664"/>
                </a:lnTo>
                <a:lnTo>
                  <a:pt x="1124" y="2667"/>
                </a:lnTo>
                <a:lnTo>
                  <a:pt x="1130" y="2671"/>
                </a:lnTo>
                <a:lnTo>
                  <a:pt x="1136" y="2674"/>
                </a:lnTo>
                <a:lnTo>
                  <a:pt x="1143" y="2677"/>
                </a:lnTo>
                <a:lnTo>
                  <a:pt x="1149" y="2680"/>
                </a:lnTo>
                <a:lnTo>
                  <a:pt x="1155" y="2680"/>
                </a:lnTo>
                <a:lnTo>
                  <a:pt x="1162" y="2683"/>
                </a:lnTo>
                <a:lnTo>
                  <a:pt x="1168" y="2686"/>
                </a:lnTo>
                <a:lnTo>
                  <a:pt x="1174" y="2686"/>
                </a:lnTo>
                <a:lnTo>
                  <a:pt x="1181" y="2690"/>
                </a:lnTo>
                <a:lnTo>
                  <a:pt x="1187" y="2690"/>
                </a:lnTo>
                <a:lnTo>
                  <a:pt x="1193" y="2693"/>
                </a:lnTo>
                <a:lnTo>
                  <a:pt x="1200" y="2693"/>
                </a:lnTo>
                <a:lnTo>
                  <a:pt x="1206" y="2693"/>
                </a:lnTo>
                <a:lnTo>
                  <a:pt x="1212" y="2693"/>
                </a:lnTo>
                <a:lnTo>
                  <a:pt x="1219" y="2693"/>
                </a:lnTo>
                <a:lnTo>
                  <a:pt x="1225" y="2696"/>
                </a:lnTo>
                <a:lnTo>
                  <a:pt x="1231" y="2696"/>
                </a:lnTo>
                <a:lnTo>
                  <a:pt x="1238" y="2696"/>
                </a:lnTo>
                <a:lnTo>
                  <a:pt x="1244" y="2696"/>
                </a:lnTo>
                <a:lnTo>
                  <a:pt x="1250" y="2696"/>
                </a:lnTo>
                <a:lnTo>
                  <a:pt x="1257" y="2696"/>
                </a:lnTo>
                <a:lnTo>
                  <a:pt x="0" y="2696"/>
                </a:lnTo>
                <a:close/>
              </a:path>
            </a:pathLst>
          </a:custGeom>
          <a:solidFill>
            <a:srgbClr val="c8ffc8"/>
          </a:solidFill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759960" y="14309640"/>
            <a:ext cx="1995480" cy="4280040"/>
          </a:xfrm>
          <a:custGeom>
            <a:avLst/>
            <a:gdLst/>
            <a:ahLst/>
            <a:rect l="l" t="t" r="r" b="b"/>
            <a:pathLst>
              <a:path w="1257" h="2696">
                <a:moveTo>
                  <a:pt x="0" y="2696"/>
                </a:moveTo>
                <a:lnTo>
                  <a:pt x="7" y="2696"/>
                </a:lnTo>
                <a:lnTo>
                  <a:pt x="13" y="2696"/>
                </a:lnTo>
                <a:lnTo>
                  <a:pt x="19" y="2696"/>
                </a:lnTo>
                <a:lnTo>
                  <a:pt x="26" y="2696"/>
                </a:lnTo>
                <a:lnTo>
                  <a:pt x="32" y="2696"/>
                </a:lnTo>
                <a:lnTo>
                  <a:pt x="38" y="2693"/>
                </a:lnTo>
                <a:lnTo>
                  <a:pt x="45" y="2693"/>
                </a:lnTo>
                <a:lnTo>
                  <a:pt x="51" y="2693"/>
                </a:lnTo>
                <a:lnTo>
                  <a:pt x="57" y="2693"/>
                </a:lnTo>
                <a:lnTo>
                  <a:pt x="64" y="2693"/>
                </a:lnTo>
                <a:lnTo>
                  <a:pt x="70" y="2690"/>
                </a:lnTo>
                <a:lnTo>
                  <a:pt x="76" y="2690"/>
                </a:lnTo>
                <a:lnTo>
                  <a:pt x="83" y="2686"/>
                </a:lnTo>
                <a:lnTo>
                  <a:pt x="89" y="2686"/>
                </a:lnTo>
                <a:lnTo>
                  <a:pt x="95" y="2683"/>
                </a:lnTo>
                <a:lnTo>
                  <a:pt x="102" y="2680"/>
                </a:lnTo>
                <a:lnTo>
                  <a:pt x="108" y="2677"/>
                </a:lnTo>
                <a:lnTo>
                  <a:pt x="114" y="2674"/>
                </a:lnTo>
                <a:lnTo>
                  <a:pt x="121" y="2671"/>
                </a:lnTo>
                <a:lnTo>
                  <a:pt x="127" y="2667"/>
                </a:lnTo>
                <a:lnTo>
                  <a:pt x="133" y="2664"/>
                </a:lnTo>
                <a:lnTo>
                  <a:pt x="140" y="2658"/>
                </a:lnTo>
                <a:lnTo>
                  <a:pt x="146" y="2648"/>
                </a:lnTo>
                <a:lnTo>
                  <a:pt x="152" y="2639"/>
                </a:lnTo>
                <a:lnTo>
                  <a:pt x="159" y="2630"/>
                </a:lnTo>
                <a:lnTo>
                  <a:pt x="165" y="2620"/>
                </a:lnTo>
                <a:lnTo>
                  <a:pt x="171" y="2607"/>
                </a:lnTo>
                <a:lnTo>
                  <a:pt x="178" y="2592"/>
                </a:lnTo>
                <a:lnTo>
                  <a:pt x="181" y="2573"/>
                </a:lnTo>
                <a:lnTo>
                  <a:pt x="187" y="2550"/>
                </a:lnTo>
                <a:lnTo>
                  <a:pt x="193" y="2525"/>
                </a:lnTo>
                <a:lnTo>
                  <a:pt x="200" y="2500"/>
                </a:lnTo>
                <a:lnTo>
                  <a:pt x="206" y="2468"/>
                </a:lnTo>
                <a:lnTo>
                  <a:pt x="212" y="2427"/>
                </a:lnTo>
                <a:lnTo>
                  <a:pt x="219" y="2380"/>
                </a:lnTo>
                <a:lnTo>
                  <a:pt x="225" y="2326"/>
                </a:lnTo>
                <a:lnTo>
                  <a:pt x="231" y="2272"/>
                </a:lnTo>
                <a:lnTo>
                  <a:pt x="238" y="2215"/>
                </a:lnTo>
                <a:lnTo>
                  <a:pt x="244" y="2149"/>
                </a:lnTo>
                <a:lnTo>
                  <a:pt x="250" y="2079"/>
                </a:lnTo>
                <a:lnTo>
                  <a:pt x="257" y="2003"/>
                </a:lnTo>
                <a:lnTo>
                  <a:pt x="263" y="1921"/>
                </a:lnTo>
                <a:lnTo>
                  <a:pt x="269" y="1835"/>
                </a:lnTo>
                <a:lnTo>
                  <a:pt x="276" y="1740"/>
                </a:lnTo>
                <a:lnTo>
                  <a:pt x="282" y="1639"/>
                </a:lnTo>
                <a:lnTo>
                  <a:pt x="288" y="1528"/>
                </a:lnTo>
                <a:lnTo>
                  <a:pt x="295" y="1411"/>
                </a:lnTo>
                <a:lnTo>
                  <a:pt x="301" y="1288"/>
                </a:lnTo>
                <a:lnTo>
                  <a:pt x="307" y="1158"/>
                </a:lnTo>
                <a:lnTo>
                  <a:pt x="314" y="1025"/>
                </a:lnTo>
                <a:lnTo>
                  <a:pt x="320" y="889"/>
                </a:lnTo>
                <a:lnTo>
                  <a:pt x="326" y="753"/>
                </a:lnTo>
                <a:lnTo>
                  <a:pt x="333" y="617"/>
                </a:lnTo>
                <a:lnTo>
                  <a:pt x="339" y="491"/>
                </a:lnTo>
                <a:lnTo>
                  <a:pt x="345" y="370"/>
                </a:lnTo>
                <a:lnTo>
                  <a:pt x="352" y="263"/>
                </a:lnTo>
                <a:lnTo>
                  <a:pt x="358" y="168"/>
                </a:lnTo>
                <a:lnTo>
                  <a:pt x="364" y="92"/>
                </a:lnTo>
                <a:lnTo>
                  <a:pt x="371" y="38"/>
                </a:lnTo>
                <a:lnTo>
                  <a:pt x="377" y="10"/>
                </a:lnTo>
                <a:lnTo>
                  <a:pt x="383" y="0"/>
                </a:lnTo>
                <a:lnTo>
                  <a:pt x="390" y="13"/>
                </a:lnTo>
                <a:lnTo>
                  <a:pt x="396" y="44"/>
                </a:lnTo>
                <a:lnTo>
                  <a:pt x="402" y="95"/>
                </a:lnTo>
                <a:lnTo>
                  <a:pt x="409" y="162"/>
                </a:lnTo>
                <a:lnTo>
                  <a:pt x="415" y="237"/>
                </a:lnTo>
                <a:lnTo>
                  <a:pt x="421" y="323"/>
                </a:lnTo>
                <a:lnTo>
                  <a:pt x="428" y="412"/>
                </a:lnTo>
                <a:lnTo>
                  <a:pt x="434" y="503"/>
                </a:lnTo>
                <a:lnTo>
                  <a:pt x="440" y="595"/>
                </a:lnTo>
                <a:lnTo>
                  <a:pt x="447" y="684"/>
                </a:lnTo>
                <a:lnTo>
                  <a:pt x="453" y="769"/>
                </a:lnTo>
                <a:lnTo>
                  <a:pt x="459" y="845"/>
                </a:lnTo>
                <a:lnTo>
                  <a:pt x="466" y="918"/>
                </a:lnTo>
                <a:lnTo>
                  <a:pt x="472" y="981"/>
                </a:lnTo>
                <a:lnTo>
                  <a:pt x="478" y="1044"/>
                </a:lnTo>
                <a:lnTo>
                  <a:pt x="485" y="1101"/>
                </a:lnTo>
                <a:lnTo>
                  <a:pt x="491" y="1158"/>
                </a:lnTo>
                <a:lnTo>
                  <a:pt x="497" y="1212"/>
                </a:lnTo>
                <a:lnTo>
                  <a:pt x="504" y="1269"/>
                </a:lnTo>
                <a:lnTo>
                  <a:pt x="510" y="1326"/>
                </a:lnTo>
                <a:lnTo>
                  <a:pt x="516" y="1386"/>
                </a:lnTo>
                <a:lnTo>
                  <a:pt x="523" y="1449"/>
                </a:lnTo>
                <a:lnTo>
                  <a:pt x="529" y="1516"/>
                </a:lnTo>
                <a:lnTo>
                  <a:pt x="535" y="1589"/>
                </a:lnTo>
                <a:lnTo>
                  <a:pt x="542" y="1661"/>
                </a:lnTo>
                <a:lnTo>
                  <a:pt x="548" y="1728"/>
                </a:lnTo>
                <a:lnTo>
                  <a:pt x="554" y="1797"/>
                </a:lnTo>
                <a:lnTo>
                  <a:pt x="560" y="1867"/>
                </a:lnTo>
                <a:lnTo>
                  <a:pt x="567" y="1937"/>
                </a:lnTo>
                <a:lnTo>
                  <a:pt x="573" y="2003"/>
                </a:lnTo>
                <a:lnTo>
                  <a:pt x="579" y="2060"/>
                </a:lnTo>
                <a:lnTo>
                  <a:pt x="586" y="2117"/>
                </a:lnTo>
                <a:lnTo>
                  <a:pt x="592" y="2168"/>
                </a:lnTo>
                <a:lnTo>
                  <a:pt x="598" y="2212"/>
                </a:lnTo>
                <a:lnTo>
                  <a:pt x="605" y="2253"/>
                </a:lnTo>
                <a:lnTo>
                  <a:pt x="611" y="2281"/>
                </a:lnTo>
                <a:lnTo>
                  <a:pt x="617" y="2304"/>
                </a:lnTo>
                <a:lnTo>
                  <a:pt x="624" y="2316"/>
                </a:lnTo>
                <a:lnTo>
                  <a:pt x="630" y="2319"/>
                </a:lnTo>
                <a:lnTo>
                  <a:pt x="636" y="2316"/>
                </a:lnTo>
                <a:lnTo>
                  <a:pt x="643" y="2307"/>
                </a:lnTo>
                <a:lnTo>
                  <a:pt x="649" y="2288"/>
                </a:lnTo>
                <a:lnTo>
                  <a:pt x="655" y="2262"/>
                </a:lnTo>
                <a:lnTo>
                  <a:pt x="662" y="2231"/>
                </a:lnTo>
                <a:lnTo>
                  <a:pt x="668" y="2193"/>
                </a:lnTo>
                <a:lnTo>
                  <a:pt x="674" y="2149"/>
                </a:lnTo>
                <a:lnTo>
                  <a:pt x="681" y="2104"/>
                </a:lnTo>
                <a:lnTo>
                  <a:pt x="687" y="2057"/>
                </a:lnTo>
                <a:lnTo>
                  <a:pt x="693" y="2009"/>
                </a:lnTo>
                <a:lnTo>
                  <a:pt x="700" y="1962"/>
                </a:lnTo>
                <a:lnTo>
                  <a:pt x="706" y="1921"/>
                </a:lnTo>
                <a:lnTo>
                  <a:pt x="712" y="1883"/>
                </a:lnTo>
                <a:lnTo>
                  <a:pt x="719" y="1851"/>
                </a:lnTo>
                <a:lnTo>
                  <a:pt x="725" y="1829"/>
                </a:lnTo>
                <a:lnTo>
                  <a:pt x="731" y="1810"/>
                </a:lnTo>
                <a:lnTo>
                  <a:pt x="738" y="1801"/>
                </a:lnTo>
                <a:lnTo>
                  <a:pt x="744" y="1801"/>
                </a:lnTo>
                <a:lnTo>
                  <a:pt x="750" y="1804"/>
                </a:lnTo>
                <a:lnTo>
                  <a:pt x="757" y="1816"/>
                </a:lnTo>
                <a:lnTo>
                  <a:pt x="763" y="1835"/>
                </a:lnTo>
                <a:lnTo>
                  <a:pt x="769" y="1857"/>
                </a:lnTo>
                <a:lnTo>
                  <a:pt x="776" y="1886"/>
                </a:lnTo>
                <a:lnTo>
                  <a:pt x="782" y="1918"/>
                </a:lnTo>
                <a:lnTo>
                  <a:pt x="788" y="1949"/>
                </a:lnTo>
                <a:lnTo>
                  <a:pt x="795" y="1984"/>
                </a:lnTo>
                <a:lnTo>
                  <a:pt x="801" y="2022"/>
                </a:lnTo>
                <a:lnTo>
                  <a:pt x="807" y="2057"/>
                </a:lnTo>
                <a:lnTo>
                  <a:pt x="814" y="2095"/>
                </a:lnTo>
                <a:lnTo>
                  <a:pt x="820" y="2130"/>
                </a:lnTo>
                <a:lnTo>
                  <a:pt x="826" y="2164"/>
                </a:lnTo>
                <a:lnTo>
                  <a:pt x="833" y="2199"/>
                </a:lnTo>
                <a:lnTo>
                  <a:pt x="839" y="2234"/>
                </a:lnTo>
                <a:lnTo>
                  <a:pt x="845" y="2266"/>
                </a:lnTo>
                <a:lnTo>
                  <a:pt x="852" y="2297"/>
                </a:lnTo>
                <a:lnTo>
                  <a:pt x="858" y="2326"/>
                </a:lnTo>
                <a:lnTo>
                  <a:pt x="864" y="2354"/>
                </a:lnTo>
                <a:lnTo>
                  <a:pt x="871" y="2380"/>
                </a:lnTo>
                <a:lnTo>
                  <a:pt x="877" y="2405"/>
                </a:lnTo>
                <a:lnTo>
                  <a:pt x="883" y="2427"/>
                </a:lnTo>
                <a:lnTo>
                  <a:pt x="890" y="2452"/>
                </a:lnTo>
                <a:lnTo>
                  <a:pt x="896" y="2471"/>
                </a:lnTo>
                <a:lnTo>
                  <a:pt x="902" y="2490"/>
                </a:lnTo>
                <a:lnTo>
                  <a:pt x="909" y="2503"/>
                </a:lnTo>
                <a:lnTo>
                  <a:pt x="915" y="2516"/>
                </a:lnTo>
                <a:lnTo>
                  <a:pt x="921" y="2528"/>
                </a:lnTo>
                <a:lnTo>
                  <a:pt x="928" y="2541"/>
                </a:lnTo>
                <a:lnTo>
                  <a:pt x="934" y="2550"/>
                </a:lnTo>
                <a:lnTo>
                  <a:pt x="940" y="2557"/>
                </a:lnTo>
                <a:lnTo>
                  <a:pt x="946" y="2566"/>
                </a:lnTo>
                <a:lnTo>
                  <a:pt x="953" y="2573"/>
                </a:lnTo>
                <a:lnTo>
                  <a:pt x="959" y="2579"/>
                </a:lnTo>
                <a:lnTo>
                  <a:pt x="965" y="2585"/>
                </a:lnTo>
                <a:lnTo>
                  <a:pt x="972" y="2592"/>
                </a:lnTo>
                <a:lnTo>
                  <a:pt x="978" y="2598"/>
                </a:lnTo>
                <a:lnTo>
                  <a:pt x="984" y="2601"/>
                </a:lnTo>
                <a:lnTo>
                  <a:pt x="991" y="2604"/>
                </a:lnTo>
                <a:lnTo>
                  <a:pt x="997" y="2607"/>
                </a:lnTo>
                <a:lnTo>
                  <a:pt x="1003" y="2611"/>
                </a:lnTo>
                <a:lnTo>
                  <a:pt x="1010" y="2614"/>
                </a:lnTo>
                <a:lnTo>
                  <a:pt x="1016" y="2617"/>
                </a:lnTo>
                <a:lnTo>
                  <a:pt x="1022" y="2620"/>
                </a:lnTo>
                <a:lnTo>
                  <a:pt x="1029" y="2623"/>
                </a:lnTo>
                <a:lnTo>
                  <a:pt x="1035" y="2626"/>
                </a:lnTo>
                <a:lnTo>
                  <a:pt x="1041" y="2630"/>
                </a:lnTo>
                <a:lnTo>
                  <a:pt x="1048" y="2633"/>
                </a:lnTo>
                <a:lnTo>
                  <a:pt x="1054" y="2636"/>
                </a:lnTo>
                <a:lnTo>
                  <a:pt x="1060" y="2639"/>
                </a:lnTo>
                <a:lnTo>
                  <a:pt x="1067" y="2642"/>
                </a:lnTo>
                <a:lnTo>
                  <a:pt x="1073" y="2642"/>
                </a:lnTo>
                <a:lnTo>
                  <a:pt x="1079" y="2645"/>
                </a:lnTo>
                <a:lnTo>
                  <a:pt x="1086" y="2648"/>
                </a:lnTo>
                <a:lnTo>
                  <a:pt x="1092" y="2652"/>
                </a:lnTo>
                <a:lnTo>
                  <a:pt x="1098" y="2655"/>
                </a:lnTo>
                <a:lnTo>
                  <a:pt x="1105" y="2658"/>
                </a:lnTo>
                <a:lnTo>
                  <a:pt x="1111" y="2661"/>
                </a:lnTo>
                <a:lnTo>
                  <a:pt x="1117" y="2664"/>
                </a:lnTo>
                <a:lnTo>
                  <a:pt x="1124" y="2667"/>
                </a:lnTo>
                <a:lnTo>
                  <a:pt x="1130" y="2671"/>
                </a:lnTo>
                <a:lnTo>
                  <a:pt x="1136" y="2674"/>
                </a:lnTo>
                <a:lnTo>
                  <a:pt x="1143" y="2677"/>
                </a:lnTo>
                <a:lnTo>
                  <a:pt x="1149" y="2680"/>
                </a:lnTo>
                <a:lnTo>
                  <a:pt x="1155" y="2680"/>
                </a:lnTo>
                <a:lnTo>
                  <a:pt x="1162" y="2683"/>
                </a:lnTo>
                <a:lnTo>
                  <a:pt x="1168" y="2686"/>
                </a:lnTo>
                <a:lnTo>
                  <a:pt x="1174" y="2686"/>
                </a:lnTo>
                <a:lnTo>
                  <a:pt x="1181" y="2690"/>
                </a:lnTo>
                <a:lnTo>
                  <a:pt x="1187" y="2690"/>
                </a:lnTo>
                <a:lnTo>
                  <a:pt x="1193" y="2693"/>
                </a:lnTo>
                <a:lnTo>
                  <a:pt x="1200" y="2693"/>
                </a:lnTo>
                <a:lnTo>
                  <a:pt x="1206" y="2693"/>
                </a:lnTo>
                <a:lnTo>
                  <a:pt x="1212" y="2693"/>
                </a:lnTo>
                <a:lnTo>
                  <a:pt x="1219" y="2693"/>
                </a:lnTo>
                <a:lnTo>
                  <a:pt x="1225" y="2696"/>
                </a:lnTo>
                <a:lnTo>
                  <a:pt x="1231" y="2696"/>
                </a:lnTo>
                <a:lnTo>
                  <a:pt x="1238" y="2696"/>
                </a:lnTo>
                <a:lnTo>
                  <a:pt x="1244" y="2696"/>
                </a:lnTo>
                <a:lnTo>
                  <a:pt x="1250" y="2696"/>
                </a:lnTo>
                <a:lnTo>
                  <a:pt x="1257" y="2696"/>
                </a:lnTo>
              </a:path>
            </a:pathLst>
          </a:custGeom>
          <a:noFill/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785600" y="18589680"/>
            <a:ext cx="14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0991880" y="18579600"/>
            <a:ext cx="9360" cy="9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202840" y="18573840"/>
            <a:ext cx="14400" cy="15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 flipV="1">
            <a:off x="11418840" y="18573840"/>
            <a:ext cx="14400" cy="15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1628360" y="18569160"/>
            <a:ext cx="20880" cy="205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11820240" y="18543600"/>
            <a:ext cx="44280" cy="460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1985480" y="18494280"/>
            <a:ext cx="95400" cy="954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12145680" y="18438480"/>
            <a:ext cx="145800" cy="150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322080" y="18399240"/>
            <a:ext cx="185760" cy="190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12498480" y="18364320"/>
            <a:ext cx="225360" cy="2253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644280" y="18292680"/>
            <a:ext cx="295560" cy="2970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12769560" y="18202320"/>
            <a:ext cx="385560" cy="3873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890520" y="18111960"/>
            <a:ext cx="480960" cy="477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13004280" y="18011520"/>
            <a:ext cx="582840" cy="5778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3115880" y="17900640"/>
            <a:ext cx="687600" cy="689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3210920" y="17786160"/>
            <a:ext cx="809640" cy="8031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3311360" y="17665560"/>
            <a:ext cx="925200" cy="9241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3412880" y="17549280"/>
            <a:ext cx="1033200" cy="1040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517640" y="17444880"/>
            <a:ext cx="1144440" cy="11448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633200" y="17343360"/>
            <a:ext cx="1245960" cy="1246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3773240" y="17268840"/>
            <a:ext cx="417600" cy="4111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812920" y="18303840"/>
            <a:ext cx="282600" cy="2858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5220800" y="18498960"/>
            <a:ext cx="90720" cy="90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5486120" y="18550080"/>
            <a:ext cx="41040" cy="396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flipV="1">
            <a:off x="15722280" y="18568800"/>
            <a:ext cx="20520" cy="205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5948000" y="18579960"/>
            <a:ext cx="11160" cy="97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16170120" y="18589680"/>
            <a:ext cx="50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463040" y="17264160"/>
            <a:ext cx="6039000" cy="1325520"/>
          </a:xfrm>
          <a:custGeom>
            <a:avLst/>
            <a:gdLst/>
            <a:ahLst/>
            <a:rect l="l" t="t" r="r" b="b"/>
            <a:pathLst>
              <a:path w="3804" h="835">
                <a:moveTo>
                  <a:pt x="0" y="835"/>
                </a:moveTo>
                <a:lnTo>
                  <a:pt x="19" y="835"/>
                </a:lnTo>
                <a:lnTo>
                  <a:pt x="38" y="835"/>
                </a:lnTo>
                <a:lnTo>
                  <a:pt x="57" y="835"/>
                </a:lnTo>
                <a:lnTo>
                  <a:pt x="76" y="835"/>
                </a:lnTo>
                <a:lnTo>
                  <a:pt x="95" y="835"/>
                </a:lnTo>
                <a:lnTo>
                  <a:pt x="114" y="835"/>
                </a:lnTo>
                <a:lnTo>
                  <a:pt x="133" y="835"/>
                </a:lnTo>
                <a:lnTo>
                  <a:pt x="152" y="835"/>
                </a:lnTo>
                <a:lnTo>
                  <a:pt x="171" y="835"/>
                </a:lnTo>
                <a:lnTo>
                  <a:pt x="190" y="835"/>
                </a:lnTo>
                <a:lnTo>
                  <a:pt x="209" y="835"/>
                </a:lnTo>
                <a:lnTo>
                  <a:pt x="228" y="832"/>
                </a:lnTo>
                <a:lnTo>
                  <a:pt x="247" y="832"/>
                </a:lnTo>
                <a:lnTo>
                  <a:pt x="266" y="832"/>
                </a:lnTo>
                <a:lnTo>
                  <a:pt x="285" y="832"/>
                </a:lnTo>
                <a:lnTo>
                  <a:pt x="304" y="832"/>
                </a:lnTo>
                <a:lnTo>
                  <a:pt x="323" y="829"/>
                </a:lnTo>
                <a:lnTo>
                  <a:pt x="345" y="829"/>
                </a:lnTo>
                <a:lnTo>
                  <a:pt x="364" y="829"/>
                </a:lnTo>
                <a:lnTo>
                  <a:pt x="383" y="829"/>
                </a:lnTo>
                <a:lnTo>
                  <a:pt x="402" y="829"/>
                </a:lnTo>
                <a:lnTo>
                  <a:pt x="421" y="825"/>
                </a:lnTo>
                <a:lnTo>
                  <a:pt x="440" y="825"/>
                </a:lnTo>
                <a:lnTo>
                  <a:pt x="459" y="825"/>
                </a:lnTo>
                <a:lnTo>
                  <a:pt x="478" y="825"/>
                </a:lnTo>
                <a:lnTo>
                  <a:pt x="497" y="825"/>
                </a:lnTo>
                <a:lnTo>
                  <a:pt x="516" y="825"/>
                </a:lnTo>
                <a:lnTo>
                  <a:pt x="535" y="825"/>
                </a:lnTo>
                <a:lnTo>
                  <a:pt x="554" y="825"/>
                </a:lnTo>
                <a:lnTo>
                  <a:pt x="573" y="825"/>
                </a:lnTo>
                <a:lnTo>
                  <a:pt x="592" y="825"/>
                </a:lnTo>
                <a:lnTo>
                  <a:pt x="611" y="825"/>
                </a:lnTo>
                <a:lnTo>
                  <a:pt x="630" y="825"/>
                </a:lnTo>
                <a:lnTo>
                  <a:pt x="649" y="825"/>
                </a:lnTo>
                <a:lnTo>
                  <a:pt x="668" y="825"/>
                </a:lnTo>
                <a:lnTo>
                  <a:pt x="687" y="825"/>
                </a:lnTo>
                <a:lnTo>
                  <a:pt x="706" y="825"/>
                </a:lnTo>
                <a:lnTo>
                  <a:pt x="725" y="822"/>
                </a:lnTo>
                <a:lnTo>
                  <a:pt x="744" y="822"/>
                </a:lnTo>
                <a:lnTo>
                  <a:pt x="763" y="819"/>
                </a:lnTo>
                <a:lnTo>
                  <a:pt x="782" y="819"/>
                </a:lnTo>
                <a:lnTo>
                  <a:pt x="801" y="816"/>
                </a:lnTo>
                <a:lnTo>
                  <a:pt x="820" y="813"/>
                </a:lnTo>
                <a:lnTo>
                  <a:pt x="842" y="810"/>
                </a:lnTo>
                <a:lnTo>
                  <a:pt x="861" y="806"/>
                </a:lnTo>
                <a:lnTo>
                  <a:pt x="880" y="800"/>
                </a:lnTo>
                <a:lnTo>
                  <a:pt x="899" y="797"/>
                </a:lnTo>
                <a:lnTo>
                  <a:pt x="918" y="791"/>
                </a:lnTo>
                <a:lnTo>
                  <a:pt x="937" y="784"/>
                </a:lnTo>
                <a:lnTo>
                  <a:pt x="956" y="778"/>
                </a:lnTo>
                <a:lnTo>
                  <a:pt x="975" y="772"/>
                </a:lnTo>
                <a:lnTo>
                  <a:pt x="994" y="765"/>
                </a:lnTo>
                <a:lnTo>
                  <a:pt x="1013" y="756"/>
                </a:lnTo>
                <a:lnTo>
                  <a:pt x="1032" y="750"/>
                </a:lnTo>
                <a:lnTo>
                  <a:pt x="1051" y="743"/>
                </a:lnTo>
                <a:lnTo>
                  <a:pt x="1070" y="737"/>
                </a:lnTo>
                <a:lnTo>
                  <a:pt x="1089" y="734"/>
                </a:lnTo>
                <a:lnTo>
                  <a:pt x="1108" y="727"/>
                </a:lnTo>
                <a:lnTo>
                  <a:pt x="1127" y="724"/>
                </a:lnTo>
                <a:lnTo>
                  <a:pt x="1146" y="721"/>
                </a:lnTo>
                <a:lnTo>
                  <a:pt x="1165" y="718"/>
                </a:lnTo>
                <a:lnTo>
                  <a:pt x="1184" y="712"/>
                </a:lnTo>
                <a:lnTo>
                  <a:pt x="1203" y="708"/>
                </a:lnTo>
                <a:lnTo>
                  <a:pt x="1222" y="705"/>
                </a:lnTo>
                <a:lnTo>
                  <a:pt x="1241" y="702"/>
                </a:lnTo>
                <a:lnTo>
                  <a:pt x="1260" y="699"/>
                </a:lnTo>
                <a:lnTo>
                  <a:pt x="1279" y="693"/>
                </a:lnTo>
                <a:lnTo>
                  <a:pt x="1298" y="686"/>
                </a:lnTo>
                <a:lnTo>
                  <a:pt x="1317" y="677"/>
                </a:lnTo>
                <a:lnTo>
                  <a:pt x="1339" y="670"/>
                </a:lnTo>
                <a:lnTo>
                  <a:pt x="1358" y="658"/>
                </a:lnTo>
                <a:lnTo>
                  <a:pt x="1377" y="648"/>
                </a:lnTo>
                <a:lnTo>
                  <a:pt x="1396" y="636"/>
                </a:lnTo>
                <a:lnTo>
                  <a:pt x="1415" y="623"/>
                </a:lnTo>
                <a:lnTo>
                  <a:pt x="1434" y="607"/>
                </a:lnTo>
                <a:lnTo>
                  <a:pt x="1453" y="594"/>
                </a:lnTo>
                <a:lnTo>
                  <a:pt x="1472" y="579"/>
                </a:lnTo>
                <a:lnTo>
                  <a:pt x="1491" y="566"/>
                </a:lnTo>
                <a:lnTo>
                  <a:pt x="1510" y="550"/>
                </a:lnTo>
                <a:lnTo>
                  <a:pt x="1529" y="534"/>
                </a:lnTo>
                <a:lnTo>
                  <a:pt x="1548" y="519"/>
                </a:lnTo>
                <a:lnTo>
                  <a:pt x="1567" y="503"/>
                </a:lnTo>
                <a:lnTo>
                  <a:pt x="1586" y="487"/>
                </a:lnTo>
                <a:lnTo>
                  <a:pt x="1605" y="468"/>
                </a:lnTo>
                <a:lnTo>
                  <a:pt x="1624" y="449"/>
                </a:lnTo>
                <a:lnTo>
                  <a:pt x="1643" y="430"/>
                </a:lnTo>
                <a:lnTo>
                  <a:pt x="1662" y="411"/>
                </a:lnTo>
                <a:lnTo>
                  <a:pt x="1680" y="389"/>
                </a:lnTo>
                <a:lnTo>
                  <a:pt x="1699" y="367"/>
                </a:lnTo>
                <a:lnTo>
                  <a:pt x="1718" y="345"/>
                </a:lnTo>
                <a:lnTo>
                  <a:pt x="1737" y="319"/>
                </a:lnTo>
                <a:lnTo>
                  <a:pt x="1756" y="297"/>
                </a:lnTo>
                <a:lnTo>
                  <a:pt x="1775" y="275"/>
                </a:lnTo>
                <a:lnTo>
                  <a:pt x="1794" y="250"/>
                </a:lnTo>
                <a:lnTo>
                  <a:pt x="1817" y="227"/>
                </a:lnTo>
                <a:lnTo>
                  <a:pt x="1836" y="205"/>
                </a:lnTo>
                <a:lnTo>
                  <a:pt x="1855" y="183"/>
                </a:lnTo>
                <a:lnTo>
                  <a:pt x="1873" y="164"/>
                </a:lnTo>
                <a:lnTo>
                  <a:pt x="1892" y="145"/>
                </a:lnTo>
                <a:lnTo>
                  <a:pt x="1911" y="126"/>
                </a:lnTo>
                <a:lnTo>
                  <a:pt x="1930" y="107"/>
                </a:lnTo>
                <a:lnTo>
                  <a:pt x="1949" y="88"/>
                </a:lnTo>
                <a:lnTo>
                  <a:pt x="1968" y="72"/>
                </a:lnTo>
                <a:lnTo>
                  <a:pt x="1987" y="57"/>
                </a:lnTo>
                <a:lnTo>
                  <a:pt x="2006" y="41"/>
                </a:lnTo>
                <a:lnTo>
                  <a:pt x="2025" y="28"/>
                </a:lnTo>
                <a:lnTo>
                  <a:pt x="2044" y="19"/>
                </a:lnTo>
                <a:lnTo>
                  <a:pt x="2063" y="9"/>
                </a:lnTo>
                <a:lnTo>
                  <a:pt x="2082" y="3"/>
                </a:lnTo>
                <a:lnTo>
                  <a:pt x="2101" y="0"/>
                </a:lnTo>
                <a:lnTo>
                  <a:pt x="2120" y="3"/>
                </a:lnTo>
                <a:lnTo>
                  <a:pt x="2139" y="6"/>
                </a:lnTo>
                <a:lnTo>
                  <a:pt x="2158" y="12"/>
                </a:lnTo>
                <a:lnTo>
                  <a:pt x="2177" y="25"/>
                </a:lnTo>
                <a:lnTo>
                  <a:pt x="2196" y="41"/>
                </a:lnTo>
                <a:lnTo>
                  <a:pt x="2215" y="63"/>
                </a:lnTo>
                <a:lnTo>
                  <a:pt x="2234" y="85"/>
                </a:lnTo>
                <a:lnTo>
                  <a:pt x="2253" y="110"/>
                </a:lnTo>
                <a:lnTo>
                  <a:pt x="2272" y="139"/>
                </a:lnTo>
                <a:lnTo>
                  <a:pt x="2291" y="171"/>
                </a:lnTo>
                <a:lnTo>
                  <a:pt x="2313" y="202"/>
                </a:lnTo>
                <a:lnTo>
                  <a:pt x="2332" y="237"/>
                </a:lnTo>
                <a:lnTo>
                  <a:pt x="2351" y="269"/>
                </a:lnTo>
                <a:lnTo>
                  <a:pt x="2370" y="303"/>
                </a:lnTo>
                <a:lnTo>
                  <a:pt x="2389" y="335"/>
                </a:lnTo>
                <a:lnTo>
                  <a:pt x="2408" y="364"/>
                </a:lnTo>
                <a:lnTo>
                  <a:pt x="2427" y="395"/>
                </a:lnTo>
                <a:lnTo>
                  <a:pt x="2446" y="420"/>
                </a:lnTo>
                <a:lnTo>
                  <a:pt x="2465" y="446"/>
                </a:lnTo>
                <a:lnTo>
                  <a:pt x="2484" y="471"/>
                </a:lnTo>
                <a:lnTo>
                  <a:pt x="2503" y="490"/>
                </a:lnTo>
                <a:lnTo>
                  <a:pt x="2522" y="509"/>
                </a:lnTo>
                <a:lnTo>
                  <a:pt x="2541" y="528"/>
                </a:lnTo>
                <a:lnTo>
                  <a:pt x="2560" y="541"/>
                </a:lnTo>
                <a:lnTo>
                  <a:pt x="2579" y="557"/>
                </a:lnTo>
                <a:lnTo>
                  <a:pt x="2598" y="569"/>
                </a:lnTo>
                <a:lnTo>
                  <a:pt x="2617" y="582"/>
                </a:lnTo>
                <a:lnTo>
                  <a:pt x="2636" y="594"/>
                </a:lnTo>
                <a:lnTo>
                  <a:pt x="2655" y="604"/>
                </a:lnTo>
                <a:lnTo>
                  <a:pt x="2674" y="617"/>
                </a:lnTo>
                <a:lnTo>
                  <a:pt x="2693" y="629"/>
                </a:lnTo>
                <a:lnTo>
                  <a:pt x="2712" y="639"/>
                </a:lnTo>
                <a:lnTo>
                  <a:pt x="2731" y="651"/>
                </a:lnTo>
                <a:lnTo>
                  <a:pt x="2750" y="664"/>
                </a:lnTo>
                <a:lnTo>
                  <a:pt x="2769" y="677"/>
                </a:lnTo>
                <a:lnTo>
                  <a:pt x="2788" y="686"/>
                </a:lnTo>
                <a:lnTo>
                  <a:pt x="2810" y="699"/>
                </a:lnTo>
                <a:lnTo>
                  <a:pt x="2829" y="708"/>
                </a:lnTo>
                <a:lnTo>
                  <a:pt x="2848" y="721"/>
                </a:lnTo>
                <a:lnTo>
                  <a:pt x="2867" y="731"/>
                </a:lnTo>
                <a:lnTo>
                  <a:pt x="2886" y="740"/>
                </a:lnTo>
                <a:lnTo>
                  <a:pt x="2905" y="746"/>
                </a:lnTo>
                <a:lnTo>
                  <a:pt x="2924" y="756"/>
                </a:lnTo>
                <a:lnTo>
                  <a:pt x="2943" y="762"/>
                </a:lnTo>
                <a:lnTo>
                  <a:pt x="2962" y="769"/>
                </a:lnTo>
                <a:lnTo>
                  <a:pt x="2981" y="775"/>
                </a:lnTo>
                <a:lnTo>
                  <a:pt x="3000" y="778"/>
                </a:lnTo>
                <a:lnTo>
                  <a:pt x="3019" y="784"/>
                </a:lnTo>
                <a:lnTo>
                  <a:pt x="3038" y="787"/>
                </a:lnTo>
                <a:lnTo>
                  <a:pt x="3057" y="794"/>
                </a:lnTo>
                <a:lnTo>
                  <a:pt x="3076" y="797"/>
                </a:lnTo>
                <a:lnTo>
                  <a:pt x="3095" y="800"/>
                </a:lnTo>
                <a:lnTo>
                  <a:pt x="3114" y="803"/>
                </a:lnTo>
                <a:lnTo>
                  <a:pt x="3133" y="806"/>
                </a:lnTo>
                <a:lnTo>
                  <a:pt x="3152" y="810"/>
                </a:lnTo>
                <a:lnTo>
                  <a:pt x="3171" y="810"/>
                </a:lnTo>
                <a:lnTo>
                  <a:pt x="3190" y="813"/>
                </a:lnTo>
                <a:lnTo>
                  <a:pt x="3209" y="816"/>
                </a:lnTo>
                <a:lnTo>
                  <a:pt x="3228" y="816"/>
                </a:lnTo>
                <a:lnTo>
                  <a:pt x="3247" y="819"/>
                </a:lnTo>
                <a:lnTo>
                  <a:pt x="3266" y="819"/>
                </a:lnTo>
                <a:lnTo>
                  <a:pt x="3285" y="819"/>
                </a:lnTo>
                <a:lnTo>
                  <a:pt x="3307" y="822"/>
                </a:lnTo>
                <a:lnTo>
                  <a:pt x="3326" y="822"/>
                </a:lnTo>
                <a:lnTo>
                  <a:pt x="3345" y="822"/>
                </a:lnTo>
                <a:lnTo>
                  <a:pt x="3364" y="825"/>
                </a:lnTo>
                <a:lnTo>
                  <a:pt x="3383" y="825"/>
                </a:lnTo>
                <a:lnTo>
                  <a:pt x="3402" y="825"/>
                </a:lnTo>
                <a:lnTo>
                  <a:pt x="3421" y="829"/>
                </a:lnTo>
                <a:lnTo>
                  <a:pt x="3440" y="829"/>
                </a:lnTo>
                <a:lnTo>
                  <a:pt x="3459" y="829"/>
                </a:lnTo>
                <a:lnTo>
                  <a:pt x="3478" y="829"/>
                </a:lnTo>
                <a:lnTo>
                  <a:pt x="3497" y="832"/>
                </a:lnTo>
                <a:lnTo>
                  <a:pt x="3516" y="832"/>
                </a:lnTo>
                <a:lnTo>
                  <a:pt x="3535" y="832"/>
                </a:lnTo>
                <a:lnTo>
                  <a:pt x="3554" y="832"/>
                </a:lnTo>
                <a:lnTo>
                  <a:pt x="3573" y="832"/>
                </a:lnTo>
                <a:lnTo>
                  <a:pt x="3592" y="835"/>
                </a:lnTo>
                <a:lnTo>
                  <a:pt x="3610" y="835"/>
                </a:lnTo>
                <a:lnTo>
                  <a:pt x="3629" y="835"/>
                </a:lnTo>
                <a:lnTo>
                  <a:pt x="3648" y="835"/>
                </a:lnTo>
                <a:lnTo>
                  <a:pt x="3667" y="835"/>
                </a:lnTo>
                <a:lnTo>
                  <a:pt x="3686" y="835"/>
                </a:lnTo>
                <a:lnTo>
                  <a:pt x="3705" y="835"/>
                </a:lnTo>
                <a:lnTo>
                  <a:pt x="3724" y="835"/>
                </a:lnTo>
                <a:lnTo>
                  <a:pt x="3743" y="835"/>
                </a:lnTo>
                <a:lnTo>
                  <a:pt x="3762" y="835"/>
                </a:lnTo>
                <a:lnTo>
                  <a:pt x="3781" y="835"/>
                </a:lnTo>
                <a:lnTo>
                  <a:pt x="3804" y="835"/>
                </a:lnTo>
              </a:path>
            </a:pathLst>
          </a:custGeom>
          <a:noFill/>
          <a:ln w="255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16840" y="20724840"/>
            <a:ext cx="63612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Key: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84920" y="20591640"/>
            <a:ext cx="703440" cy="561960"/>
          </a:xfrm>
          <a:prstGeom prst="rect">
            <a:avLst/>
          </a:prstGeom>
          <a:solidFill>
            <a:srgbClr val="c8ffc8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784920" y="20591640"/>
            <a:ext cx="703440" cy="56196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772320" y="21166200"/>
            <a:ext cx="72864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83480" y="20724840"/>
            <a:ext cx="82080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950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675360" y="21061080"/>
            <a:ext cx="109800" cy="1047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9675720" y="20845440"/>
            <a:ext cx="325440" cy="3207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9675360" y="20629080"/>
            <a:ext cx="536760" cy="5367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9840960" y="20578680"/>
            <a:ext cx="561960" cy="5619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0056600" y="20578680"/>
            <a:ext cx="345960" cy="346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272600" y="20578680"/>
            <a:ext cx="130320" cy="13032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9688680" y="20591640"/>
            <a:ext cx="701640" cy="56196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9675720" y="21166200"/>
            <a:ext cx="727200" cy="14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587240" y="20724840"/>
            <a:ext cx="820800" cy="36612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990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4160" y="4863960"/>
            <a:ext cx="17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724760" y="486396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1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96360" y="486396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2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423680" y="486396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3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63600" y="486396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4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058880" y="486396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5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430480" y="486396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Palatino"/>
              </a:rPr>
              <a:t>600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621480" y="792000"/>
            <a:ext cx="352440" cy="28116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23600" y="716040"/>
            <a:ext cx="9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Palatino"/>
              </a:rPr>
              <a:t>195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6618240" y="1295280"/>
            <a:ext cx="171360" cy="2476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00760" y="1295280"/>
            <a:ext cx="189000" cy="2224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621480" y="1295280"/>
            <a:ext cx="351000" cy="281160"/>
          </a:xfrm>
          <a:prstGeom prst="rect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23600" y="1219320"/>
            <a:ext cx="9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Palatino"/>
              </a:rPr>
              <a:t>1990s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666880" y="5381640"/>
            <a:ext cx="3962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Palatino"/>
              </a:rPr>
              <a:t>Hook depth (m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1800" y="48006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74960" y="48006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19560" y="48006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62360" y="4800600"/>
            <a:ext cx="180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06960" y="4800600"/>
            <a:ext cx="180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93280" y="48006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1800" y="4800600"/>
            <a:ext cx="8061480" cy="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33320" y="860400"/>
            <a:ext cx="2495520" cy="3876840"/>
          </a:xfrm>
          <a:custGeom>
            <a:avLst/>
            <a:gdLst/>
            <a:ahLst/>
            <a:rect l="l" t="t" r="r" b="b"/>
            <a:pathLst>
              <a:path w="1572" h="2442">
                <a:moveTo>
                  <a:pt x="0" y="2442"/>
                </a:moveTo>
                <a:lnTo>
                  <a:pt x="14" y="2442"/>
                </a:lnTo>
                <a:lnTo>
                  <a:pt x="21" y="2442"/>
                </a:lnTo>
                <a:lnTo>
                  <a:pt x="29" y="2442"/>
                </a:lnTo>
                <a:lnTo>
                  <a:pt x="36" y="2442"/>
                </a:lnTo>
                <a:lnTo>
                  <a:pt x="43" y="2442"/>
                </a:lnTo>
                <a:lnTo>
                  <a:pt x="50" y="2442"/>
                </a:lnTo>
                <a:lnTo>
                  <a:pt x="57" y="2435"/>
                </a:lnTo>
                <a:lnTo>
                  <a:pt x="64" y="2435"/>
                </a:lnTo>
                <a:lnTo>
                  <a:pt x="71" y="2435"/>
                </a:lnTo>
                <a:lnTo>
                  <a:pt x="85" y="2435"/>
                </a:lnTo>
                <a:lnTo>
                  <a:pt x="93" y="2427"/>
                </a:lnTo>
                <a:lnTo>
                  <a:pt x="100" y="2427"/>
                </a:lnTo>
                <a:lnTo>
                  <a:pt x="107" y="2413"/>
                </a:lnTo>
                <a:lnTo>
                  <a:pt x="114" y="2413"/>
                </a:lnTo>
                <a:lnTo>
                  <a:pt x="121" y="2399"/>
                </a:lnTo>
                <a:lnTo>
                  <a:pt x="128" y="2392"/>
                </a:lnTo>
                <a:lnTo>
                  <a:pt x="135" y="2378"/>
                </a:lnTo>
                <a:lnTo>
                  <a:pt x="149" y="2364"/>
                </a:lnTo>
                <a:lnTo>
                  <a:pt x="157" y="2349"/>
                </a:lnTo>
                <a:lnTo>
                  <a:pt x="157" y="2328"/>
                </a:lnTo>
                <a:lnTo>
                  <a:pt x="171" y="2307"/>
                </a:lnTo>
                <a:lnTo>
                  <a:pt x="178" y="2286"/>
                </a:lnTo>
                <a:lnTo>
                  <a:pt x="185" y="2257"/>
                </a:lnTo>
                <a:lnTo>
                  <a:pt x="192" y="2229"/>
                </a:lnTo>
                <a:lnTo>
                  <a:pt x="199" y="2200"/>
                </a:lnTo>
                <a:lnTo>
                  <a:pt x="206" y="2172"/>
                </a:lnTo>
                <a:lnTo>
                  <a:pt x="221" y="2144"/>
                </a:lnTo>
                <a:lnTo>
                  <a:pt x="221" y="2108"/>
                </a:lnTo>
                <a:lnTo>
                  <a:pt x="235" y="2080"/>
                </a:lnTo>
                <a:lnTo>
                  <a:pt x="242" y="2051"/>
                </a:lnTo>
                <a:lnTo>
                  <a:pt x="249" y="2030"/>
                </a:lnTo>
                <a:lnTo>
                  <a:pt x="256" y="2009"/>
                </a:lnTo>
                <a:lnTo>
                  <a:pt x="263" y="1987"/>
                </a:lnTo>
                <a:lnTo>
                  <a:pt x="270" y="1973"/>
                </a:lnTo>
                <a:lnTo>
                  <a:pt x="285" y="1959"/>
                </a:lnTo>
                <a:lnTo>
                  <a:pt x="285" y="1952"/>
                </a:lnTo>
                <a:lnTo>
                  <a:pt x="292" y="1938"/>
                </a:lnTo>
                <a:lnTo>
                  <a:pt x="306" y="1924"/>
                </a:lnTo>
                <a:lnTo>
                  <a:pt x="313" y="1902"/>
                </a:lnTo>
                <a:lnTo>
                  <a:pt x="320" y="1888"/>
                </a:lnTo>
                <a:lnTo>
                  <a:pt x="327" y="1853"/>
                </a:lnTo>
                <a:lnTo>
                  <a:pt x="334" y="1824"/>
                </a:lnTo>
                <a:lnTo>
                  <a:pt x="341" y="1775"/>
                </a:lnTo>
                <a:lnTo>
                  <a:pt x="349" y="1725"/>
                </a:lnTo>
                <a:lnTo>
                  <a:pt x="356" y="1668"/>
                </a:lnTo>
                <a:lnTo>
                  <a:pt x="370" y="1597"/>
                </a:lnTo>
                <a:lnTo>
                  <a:pt x="377" y="1526"/>
                </a:lnTo>
                <a:lnTo>
                  <a:pt x="377" y="1448"/>
                </a:lnTo>
                <a:lnTo>
                  <a:pt x="391" y="1370"/>
                </a:lnTo>
                <a:lnTo>
                  <a:pt x="398" y="1292"/>
                </a:lnTo>
                <a:lnTo>
                  <a:pt x="405" y="1214"/>
                </a:lnTo>
                <a:lnTo>
                  <a:pt x="413" y="1143"/>
                </a:lnTo>
                <a:lnTo>
                  <a:pt x="420" y="1065"/>
                </a:lnTo>
                <a:lnTo>
                  <a:pt x="427" y="994"/>
                </a:lnTo>
                <a:lnTo>
                  <a:pt x="441" y="923"/>
                </a:lnTo>
                <a:lnTo>
                  <a:pt x="441" y="845"/>
                </a:lnTo>
                <a:lnTo>
                  <a:pt x="455" y="774"/>
                </a:lnTo>
                <a:lnTo>
                  <a:pt x="462" y="703"/>
                </a:lnTo>
                <a:lnTo>
                  <a:pt x="469" y="618"/>
                </a:lnTo>
                <a:lnTo>
                  <a:pt x="477" y="526"/>
                </a:lnTo>
                <a:lnTo>
                  <a:pt x="484" y="433"/>
                </a:lnTo>
                <a:lnTo>
                  <a:pt x="491" y="334"/>
                </a:lnTo>
                <a:lnTo>
                  <a:pt x="505" y="235"/>
                </a:lnTo>
                <a:lnTo>
                  <a:pt x="505" y="142"/>
                </a:lnTo>
                <a:lnTo>
                  <a:pt x="512" y="71"/>
                </a:lnTo>
                <a:lnTo>
                  <a:pt x="526" y="15"/>
                </a:lnTo>
                <a:lnTo>
                  <a:pt x="534" y="0"/>
                </a:lnTo>
                <a:lnTo>
                  <a:pt x="541" y="0"/>
                </a:lnTo>
                <a:lnTo>
                  <a:pt x="548" y="50"/>
                </a:lnTo>
                <a:lnTo>
                  <a:pt x="555" y="128"/>
                </a:lnTo>
                <a:lnTo>
                  <a:pt x="562" y="227"/>
                </a:lnTo>
                <a:lnTo>
                  <a:pt x="569" y="355"/>
                </a:lnTo>
                <a:lnTo>
                  <a:pt x="576" y="497"/>
                </a:lnTo>
                <a:lnTo>
                  <a:pt x="590" y="646"/>
                </a:lnTo>
                <a:lnTo>
                  <a:pt x="598" y="788"/>
                </a:lnTo>
                <a:lnTo>
                  <a:pt x="598" y="923"/>
                </a:lnTo>
                <a:lnTo>
                  <a:pt x="612" y="1036"/>
                </a:lnTo>
                <a:lnTo>
                  <a:pt x="619" y="1129"/>
                </a:lnTo>
                <a:lnTo>
                  <a:pt x="626" y="1200"/>
                </a:lnTo>
                <a:lnTo>
                  <a:pt x="633" y="1249"/>
                </a:lnTo>
                <a:lnTo>
                  <a:pt x="640" y="1271"/>
                </a:lnTo>
                <a:lnTo>
                  <a:pt x="647" y="1278"/>
                </a:lnTo>
                <a:lnTo>
                  <a:pt x="662" y="1264"/>
                </a:lnTo>
                <a:lnTo>
                  <a:pt x="662" y="1242"/>
                </a:lnTo>
                <a:lnTo>
                  <a:pt x="676" y="1207"/>
                </a:lnTo>
                <a:lnTo>
                  <a:pt x="683" y="1164"/>
                </a:lnTo>
                <a:lnTo>
                  <a:pt x="690" y="1115"/>
                </a:lnTo>
                <a:lnTo>
                  <a:pt x="697" y="1065"/>
                </a:lnTo>
                <a:lnTo>
                  <a:pt x="704" y="1015"/>
                </a:lnTo>
                <a:lnTo>
                  <a:pt x="711" y="966"/>
                </a:lnTo>
                <a:lnTo>
                  <a:pt x="726" y="923"/>
                </a:lnTo>
                <a:lnTo>
                  <a:pt x="726" y="880"/>
                </a:lnTo>
                <a:lnTo>
                  <a:pt x="733" y="838"/>
                </a:lnTo>
                <a:lnTo>
                  <a:pt x="747" y="802"/>
                </a:lnTo>
                <a:lnTo>
                  <a:pt x="754" y="774"/>
                </a:lnTo>
                <a:lnTo>
                  <a:pt x="761" y="738"/>
                </a:lnTo>
                <a:lnTo>
                  <a:pt x="768" y="703"/>
                </a:lnTo>
                <a:lnTo>
                  <a:pt x="775" y="675"/>
                </a:lnTo>
                <a:lnTo>
                  <a:pt x="782" y="639"/>
                </a:lnTo>
                <a:lnTo>
                  <a:pt x="790" y="611"/>
                </a:lnTo>
                <a:lnTo>
                  <a:pt x="797" y="575"/>
                </a:lnTo>
                <a:lnTo>
                  <a:pt x="811" y="554"/>
                </a:lnTo>
                <a:lnTo>
                  <a:pt x="818" y="533"/>
                </a:lnTo>
                <a:lnTo>
                  <a:pt x="818" y="518"/>
                </a:lnTo>
                <a:lnTo>
                  <a:pt x="832" y="518"/>
                </a:lnTo>
                <a:lnTo>
                  <a:pt x="839" y="518"/>
                </a:lnTo>
                <a:lnTo>
                  <a:pt x="846" y="540"/>
                </a:lnTo>
                <a:lnTo>
                  <a:pt x="854" y="568"/>
                </a:lnTo>
                <a:lnTo>
                  <a:pt x="861" y="604"/>
                </a:lnTo>
                <a:lnTo>
                  <a:pt x="868" y="639"/>
                </a:lnTo>
                <a:lnTo>
                  <a:pt x="882" y="689"/>
                </a:lnTo>
                <a:lnTo>
                  <a:pt x="882" y="731"/>
                </a:lnTo>
                <a:lnTo>
                  <a:pt x="896" y="781"/>
                </a:lnTo>
                <a:lnTo>
                  <a:pt x="903" y="824"/>
                </a:lnTo>
                <a:lnTo>
                  <a:pt x="910" y="859"/>
                </a:lnTo>
                <a:lnTo>
                  <a:pt x="918" y="902"/>
                </a:lnTo>
                <a:lnTo>
                  <a:pt x="925" y="937"/>
                </a:lnTo>
                <a:lnTo>
                  <a:pt x="932" y="973"/>
                </a:lnTo>
                <a:lnTo>
                  <a:pt x="946" y="1001"/>
                </a:lnTo>
                <a:lnTo>
                  <a:pt x="946" y="1036"/>
                </a:lnTo>
                <a:lnTo>
                  <a:pt x="953" y="1065"/>
                </a:lnTo>
                <a:lnTo>
                  <a:pt x="967" y="1107"/>
                </a:lnTo>
                <a:lnTo>
                  <a:pt x="974" y="1143"/>
                </a:lnTo>
                <a:lnTo>
                  <a:pt x="982" y="1186"/>
                </a:lnTo>
                <a:lnTo>
                  <a:pt x="989" y="1228"/>
                </a:lnTo>
                <a:lnTo>
                  <a:pt x="996" y="1264"/>
                </a:lnTo>
                <a:lnTo>
                  <a:pt x="1003" y="1299"/>
                </a:lnTo>
                <a:lnTo>
                  <a:pt x="1010" y="1335"/>
                </a:lnTo>
                <a:lnTo>
                  <a:pt x="1017" y="1363"/>
                </a:lnTo>
                <a:lnTo>
                  <a:pt x="1031" y="1391"/>
                </a:lnTo>
                <a:lnTo>
                  <a:pt x="1038" y="1413"/>
                </a:lnTo>
                <a:lnTo>
                  <a:pt x="1038" y="1434"/>
                </a:lnTo>
                <a:lnTo>
                  <a:pt x="1053" y="1462"/>
                </a:lnTo>
                <a:lnTo>
                  <a:pt x="1060" y="1484"/>
                </a:lnTo>
                <a:lnTo>
                  <a:pt x="1067" y="1512"/>
                </a:lnTo>
                <a:lnTo>
                  <a:pt x="1074" y="1547"/>
                </a:lnTo>
                <a:lnTo>
                  <a:pt x="1081" y="1583"/>
                </a:lnTo>
                <a:lnTo>
                  <a:pt x="1088" y="1633"/>
                </a:lnTo>
                <a:lnTo>
                  <a:pt x="1095" y="1689"/>
                </a:lnTo>
                <a:lnTo>
                  <a:pt x="1103" y="1753"/>
                </a:lnTo>
                <a:lnTo>
                  <a:pt x="1117" y="1824"/>
                </a:lnTo>
                <a:lnTo>
                  <a:pt x="1124" y="1895"/>
                </a:lnTo>
                <a:lnTo>
                  <a:pt x="1124" y="1959"/>
                </a:lnTo>
                <a:lnTo>
                  <a:pt x="1138" y="2030"/>
                </a:lnTo>
                <a:lnTo>
                  <a:pt x="1145" y="2094"/>
                </a:lnTo>
                <a:lnTo>
                  <a:pt x="1152" y="2144"/>
                </a:lnTo>
                <a:lnTo>
                  <a:pt x="1159" y="2193"/>
                </a:lnTo>
                <a:lnTo>
                  <a:pt x="1167" y="2236"/>
                </a:lnTo>
                <a:lnTo>
                  <a:pt x="1174" y="2271"/>
                </a:lnTo>
                <a:lnTo>
                  <a:pt x="1188" y="2300"/>
                </a:lnTo>
                <a:lnTo>
                  <a:pt x="1188" y="2314"/>
                </a:lnTo>
                <a:lnTo>
                  <a:pt x="1202" y="2335"/>
                </a:lnTo>
                <a:lnTo>
                  <a:pt x="1209" y="2342"/>
                </a:lnTo>
                <a:lnTo>
                  <a:pt x="1216" y="2349"/>
                </a:lnTo>
                <a:lnTo>
                  <a:pt x="1223" y="2364"/>
                </a:lnTo>
                <a:lnTo>
                  <a:pt x="1231" y="2364"/>
                </a:lnTo>
                <a:lnTo>
                  <a:pt x="1238" y="2371"/>
                </a:lnTo>
                <a:lnTo>
                  <a:pt x="1252" y="2378"/>
                </a:lnTo>
                <a:lnTo>
                  <a:pt x="1252" y="2378"/>
                </a:lnTo>
                <a:lnTo>
                  <a:pt x="1259" y="2385"/>
                </a:lnTo>
                <a:lnTo>
                  <a:pt x="1273" y="2392"/>
                </a:lnTo>
                <a:lnTo>
                  <a:pt x="1280" y="2392"/>
                </a:lnTo>
                <a:lnTo>
                  <a:pt x="1287" y="2399"/>
                </a:lnTo>
                <a:lnTo>
                  <a:pt x="1295" y="2406"/>
                </a:lnTo>
                <a:lnTo>
                  <a:pt x="1302" y="2413"/>
                </a:lnTo>
                <a:lnTo>
                  <a:pt x="1309" y="2413"/>
                </a:lnTo>
                <a:lnTo>
                  <a:pt x="1316" y="2413"/>
                </a:lnTo>
                <a:lnTo>
                  <a:pt x="1323" y="2420"/>
                </a:lnTo>
                <a:lnTo>
                  <a:pt x="1337" y="2427"/>
                </a:lnTo>
                <a:lnTo>
                  <a:pt x="1344" y="2427"/>
                </a:lnTo>
                <a:lnTo>
                  <a:pt x="1351" y="2427"/>
                </a:lnTo>
                <a:lnTo>
                  <a:pt x="1359" y="2427"/>
                </a:lnTo>
                <a:lnTo>
                  <a:pt x="1366" y="2427"/>
                </a:lnTo>
                <a:lnTo>
                  <a:pt x="1373" y="2427"/>
                </a:lnTo>
                <a:lnTo>
                  <a:pt x="1380" y="2435"/>
                </a:lnTo>
                <a:lnTo>
                  <a:pt x="1387" y="2435"/>
                </a:lnTo>
                <a:lnTo>
                  <a:pt x="1394" y="2435"/>
                </a:lnTo>
                <a:lnTo>
                  <a:pt x="1408" y="2435"/>
                </a:lnTo>
                <a:lnTo>
                  <a:pt x="1408" y="2435"/>
                </a:lnTo>
                <a:lnTo>
                  <a:pt x="1423" y="2435"/>
                </a:lnTo>
                <a:lnTo>
                  <a:pt x="1430" y="2435"/>
                </a:lnTo>
                <a:lnTo>
                  <a:pt x="1437" y="2435"/>
                </a:lnTo>
                <a:lnTo>
                  <a:pt x="1444" y="2435"/>
                </a:lnTo>
                <a:lnTo>
                  <a:pt x="1451" y="2442"/>
                </a:lnTo>
                <a:lnTo>
                  <a:pt x="1458" y="2442"/>
                </a:lnTo>
                <a:lnTo>
                  <a:pt x="1472" y="2442"/>
                </a:lnTo>
                <a:lnTo>
                  <a:pt x="1472" y="2442"/>
                </a:lnTo>
                <a:lnTo>
                  <a:pt x="1487" y="2442"/>
                </a:lnTo>
                <a:lnTo>
                  <a:pt x="1494" y="2442"/>
                </a:lnTo>
                <a:lnTo>
                  <a:pt x="1501" y="2442"/>
                </a:lnTo>
                <a:lnTo>
                  <a:pt x="1508" y="2442"/>
                </a:lnTo>
                <a:lnTo>
                  <a:pt x="1515" y="2442"/>
                </a:lnTo>
                <a:lnTo>
                  <a:pt x="1522" y="2442"/>
                </a:lnTo>
                <a:lnTo>
                  <a:pt x="1529" y="2442"/>
                </a:lnTo>
                <a:lnTo>
                  <a:pt x="1536" y="2442"/>
                </a:lnTo>
                <a:lnTo>
                  <a:pt x="1543" y="2442"/>
                </a:lnTo>
                <a:lnTo>
                  <a:pt x="1558" y="2442"/>
                </a:lnTo>
                <a:lnTo>
                  <a:pt x="1565" y="2442"/>
                </a:lnTo>
                <a:lnTo>
                  <a:pt x="1572" y="2442"/>
                </a:lnTo>
                <a:lnTo>
                  <a:pt x="0" y="2442"/>
                </a:lnTo>
                <a:lnTo>
                  <a:pt x="0" y="2442"/>
                </a:lnTo>
                <a:close/>
              </a:path>
            </a:pathLst>
          </a:custGeom>
          <a:solidFill>
            <a:srgbClr val="fafd00"/>
          </a:solidFill>
          <a:ln w="33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744480" y="4680000"/>
            <a:ext cx="46080" cy="331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25560" y="4545000"/>
            <a:ext cx="169920" cy="1681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1060200" y="4376880"/>
            <a:ext cx="339480" cy="3362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85840" y="4195800"/>
            <a:ext cx="519120" cy="517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1298160" y="4014720"/>
            <a:ext cx="722520" cy="6984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455840" y="3857760"/>
            <a:ext cx="858600" cy="868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1682640" y="3777840"/>
            <a:ext cx="936720" cy="9478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98720" y="3790800"/>
            <a:ext cx="936720" cy="9352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2325600" y="3813120"/>
            <a:ext cx="914400" cy="9129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641680" y="3813120"/>
            <a:ext cx="903240" cy="9129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2946240" y="3823920"/>
            <a:ext cx="903600" cy="9018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97240" y="3857760"/>
            <a:ext cx="857160" cy="86832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3769920" y="4026960"/>
            <a:ext cx="700200" cy="6987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48160" y="4398840"/>
            <a:ext cx="326880" cy="3272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4854600" y="4500720"/>
            <a:ext cx="225360" cy="2253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05240" y="4533840"/>
            <a:ext cx="179640" cy="1922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5543280" y="4578480"/>
            <a:ext cx="158760" cy="1476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4613400"/>
            <a:ext cx="114120" cy="1126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6243480" y="4657680"/>
            <a:ext cx="68400" cy="684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59560" y="4668840"/>
            <a:ext cx="57240" cy="572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 flipV="1">
            <a:off x="6875280" y="4680000"/>
            <a:ext cx="45720" cy="4608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03960" y="4702320"/>
            <a:ext cx="33480" cy="237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 flipV="1">
            <a:off x="7530840" y="4713120"/>
            <a:ext cx="11160" cy="1296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835760" y="4726080"/>
            <a:ext cx="11160" cy="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151840" y="4726080"/>
            <a:ext cx="1440" cy="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456760" y="4726080"/>
            <a:ext cx="1440" cy="144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42960" y="3778200"/>
            <a:ext cx="8050320" cy="947880"/>
          </a:xfrm>
          <a:custGeom>
            <a:avLst/>
            <a:gdLst/>
            <a:ahLst/>
            <a:rect l="l" t="t" r="r" b="b"/>
            <a:pathLst>
              <a:path w="5071" h="597">
                <a:moveTo>
                  <a:pt x="0" y="589"/>
                </a:moveTo>
                <a:lnTo>
                  <a:pt x="29" y="575"/>
                </a:lnTo>
                <a:lnTo>
                  <a:pt x="64" y="561"/>
                </a:lnTo>
                <a:lnTo>
                  <a:pt x="100" y="547"/>
                </a:lnTo>
                <a:lnTo>
                  <a:pt x="128" y="526"/>
                </a:lnTo>
                <a:lnTo>
                  <a:pt x="164" y="497"/>
                </a:lnTo>
                <a:lnTo>
                  <a:pt x="199" y="462"/>
                </a:lnTo>
                <a:lnTo>
                  <a:pt x="228" y="419"/>
                </a:lnTo>
                <a:lnTo>
                  <a:pt x="263" y="369"/>
                </a:lnTo>
                <a:lnTo>
                  <a:pt x="299" y="320"/>
                </a:lnTo>
                <a:lnTo>
                  <a:pt x="327" y="270"/>
                </a:lnTo>
                <a:lnTo>
                  <a:pt x="363" y="220"/>
                </a:lnTo>
                <a:lnTo>
                  <a:pt x="398" y="171"/>
                </a:lnTo>
                <a:lnTo>
                  <a:pt x="427" y="128"/>
                </a:lnTo>
                <a:lnTo>
                  <a:pt x="462" y="93"/>
                </a:lnTo>
                <a:lnTo>
                  <a:pt x="498" y="64"/>
                </a:lnTo>
                <a:lnTo>
                  <a:pt x="526" y="43"/>
                </a:lnTo>
                <a:lnTo>
                  <a:pt x="562" y="22"/>
                </a:lnTo>
                <a:lnTo>
                  <a:pt x="598" y="15"/>
                </a:lnTo>
                <a:lnTo>
                  <a:pt x="633" y="8"/>
                </a:lnTo>
                <a:lnTo>
                  <a:pt x="662" y="0"/>
                </a:lnTo>
                <a:lnTo>
                  <a:pt x="697" y="0"/>
                </a:lnTo>
                <a:lnTo>
                  <a:pt x="733" y="0"/>
                </a:lnTo>
                <a:lnTo>
                  <a:pt x="761" y="0"/>
                </a:lnTo>
                <a:lnTo>
                  <a:pt x="790" y="0"/>
                </a:lnTo>
                <a:lnTo>
                  <a:pt x="825" y="0"/>
                </a:lnTo>
                <a:lnTo>
                  <a:pt x="861" y="8"/>
                </a:lnTo>
                <a:lnTo>
                  <a:pt x="889" y="8"/>
                </a:lnTo>
                <a:lnTo>
                  <a:pt x="925" y="15"/>
                </a:lnTo>
                <a:lnTo>
                  <a:pt x="960" y="15"/>
                </a:lnTo>
                <a:lnTo>
                  <a:pt x="996" y="15"/>
                </a:lnTo>
                <a:lnTo>
                  <a:pt x="1024" y="15"/>
                </a:lnTo>
                <a:lnTo>
                  <a:pt x="1060" y="22"/>
                </a:lnTo>
                <a:lnTo>
                  <a:pt x="1095" y="22"/>
                </a:lnTo>
                <a:lnTo>
                  <a:pt x="1124" y="22"/>
                </a:lnTo>
                <a:lnTo>
                  <a:pt x="1160" y="22"/>
                </a:lnTo>
                <a:lnTo>
                  <a:pt x="1195" y="22"/>
                </a:lnTo>
                <a:lnTo>
                  <a:pt x="1224" y="22"/>
                </a:lnTo>
                <a:lnTo>
                  <a:pt x="1259" y="22"/>
                </a:lnTo>
                <a:lnTo>
                  <a:pt x="1295" y="22"/>
                </a:lnTo>
                <a:lnTo>
                  <a:pt x="1323" y="22"/>
                </a:lnTo>
                <a:lnTo>
                  <a:pt x="1359" y="22"/>
                </a:lnTo>
                <a:lnTo>
                  <a:pt x="1394" y="22"/>
                </a:lnTo>
                <a:lnTo>
                  <a:pt x="1423" y="22"/>
                </a:lnTo>
                <a:lnTo>
                  <a:pt x="1458" y="29"/>
                </a:lnTo>
                <a:lnTo>
                  <a:pt x="1494" y="29"/>
                </a:lnTo>
                <a:lnTo>
                  <a:pt x="1522" y="36"/>
                </a:lnTo>
                <a:lnTo>
                  <a:pt x="1558" y="36"/>
                </a:lnTo>
                <a:lnTo>
                  <a:pt x="1586" y="43"/>
                </a:lnTo>
                <a:lnTo>
                  <a:pt x="1622" y="43"/>
                </a:lnTo>
                <a:lnTo>
                  <a:pt x="1657" y="50"/>
                </a:lnTo>
                <a:lnTo>
                  <a:pt x="1686" y="57"/>
                </a:lnTo>
                <a:lnTo>
                  <a:pt x="1721" y="64"/>
                </a:lnTo>
                <a:lnTo>
                  <a:pt x="1757" y="71"/>
                </a:lnTo>
                <a:lnTo>
                  <a:pt x="1785" y="86"/>
                </a:lnTo>
                <a:lnTo>
                  <a:pt x="1821" y="93"/>
                </a:lnTo>
                <a:lnTo>
                  <a:pt x="1857" y="107"/>
                </a:lnTo>
                <a:lnTo>
                  <a:pt x="1885" y="121"/>
                </a:lnTo>
                <a:lnTo>
                  <a:pt x="1921" y="135"/>
                </a:lnTo>
                <a:lnTo>
                  <a:pt x="1956" y="149"/>
                </a:lnTo>
                <a:lnTo>
                  <a:pt x="1985" y="164"/>
                </a:lnTo>
                <a:lnTo>
                  <a:pt x="2020" y="185"/>
                </a:lnTo>
                <a:lnTo>
                  <a:pt x="2056" y="199"/>
                </a:lnTo>
                <a:lnTo>
                  <a:pt x="2084" y="220"/>
                </a:lnTo>
                <a:lnTo>
                  <a:pt x="2120" y="242"/>
                </a:lnTo>
                <a:lnTo>
                  <a:pt x="2155" y="256"/>
                </a:lnTo>
                <a:lnTo>
                  <a:pt x="2191" y="277"/>
                </a:lnTo>
                <a:lnTo>
                  <a:pt x="2219" y="298"/>
                </a:lnTo>
                <a:lnTo>
                  <a:pt x="2255" y="320"/>
                </a:lnTo>
                <a:lnTo>
                  <a:pt x="2290" y="334"/>
                </a:lnTo>
                <a:lnTo>
                  <a:pt x="2319" y="355"/>
                </a:lnTo>
                <a:lnTo>
                  <a:pt x="2347" y="369"/>
                </a:lnTo>
                <a:lnTo>
                  <a:pt x="2390" y="384"/>
                </a:lnTo>
                <a:lnTo>
                  <a:pt x="2418" y="398"/>
                </a:lnTo>
                <a:lnTo>
                  <a:pt x="2447" y="412"/>
                </a:lnTo>
                <a:lnTo>
                  <a:pt x="2482" y="419"/>
                </a:lnTo>
                <a:lnTo>
                  <a:pt x="2518" y="426"/>
                </a:lnTo>
                <a:lnTo>
                  <a:pt x="2546" y="440"/>
                </a:lnTo>
                <a:lnTo>
                  <a:pt x="2582" y="440"/>
                </a:lnTo>
                <a:lnTo>
                  <a:pt x="2618" y="448"/>
                </a:lnTo>
                <a:lnTo>
                  <a:pt x="2653" y="455"/>
                </a:lnTo>
                <a:lnTo>
                  <a:pt x="2682" y="455"/>
                </a:lnTo>
                <a:lnTo>
                  <a:pt x="2717" y="462"/>
                </a:lnTo>
                <a:lnTo>
                  <a:pt x="2753" y="469"/>
                </a:lnTo>
                <a:lnTo>
                  <a:pt x="2781" y="469"/>
                </a:lnTo>
                <a:lnTo>
                  <a:pt x="2817" y="476"/>
                </a:lnTo>
                <a:lnTo>
                  <a:pt x="2852" y="476"/>
                </a:lnTo>
                <a:lnTo>
                  <a:pt x="2881" y="483"/>
                </a:lnTo>
                <a:lnTo>
                  <a:pt x="2916" y="483"/>
                </a:lnTo>
                <a:lnTo>
                  <a:pt x="2952" y="490"/>
                </a:lnTo>
                <a:lnTo>
                  <a:pt x="2980" y="490"/>
                </a:lnTo>
                <a:lnTo>
                  <a:pt x="3016" y="490"/>
                </a:lnTo>
                <a:lnTo>
                  <a:pt x="3051" y="497"/>
                </a:lnTo>
                <a:lnTo>
                  <a:pt x="3080" y="504"/>
                </a:lnTo>
                <a:lnTo>
                  <a:pt x="3115" y="504"/>
                </a:lnTo>
                <a:lnTo>
                  <a:pt x="3144" y="504"/>
                </a:lnTo>
                <a:lnTo>
                  <a:pt x="3179" y="511"/>
                </a:lnTo>
                <a:lnTo>
                  <a:pt x="3215" y="511"/>
                </a:lnTo>
                <a:lnTo>
                  <a:pt x="3243" y="518"/>
                </a:lnTo>
                <a:lnTo>
                  <a:pt x="3279" y="526"/>
                </a:lnTo>
                <a:lnTo>
                  <a:pt x="3315" y="526"/>
                </a:lnTo>
                <a:lnTo>
                  <a:pt x="3343" y="533"/>
                </a:lnTo>
                <a:lnTo>
                  <a:pt x="3379" y="540"/>
                </a:lnTo>
                <a:lnTo>
                  <a:pt x="3414" y="540"/>
                </a:lnTo>
                <a:lnTo>
                  <a:pt x="3443" y="540"/>
                </a:lnTo>
                <a:lnTo>
                  <a:pt x="3478" y="547"/>
                </a:lnTo>
                <a:lnTo>
                  <a:pt x="3514" y="554"/>
                </a:lnTo>
                <a:lnTo>
                  <a:pt x="3542" y="554"/>
                </a:lnTo>
                <a:lnTo>
                  <a:pt x="3578" y="554"/>
                </a:lnTo>
                <a:lnTo>
                  <a:pt x="3613" y="554"/>
                </a:lnTo>
                <a:lnTo>
                  <a:pt x="3642" y="561"/>
                </a:lnTo>
                <a:lnTo>
                  <a:pt x="3677" y="561"/>
                </a:lnTo>
                <a:lnTo>
                  <a:pt x="3713" y="561"/>
                </a:lnTo>
                <a:lnTo>
                  <a:pt x="3741" y="561"/>
                </a:lnTo>
                <a:lnTo>
                  <a:pt x="3777" y="561"/>
                </a:lnTo>
                <a:lnTo>
                  <a:pt x="3812" y="561"/>
                </a:lnTo>
                <a:lnTo>
                  <a:pt x="3848" y="561"/>
                </a:lnTo>
                <a:lnTo>
                  <a:pt x="3876" y="568"/>
                </a:lnTo>
                <a:lnTo>
                  <a:pt x="3905" y="568"/>
                </a:lnTo>
                <a:lnTo>
                  <a:pt x="3948" y="568"/>
                </a:lnTo>
                <a:lnTo>
                  <a:pt x="3976" y="575"/>
                </a:lnTo>
                <a:lnTo>
                  <a:pt x="4005" y="575"/>
                </a:lnTo>
                <a:lnTo>
                  <a:pt x="4040" y="575"/>
                </a:lnTo>
                <a:lnTo>
                  <a:pt x="4076" y="575"/>
                </a:lnTo>
                <a:lnTo>
                  <a:pt x="4104" y="582"/>
                </a:lnTo>
                <a:lnTo>
                  <a:pt x="4140" y="582"/>
                </a:lnTo>
                <a:lnTo>
                  <a:pt x="4175" y="582"/>
                </a:lnTo>
                <a:lnTo>
                  <a:pt x="4211" y="589"/>
                </a:lnTo>
                <a:lnTo>
                  <a:pt x="4239" y="589"/>
                </a:lnTo>
                <a:lnTo>
                  <a:pt x="4275" y="589"/>
                </a:lnTo>
                <a:lnTo>
                  <a:pt x="4310" y="589"/>
                </a:lnTo>
                <a:lnTo>
                  <a:pt x="4339" y="589"/>
                </a:lnTo>
                <a:lnTo>
                  <a:pt x="4374" y="597"/>
                </a:lnTo>
                <a:lnTo>
                  <a:pt x="4410" y="597"/>
                </a:lnTo>
                <a:lnTo>
                  <a:pt x="4438" y="597"/>
                </a:lnTo>
                <a:lnTo>
                  <a:pt x="4474" y="597"/>
                </a:lnTo>
                <a:lnTo>
                  <a:pt x="4509" y="597"/>
                </a:lnTo>
                <a:lnTo>
                  <a:pt x="4538" y="597"/>
                </a:lnTo>
                <a:lnTo>
                  <a:pt x="4574" y="597"/>
                </a:lnTo>
                <a:lnTo>
                  <a:pt x="4609" y="597"/>
                </a:lnTo>
                <a:lnTo>
                  <a:pt x="4638" y="597"/>
                </a:lnTo>
                <a:lnTo>
                  <a:pt x="4673" y="597"/>
                </a:lnTo>
                <a:lnTo>
                  <a:pt x="4702" y="597"/>
                </a:lnTo>
                <a:lnTo>
                  <a:pt x="4737" y="597"/>
                </a:lnTo>
                <a:lnTo>
                  <a:pt x="4773" y="597"/>
                </a:lnTo>
                <a:lnTo>
                  <a:pt x="4801" y="597"/>
                </a:lnTo>
                <a:lnTo>
                  <a:pt x="4837" y="597"/>
                </a:lnTo>
                <a:lnTo>
                  <a:pt x="4872" y="597"/>
                </a:lnTo>
                <a:lnTo>
                  <a:pt x="4901" y="597"/>
                </a:lnTo>
                <a:lnTo>
                  <a:pt x="4936" y="597"/>
                </a:lnTo>
                <a:lnTo>
                  <a:pt x="4972" y="597"/>
                </a:lnTo>
                <a:lnTo>
                  <a:pt x="5000" y="597"/>
                </a:lnTo>
                <a:lnTo>
                  <a:pt x="5036" y="597"/>
                </a:lnTo>
                <a:lnTo>
                  <a:pt x="5071" y="597"/>
                </a:lnTo>
              </a:path>
            </a:pathLst>
          </a:custGeom>
          <a:noFill/>
          <a:ln w="3348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313760" y="4800600"/>
            <a:ext cx="1440" cy="79200"/>
          </a:xfrm>
          <a:prstGeom prst="line">
            <a:avLst/>
          </a:prstGeom>
          <a:ln w="3348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18:09Z</dcterms:created>
  <dc:creator>DPIE User</dc:creator>
  <dc:description/>
  <cp:keywords/>
  <dc:language>en-US</dc:language>
  <cp:lastModifiedBy>spc</cp:lastModifiedBy>
  <cp:lastPrinted>1999-10-31T23:59:35Z</cp:lastPrinted>
  <dcterms:modified xsi:type="dcterms:W3CDTF">2005-08-17T02:34:54Z</dcterms:modified>
  <cp:revision>321</cp:revision>
  <dc:subject/>
  <dc:title>Swordfish</dc:title>
</cp:coreProperties>
</file>